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0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5AFA0F-A8CE-43DC-B089-1D7C4D641D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94BC74-8D60-4CE7-83EE-5C621E8D6D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S Gothic"/>
              </a:rPr>
              <a:t>megalife.com.u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MS Gothic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S Gothic"/>
              </a:rPr>
              <a:t>http://www.pravostok.ru/upload/information_system_1/3/0/2/item_3022/information_items_3022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7BC84E-82E2-464D-8D04-420D62473B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B93C25-0AA2-497F-AEA0-B3F6022307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586522-737B-4CB5-BDD4-1009B63C71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5EDE35-B074-4721-9852-1A69DAD1BA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F37E03-3541-4E8C-8AC9-71645FC4E9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S Gothic"/>
              </a:rPr>
              <a:t>http://www.livejournal.ru/static/files/photos/zoom/788_100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97D5AD-96A2-4376-B504-EAA748CDCF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FB75E2-F68F-4B12-968C-C76D66904F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406A6E-0CDF-4937-8834-BC155B528A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MS Gothic"/>
              </a:rPr>
              <a:t>Французский художник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S Gothic"/>
              </a:rPr>
              <a:t>Emile Munie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MS Gothic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B557E3-961A-4479-984A-204C2492A4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906741-FCF6-4557-B97D-73E8B6351C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24258D-DAC9-466F-BCE3-E82148ACD6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A19255-F708-4F2A-AF9C-9D85754F7D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6795BF-E260-4227-A6BB-E308B94A18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CDC46A5-E6D7-4334-9755-195289FE6E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MS Gothic"/>
              </a:rPr>
              <a:t>Христос и богатый юнош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F39B9A-45D0-4768-8266-31DA3C3D58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999F32-E5E9-4F10-AE91-6DE8955B32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MS Gothic"/>
              </a:rPr>
              <a:t>Милосердный самаритян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07BC15-ABEF-478C-937E-59D10A37E1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52E51-364A-4B94-BC03-0A6CB42FE5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881F7-9F03-483A-A898-8FCD86BE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9344B-3E44-4951-9F22-FA4CD917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5A27E-4481-42F5-A117-56A36D0D23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4D954-A544-47B3-8332-2328D56A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C4F4B-88E3-4E65-8725-FD0393BD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D7451-4B1E-44A4-81FF-6103F7A6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F96C2-4ED6-4E72-8C5D-F590F45AE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95FBE-4F54-4F06-9EF0-7A8A02F02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63FC1-A5C3-4720-B4C2-38C43235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E6825-7FA0-4A3B-9597-68B5C54E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AA294-D432-40F6-9EC4-4B882F31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89FF1C-2370-45AB-A627-C2A847E0A5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771480" y="476280"/>
            <a:ext cx="7602480" cy="1712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3"/>
          <a:stretch/>
        </p:blipFill>
        <p:spPr>
          <a:xfrm>
            <a:off x="539640" y="5578560"/>
            <a:ext cx="1152720" cy="785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"/>
          <p:cNvSpPr/>
          <p:nvPr/>
        </p:nvSpPr>
        <p:spPr>
          <a:xfrm>
            <a:off x="611280" y="354960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МИЛОСЕРДИ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4737240" y="2125800"/>
            <a:ext cx="314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ЛОРАДСТВО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5796000" y="1268280"/>
            <a:ext cx="33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СТРАДАНИ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815160" y="3860640"/>
            <a:ext cx="23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ЖАЛОСТ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753240" y="4968720"/>
            <a:ext cx="23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ЮБОВ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2192400" y="298440"/>
            <a:ext cx="28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ЛАГОСТ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1039680" y="4683240"/>
            <a:ext cx="266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ЩЕНИ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504720" y="5562720"/>
            <a:ext cx="24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МОЩ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6311880" y="271440"/>
            <a:ext cx="243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ДОСТ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2282760" y="2744640"/>
            <a:ext cx="23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ВЕРИ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2762280" y="1125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ЕСКОРЫСТИ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2543040" y="1832040"/>
            <a:ext cx="16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СТ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4859280" y="344160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ИД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6105600" y="5877000"/>
            <a:ext cx="27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ЖАДНОСТ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4043520" y="4390920"/>
            <a:ext cx="333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ВНОДУШИ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6858000" y="2754360"/>
            <a:ext cx="25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ЧАСТИ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3892680" y="5146560"/>
            <a:ext cx="247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БРОТ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2925720" y="5884920"/>
            <a:ext cx="229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ЧАСТЬ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randomBar dir="vert"/>
  </p:transition>
  <p:timing>
    <p:tnLst>
      <p:par>
        <p:cTn id="42" dur="indefinite" restart="never" nodeType="tmRoot">
          <p:childTnLst>
            <p:par>
              <p:cTn id="43" nodeType="interactiveSeq" fill="hold">
                <p:childTnLst>
                  <p:par>
                    <p:cTn id="44" fill="hold"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49" nodeType="interactiveSeq" fill="hold">
                <p:childTnLst>
                  <p:par>
                    <p:cTn id="50" fill="hold"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55" nodeType="interactiveSeq" fill="hold">
                <p:childTnLst>
                  <p:par>
                    <p:cTn id="56" fill="hold"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61" nodeType="interactiveSeq" fill="hold">
                <p:childTnLst>
                  <p:par>
                    <p:cTn id="62" fill="hold"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67" nodeType="interactiveSeq" fill="hold">
                <p:childTnLst>
                  <p:par>
                    <p:cTn id="68" fill="hold"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73" nodeType="interactiveSeq" fill="hold">
                <p:childTnLst>
                  <p:par>
                    <p:cTn id="74" fill="hold"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82" nodeType="interactiveSeq" fill="hold">
                <p:childTnLst>
                  <p:par>
                    <p:cTn id="83" fill="hold"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91" nodeType="interactiveSeq" fill="hold">
                <p:childTnLst>
                  <p:par>
                    <p:cTn id="92" fill="hold"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00" nodeType="interactiveSeq" fill="hold">
                <p:childTnLst>
                  <p:par>
                    <p:cTn id="101" fill="hold"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0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09" nodeType="interactiveSeq" fill="hold">
                <p:childTnLst>
                  <p:par>
                    <p:cTn id="110" fill="hold"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1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18" nodeType="interactiveSeq" fill="hold">
                <p:childTnLst>
                  <p:par>
                    <p:cTn id="119" fill="hold"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27" nodeType="interactiveSeq" fill="hold">
                <p:childTnLst>
                  <p:par>
                    <p:cTn id="128" fill="hold"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36" nodeType="interactiveSeq" fill="hold">
                <p:childTnLst>
                  <p:par>
                    <p:cTn id="137" fill="hold"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45" nodeType="interactiveSeq" fill="hold">
                <p:childTnLst>
                  <p:par>
                    <p:cTn id="146" fill="hold"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54" nodeType="interactiveSeq" fill="hold">
                <p:childTnLst>
                  <p:par>
                    <p:cTn id="155" fill="hold"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63" nodeType="interactiveSeq" fill="hold">
                <p:childTnLst>
                  <p:par>
                    <p:cTn id="164" fill="hold"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72" nodeType="interactiveSeq" fill="hold">
                <p:childTnLst>
                  <p:par>
                    <p:cTn id="173" fill="hold"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755640" y="0"/>
            <a:ext cx="7632720" cy="6885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 rot="4260000">
            <a:off x="2672640" y="117936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ЛАГОСТ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Text Box 4"/>
          <p:cNvSpPr/>
          <p:nvPr/>
        </p:nvSpPr>
        <p:spPr>
          <a:xfrm rot="4440000">
            <a:off x="4146480" y="5124600"/>
            <a:ext cx="25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СТРАДАНИ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Text Box 5"/>
          <p:cNvSpPr/>
          <p:nvPr/>
        </p:nvSpPr>
        <p:spPr>
          <a:xfrm rot="2520000">
            <a:off x="5258880" y="444312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ЖАЛОСТ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Text Box 6"/>
          <p:cNvSpPr/>
          <p:nvPr/>
        </p:nvSpPr>
        <p:spPr>
          <a:xfrm rot="17460000">
            <a:off x="3318120" y="5187960"/>
            <a:ext cx="189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ЮБОВ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Text Box 7"/>
          <p:cNvSpPr/>
          <p:nvPr/>
        </p:nvSpPr>
        <p:spPr>
          <a:xfrm rot="20040000">
            <a:off x="1511280" y="3933360"/>
            <a:ext cx="23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ЩЕНИ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Text Box 8"/>
          <p:cNvSpPr/>
          <p:nvPr/>
        </p:nvSpPr>
        <p:spPr>
          <a:xfrm rot="2520000">
            <a:off x="1860480" y="1773000"/>
            <a:ext cx="203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МОЩ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Text Box 9"/>
          <p:cNvSpPr/>
          <p:nvPr/>
        </p:nvSpPr>
        <p:spPr>
          <a:xfrm rot="19140000">
            <a:off x="4951440" y="1446120"/>
            <a:ext cx="18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ДОСТ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Text Box 10"/>
          <p:cNvSpPr/>
          <p:nvPr/>
        </p:nvSpPr>
        <p:spPr>
          <a:xfrm rot="720000">
            <a:off x="1588680" y="2949480"/>
            <a:ext cx="195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ВЕРИ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Text Box 11"/>
          <p:cNvSpPr/>
          <p:nvPr/>
        </p:nvSpPr>
        <p:spPr>
          <a:xfrm rot="19140000">
            <a:off x="2153880" y="4697280"/>
            <a:ext cx="241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ЕСКОРЫСТИ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Text Box 12"/>
          <p:cNvSpPr/>
          <p:nvPr/>
        </p:nvSpPr>
        <p:spPr>
          <a:xfrm rot="1200000">
            <a:off x="5849640" y="343008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ЧАСТИ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Text Box 13"/>
          <p:cNvSpPr/>
          <p:nvPr/>
        </p:nvSpPr>
        <p:spPr>
          <a:xfrm rot="20460000">
            <a:off x="5732280" y="2265120"/>
            <a:ext cx="198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БРОТ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Text Box 14"/>
          <p:cNvSpPr/>
          <p:nvPr/>
        </p:nvSpPr>
        <p:spPr>
          <a:xfrm rot="17040000">
            <a:off x="3889440" y="1118880"/>
            <a:ext cx="18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ЧАСТЬ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Picture 15" descr=""/>
          <p:cNvPicPr/>
          <p:nvPr/>
        </p:nvPicPr>
        <p:blipFill>
          <a:blip r:embed="rId3"/>
          <a:stretch/>
        </p:blipFill>
        <p:spPr>
          <a:xfrm>
            <a:off x="3645000" y="2522520"/>
            <a:ext cx="1852560" cy="1811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"/>
          <p:cNvPicPr/>
          <p:nvPr/>
        </p:nvPicPr>
        <p:blipFill>
          <a:blip r:embed="rId4"/>
          <a:stretch/>
        </p:blipFill>
        <p:spPr>
          <a:xfrm>
            <a:off x="36360" y="0"/>
            <a:ext cx="2936880" cy="2130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"/>
          <p:cNvPicPr/>
          <p:nvPr/>
        </p:nvPicPr>
        <p:blipFill>
          <a:blip r:embed="rId5"/>
          <a:stretch/>
        </p:blipFill>
        <p:spPr>
          <a:xfrm>
            <a:off x="5867280" y="3917880"/>
            <a:ext cx="3038760" cy="2940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4857840" y="1643040"/>
            <a:ext cx="3886200" cy="33577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"/>
          <p:cNvSpPr/>
          <p:nvPr/>
        </p:nvSpPr>
        <p:spPr>
          <a:xfrm>
            <a:off x="285840" y="384480"/>
            <a:ext cx="47862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Будьте внимательными, вдруг кому-то нужна ваша помощь!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ждите, когда вас попросят, а помогите нуждающимся!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"/>
          <p:cNvSpPr/>
          <p:nvPr/>
        </p:nvSpPr>
        <p:spPr>
          <a:xfrm>
            <a:off x="179280" y="171360"/>
            <a:ext cx="568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Calibri"/>
              </a:rPr>
              <a:t>МИЛ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СЕРД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ИЕ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719280" y="1700280"/>
            <a:ext cx="298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Сердце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cc"/>
                </a:solidFill>
                <a:latin typeface="Calibri"/>
              </a:rPr>
              <a:t>милует любит жалеет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"/>
          <p:cNvGrpSpPr/>
          <p:nvPr/>
        </p:nvGrpSpPr>
        <p:grpSpPr>
          <a:xfrm>
            <a:off x="142920" y="285840"/>
            <a:ext cx="8499600" cy="5570280"/>
            <a:chOff x="142920" y="285840"/>
            <a:chExt cx="8499600" cy="5570280"/>
          </a:xfrm>
        </p:grpSpPr>
        <p:sp>
          <p:nvSpPr>
            <p:cNvPr id="56" name="Freeform 2"/>
            <p:cNvSpPr/>
            <p:nvPr/>
          </p:nvSpPr>
          <p:spPr>
            <a:xfrm>
              <a:off x="142920" y="285840"/>
              <a:ext cx="8499600" cy="5570280"/>
            </a:xfrm>
            <a:custGeom>
              <a:avLst/>
              <a:gdLst>
                <a:gd name="textAreaLeft" fmla="*/ 1982520 w 8499600"/>
                <a:gd name="textAreaRight" fmla="*/ 6515640 w 8499600"/>
                <a:gd name="textAreaTop" fmla="*/ 587160 h 5570280"/>
                <a:gd name="textAreaBottom" fmla="*/ 3528000 h 557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Rectangle 3"/>
            <p:cNvSpPr/>
            <p:nvPr/>
          </p:nvSpPr>
          <p:spPr>
            <a:xfrm>
              <a:off x="1213920" y="785520"/>
              <a:ext cx="645984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libri"/>
                </a:rPr>
                <a:t>Милосердие      –      это способность</a:t>
              </a:r>
              <a:endParaRPr b="0" lang="en-US" sz="28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ru-RU" sz="2800" spc="-1" strike="noStrike">
                  <a:solidFill>
                    <a:srgbClr val="ffff00"/>
                  </a:solidFill>
                  <a:latin typeface="Calibri"/>
                </a:rPr>
                <a:t>миловать, любить и жалеть   </a:t>
              </a:r>
              <a:endParaRPr b="0" lang="en-US" sz="28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libri"/>
                </a:rPr>
                <a:t>всем сердцем</a:t>
              </a:r>
              <a:endParaRPr b="0" lang="en-US" sz="2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928520" y="2572200"/>
              <a:ext cx="5070960" cy="176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libri"/>
                </a:rPr>
                <a:t>Сострадание – это способность</a:t>
              </a:r>
              <a:endParaRPr b="0" lang="en-US" sz="28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ru-RU" sz="2800" spc="-1" strike="noStrike">
                  <a:solidFill>
                    <a:srgbClr val="ffff00"/>
                  </a:solidFill>
                  <a:latin typeface="Calibri"/>
                </a:rPr>
                <a:t>переживать  боль другого человека</a:t>
              </a:r>
              <a:r>
                <a:rPr b="1" lang="ru-RU" sz="2800" spc="-1" strike="noStrike">
                  <a:solidFill>
                    <a:srgbClr val="ffff00"/>
                  </a:solidFill>
                  <a:latin typeface="Calibri"/>
                </a:rPr>
                <a:t>,</a:t>
              </a:r>
              <a:endParaRPr b="0" lang="en-US" sz="28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libri"/>
                </a:rPr>
                <a:t>как собственную</a:t>
              </a:r>
              <a:endParaRPr b="0" lang="en-US" sz="2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9" name="Rectangle 5"/>
          <p:cNvSpPr/>
          <p:nvPr/>
        </p:nvSpPr>
        <p:spPr>
          <a:xfrm>
            <a:off x="1785960" y="1428840"/>
            <a:ext cx="5072040" cy="4284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2214720" y="3071880"/>
            <a:ext cx="4857480" cy="4284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2928960" y="3429000"/>
            <a:ext cx="3571920" cy="42876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612720" y="480960"/>
            <a:ext cx="317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МИЛАЯ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20448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"/>
          <p:cNvSpPr/>
          <p:nvPr/>
        </p:nvSpPr>
        <p:spPr>
          <a:xfrm>
            <a:off x="0" y="212760"/>
            <a:ext cx="407196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Милосердие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и сострадани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Притча о добром самарянине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дна из известных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притч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Иисуса Христ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упоминаемая в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Евангелии от Луки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 Она рассказывает о милосердии и бескорыстной помощи попавшему в беду человеку со стороны прохожего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самарянин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— представителя презираемой евреями этнической группы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ему учит нас эта притча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90360" y="162000"/>
            <a:ext cx="8963280" cy="64069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"/>
          <p:cNvSpPr/>
          <p:nvPr/>
        </p:nvSpPr>
        <p:spPr>
          <a:xfrm>
            <a:off x="90360" y="5832360"/>
            <a:ext cx="8963280" cy="76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Люби ближнего как самого себя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307800" y="119160"/>
            <a:ext cx="8528400" cy="58798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307800" y="5229360"/>
            <a:ext cx="8528400" cy="143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Ближний - это тот, кто нуждается в твоей помощи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митрий</dc:creator>
  <dc:description/>
  <dc:language>en-US</dc:language>
  <cp:lastModifiedBy>андрей</cp:lastModifiedBy>
  <dcterms:modified xsi:type="dcterms:W3CDTF">2020-07-10T15:58:14Z</dcterms:modified>
  <cp:revision>150</cp:revision>
  <dc:subject/>
  <dc:title>Презентация PowerPoint</dc:title>
</cp:coreProperties>
</file>