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2D6-D297-463C-B80C-2620DF39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ACE-3382-4D6B-A2AB-6B6BDF6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380-EB63-400D-B55B-7429B60A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469-528D-4A88-8BB3-C441CC4C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CCB-1518-484D-9CA7-D677554B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55A-EC95-4FD9-B813-CC4C64E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ECE-9B5C-4863-A13B-4097284C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597-0F11-4DAB-8A63-50C4F4F9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1A1-B103-4BC5-89D5-9A3ACAA5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1B7-7E34-41B6-99FD-3B9D654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E7B-D194-44B1-905C-A80AE43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933-6E5B-4444-8D45-A17B34CF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D39-A283-4496-9ADB-07B6B7AAA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476360" y="126828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</a:rPr>
              <a:t>ПРИЗЕРЫ КОНКУ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Человек в мире научных и технических достижени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Земные и космические города будущего»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35520" y="587700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зрастная категория 1-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62800" y="623736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зрастная категория 5-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Пк\Desktop\до\cabritos-en-el-podium-de-la-victoria-24734200.jpg"/>
          <p:cNvPicPr/>
          <p:nvPr/>
        </p:nvPicPr>
        <p:blipFill>
          <a:blip r:embed="rId1"/>
          <a:stretch/>
        </p:blipFill>
        <p:spPr>
          <a:xfrm>
            <a:off x="5867280" y="3284640"/>
            <a:ext cx="3025800" cy="3024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755640" y="1700280"/>
            <a:ext cx="765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орпушенков Серг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Вода на Марсе», игра выполненная в сред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R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азарова Алекса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Город будущего», компьютерный рису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Екимова З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Космический город будущего», 3Д 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услов Л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Экспериментальная станция на Марсе», компьютерный рису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079440" y="1890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ПРИЗЕРЫ КОН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Пк\Desktop\роботы\1386847126_1.gif"/>
          <p:cNvPicPr/>
          <p:nvPr/>
        </p:nvPicPr>
        <p:blipFill>
          <a:blip r:embed="rId1"/>
          <a:stretch/>
        </p:blipFill>
        <p:spPr>
          <a:xfrm>
            <a:off x="4788000" y="2276640"/>
            <a:ext cx="4105080" cy="424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116000" y="620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Наука и культура для сохранения мир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611280" y="1844640"/>
            <a:ext cx="66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аршин Алекс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Планетоходы»,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опов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Открытия на Марсе»,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Микенин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Знаменитые люди космоса»,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Аникин Арс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Космический самолет Скайлон, конструктор Т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оробьева Анаста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Умный дом»,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223080" y="26028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ПРИЗЕРЫ КОН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Пк\Desktop\роботы\Robots_3.jpg"/>
          <p:cNvPicPr/>
          <p:nvPr/>
        </p:nvPicPr>
        <p:blipFill>
          <a:blip r:embed="rId1"/>
          <a:stretch/>
        </p:blipFill>
        <p:spPr>
          <a:xfrm rot="20967600">
            <a:off x="221760" y="3875040"/>
            <a:ext cx="233388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3223080" y="1890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ПРИЗЕРЫ КОН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Робототехника и интеллектуальные системы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1280" y="1341360"/>
            <a:ext cx="4897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акулина Ольг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Роботы в медицине»,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Лобанова Екатери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Робототехника в медицине»,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Белуян Давид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Космический самолет», ро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шкин Алексей и Семенов Да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Сортировщик 2006», ро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Александров Дмитрий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Робот-друг», ро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оноплева Анастаси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Своя игра»,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Пк\Desktop\роботы\Robots_3.jpg"/>
          <p:cNvPicPr/>
          <p:nvPr/>
        </p:nvPicPr>
        <p:blipFill>
          <a:blip r:embed="rId2"/>
          <a:stretch/>
        </p:blipFill>
        <p:spPr>
          <a:xfrm>
            <a:off x="7093080" y="1700280"/>
            <a:ext cx="1800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Пк\Desktop\роботы\боты-google.png"/>
          <p:cNvPicPr/>
          <p:nvPr/>
        </p:nvPicPr>
        <p:blipFill>
          <a:blip r:embed="rId1"/>
          <a:stretch/>
        </p:blipFill>
        <p:spPr>
          <a:xfrm>
            <a:off x="7265880" y="2133720"/>
            <a:ext cx="1878120" cy="23079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3511080" y="26028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ПРИЗЕРЫ КОН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684360" y="549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Робототехника и интеллектуальные системы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95280" y="1557360"/>
            <a:ext cx="698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етрова Ксения и Головко Але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Светильник», 3д 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рутикова Екатери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Школьный робот», компьютерный рису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Лукичев Егор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Космическая станция нового поколения», 3д 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алин Давид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Космическая радиоволновая летательная станция КРЛС-1, 3д 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Фесенко Виктори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Робот-кот для борьбы со стрессом», 3д 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итникова Анастаси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Робот интеллектуал», 3д 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Users\Пк\Desktop\роботы\1386847126_1.gif"/>
          <p:cNvPicPr/>
          <p:nvPr/>
        </p:nvPicPr>
        <p:blipFill>
          <a:blip r:embed="rId1"/>
          <a:stretch/>
        </p:blipFill>
        <p:spPr>
          <a:xfrm>
            <a:off x="4535640" y="836640"/>
            <a:ext cx="4608360" cy="56656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3079440" y="1890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ПРИЗЕРЫ КОН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03280" y="765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СВОБОДНОЕ ТВОРЧЕСТ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2421000"/>
            <a:ext cx="7705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валова Соф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т ученый», 3д р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Баура Екатери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абочка на цветочке», 3д р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мельянова Анастас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Вертолет»,3д р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inion Pro Med"/>
              </a:rPr>
              <a:t>Церемония награж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inion Pro Med"/>
              </a:rPr>
              <a:t>победителей и призеров конкурс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inion Pro Med"/>
              </a:rPr>
              <a:t>посвящ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inion Pro Med"/>
              </a:rPr>
              <a:t>«Человек в мире научных и технических достиж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1116000" y="40464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</a:rPr>
              <a:t>ПОБЕДИТЕЛИ КОНКУ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Человек в мире научных и технических достижени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Пк\Desktop\роботы\012841_1417645721-640x628.png"/>
          <p:cNvPicPr/>
          <p:nvPr/>
        </p:nvPicPr>
        <p:blipFill>
          <a:blip r:embed="rId1"/>
          <a:stretch/>
        </p:blipFill>
        <p:spPr>
          <a:xfrm>
            <a:off x="539640" y="4724280"/>
            <a:ext cx="154476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Пк\Desktop\до\cabritos-en-el-podium-de-la-victoria-24734200.jpg"/>
          <p:cNvPicPr/>
          <p:nvPr/>
        </p:nvPicPr>
        <p:blipFill>
          <a:blip r:embed="rId2"/>
          <a:stretch/>
        </p:blipFill>
        <p:spPr>
          <a:xfrm>
            <a:off x="2916360" y="321300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Пк\Desktop\роботы\1386847126_1.gif"/>
          <p:cNvPicPr/>
          <p:nvPr/>
        </p:nvPicPr>
        <p:blipFill>
          <a:blip r:embed="rId3"/>
          <a:stretch/>
        </p:blipFill>
        <p:spPr>
          <a:xfrm>
            <a:off x="7020000" y="4292640"/>
            <a:ext cx="21240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95280" y="292428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икин Арсен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Тоннель в будущее», 3д ру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539640" y="1052640"/>
            <a:ext cx="8209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Земные и космические города будущего»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132000" y="5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БЕ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371040" y="33336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БЕ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468360" y="105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Наука и культура для сохранения будущег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553400" y="2852640"/>
            <a:ext cx="59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ОРЛОВ ВИКТ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терактив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Настоящее или будущее?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415680" y="2602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БЕ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24000" y="76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Наука и культура для сохранения будущег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340640" y="162864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ллективная рабо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«Научны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в 21 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417760" y="3068640"/>
            <a:ext cx="482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Елесев Егор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еляков Артем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Леонова Ел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84680" y="2060640"/>
            <a:ext cx="74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имированная история, выполненная в сред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371040" y="83664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БЕ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395280" y="1341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Робототехника и интеллектуальные системы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355760" y="2924280"/>
            <a:ext cx="67262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ТОРОПОВА  А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Применение роботов в 2019 году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83560" y="69228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БЕ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250920" y="1341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Робототехника и интеллектуаль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854000" y="2781360"/>
            <a:ext cx="581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ФАЛЕВА ПОЛ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«РОБОТ-ШПИОН», 3 д ру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299400" y="76500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БЕ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155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минация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«Свободное творче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618560" y="3284640"/>
            <a:ext cx="62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ЛУЩЕНКОВ БОГ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«Медведь», 3д ру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2T09:57:14Z</dcterms:created>
  <dc:creator>Пк</dc:creator>
  <dc:description/>
  <dc:language>en-US</dc:language>
  <cp:lastModifiedBy>RePack by SPecialiST</cp:lastModifiedBy>
  <dcterms:modified xsi:type="dcterms:W3CDTF">2019-04-13T04:15:49Z</dcterms:modified>
  <cp:revision>22</cp:revision>
  <dc:subject/>
  <dc:title>Слайд 1</dc:title>
</cp:coreProperties>
</file>