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D5F-2399-47C8-A7D8-134DE6F0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313-CEE6-42FC-83B7-ACB76327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C0C-76EF-4A51-B06D-8D530CDA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F2D-2690-4E66-BF0D-4EBE497B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9D02-27BD-41A9-B293-53298A74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4460-0140-4C16-A8B2-FDE65F19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B446-1FAA-4CB9-8998-52AF7F20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6DC3-E252-42CF-805E-74160EA3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B0DE-D3FB-4123-8BBB-A39DCD33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0CF0-6A73-45D6-9EA2-D5B20F86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3B0E-E6A2-419D-A3E9-C746CA19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2DB2-4D3F-4EAD-B03B-CC7F7457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6996-0EE3-478E-8549-2FAF5DBC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CBC8-ED2A-4038-AF79-11D8BDE8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CE78-FEDD-45AD-A70D-DED7DBC7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C886-0338-4529-BC9F-DE059610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A611-DD29-4991-A1E3-A6B67F61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5C871-316C-4E93-8658-905A20A2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10541-6DBB-483D-9C7F-B366F278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194C8-6311-4BB4-9176-0D9B3520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86E03-34A5-4742-A47D-BC660688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17D06-AB50-4CF4-8CDD-2B235B69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DE4-AFE1-4120-97ED-E7CF643D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8065B-89D4-4F70-B237-364ECD5F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ABB80-7CFE-4812-86D0-079AC872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A1E68-B507-4997-85D0-E67D6D4C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8B7FE-B3C0-46BF-9E16-3CDAAA6F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5C9D6-38B4-4D6C-A4FD-95F893A1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82EEE-0C82-4CA6-83D9-608B2190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2C3C4-DE92-40A6-AF35-AFC22883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85557-9A04-46FE-9501-9968F0EC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E3B79-3BBD-4279-83BF-5754A971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944A7-1E33-4F03-BF84-EEB7186A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4AF-B6E8-439C-962E-4254DF02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F782F-9A7A-4D8A-ABDF-49A97539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56E7A-535B-43A8-9007-EEDDBCC3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80692-D0B3-4C29-9F22-CF9419F2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D8F7-0894-4FBF-B391-EFFA0F1E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49751-CEF0-4C4F-93D1-A658B5AD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C5C6F-11B4-4A88-826E-D4BEA00F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415DD-2C69-4EB8-9BFC-23F8425A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7EB87-FFF5-4DF8-ADBC-8FEFFAFA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D2A8C-9053-4D60-8AC3-B731DFDA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A4CC-DDD7-46C9-B106-61170904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C56-D910-4BBA-8E9F-CD6B0758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8A3-42A7-446D-930B-134A2B80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A44-1EE8-4BCA-AF86-B5A91913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A84-15FE-44DC-95FC-9CCC525A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5CD9-A98F-4FAE-89A6-A9FC1E45CCB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DAB9-C8C0-4641-9B2C-863419B211B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8285-A948-4270-9F1E-06CE3C63468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A54A-61B7-46AF-B275-66327561D2A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7570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ван Андреевич Крыл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59280" y="1699920"/>
            <a:ext cx="381816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8360" indent="-201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Люблю, где случай есть, пороки пощипать…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Рисунок 3" descr="img1.jpg"/>
          <p:cNvPicPr/>
          <p:nvPr/>
        </p:nvPicPr>
        <p:blipFill>
          <a:blip r:embed="rId1"/>
          <a:stretch/>
        </p:blipFill>
        <p:spPr>
          <a:xfrm>
            <a:off x="878040" y="1695600"/>
            <a:ext cx="3797280" cy="91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2565000"/>
            <a:ext cx="822960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Из кожи лезут вон…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А воз и ныне там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А возу всё нет ходу…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Прямоугольник 3" descr=""/>
          <p:cNvPicPr/>
          <p:nvPr/>
        </p:nvPicPr>
        <p:blipFill>
          <a:blip r:embed="rId1"/>
          <a:stretch/>
        </p:blipFill>
        <p:spPr>
          <a:xfrm>
            <a:off x="0" y="633240"/>
            <a:ext cx="8985240" cy="18478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953648398.jpg"/>
          <p:cNvPicPr/>
          <p:nvPr/>
        </p:nvPicPr>
        <p:blipFill>
          <a:blip r:embed="rId2"/>
          <a:stretch/>
        </p:blipFill>
        <p:spPr>
          <a:xfrm>
            <a:off x="324000" y="77760"/>
            <a:ext cx="8605800" cy="658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Содержимое 4" descr="953648398.jpg"/>
          <p:cNvPicPr/>
          <p:nvPr/>
        </p:nvPicPr>
        <p:blipFill>
          <a:blip r:embed="rId1"/>
          <a:stretch/>
        </p:blipFill>
        <p:spPr>
          <a:xfrm>
            <a:off x="1476360" y="1884240"/>
            <a:ext cx="6157800" cy="464688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3" descr=""/>
          <p:cNvPicPr/>
          <p:nvPr/>
        </p:nvPicPr>
        <p:blipFill>
          <a:blip r:embed="rId2"/>
          <a:stretch/>
        </p:blipFill>
        <p:spPr>
          <a:xfrm>
            <a:off x="2530440" y="665280"/>
            <a:ext cx="3827520" cy="181584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5" descr=""/>
          <p:cNvPicPr/>
          <p:nvPr/>
        </p:nvPicPr>
        <p:blipFill>
          <a:blip r:embed="rId3"/>
          <a:stretch/>
        </p:blipFill>
        <p:spPr>
          <a:xfrm>
            <a:off x="817560" y="5638680"/>
            <a:ext cx="7412040" cy="10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rebuchet MS"/>
              </a:rPr>
              <a:t>Крылатые слов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000" y="1628280"/>
            <a:ext cx="397044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Чтоб музыкантом быть, так надобно уменье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0" y="1628280"/>
            <a:ext cx="42451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а только воз и ныне та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Рисунок 4" descr="IMG_0002.jpg"/>
          <p:cNvPicPr/>
          <p:nvPr/>
        </p:nvPicPr>
        <p:blipFill>
          <a:blip r:embed="rId1"/>
          <a:stretch/>
        </p:blipFill>
        <p:spPr>
          <a:xfrm>
            <a:off x="971640" y="2276640"/>
            <a:ext cx="3095640" cy="429408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5" descr="IMG_0001.jpg"/>
          <p:cNvPicPr/>
          <p:nvPr/>
        </p:nvPicPr>
        <p:blipFill>
          <a:blip r:embed="rId2"/>
          <a:stretch/>
        </p:blipFill>
        <p:spPr>
          <a:xfrm>
            <a:off x="5076720" y="2205000"/>
            <a:ext cx="3183120" cy="420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2981160" y="146160"/>
            <a:ext cx="5845320" cy="14875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987280" y="1844640"/>
            <a:ext cx="583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Родился 2 февраля 1769 года в семье армейского офицер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емья была бедной и Ваня Крылов не смог получить в детстве хорошего образования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75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75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 свободное время мальчик читал книги из отцовского сундучка, восполняя тем самым недостаток образования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Содержимое 4" descr="62785113_289689281_tonnel.gif"/>
          <p:cNvPicPr/>
          <p:nvPr/>
        </p:nvPicPr>
        <p:blipFill>
          <a:blip r:embed="rId2"/>
          <a:stretch/>
        </p:blipFill>
        <p:spPr>
          <a:xfrm>
            <a:off x="611280" y="1268280"/>
            <a:ext cx="2286000" cy="32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37960" y="268200"/>
            <a:ext cx="7363080" cy="944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5280" y="5013000"/>
            <a:ext cx="8640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вою литературную деятельность Иван Андреевич начал как    драматург.     Писать басни он начал в 37 лет и подписывался          «НАВИ   ВОЛЫРК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Содержимое 4" descr="biograf1.jpg"/>
          <p:cNvPicPr/>
          <p:nvPr/>
        </p:nvPicPr>
        <p:blipFill>
          <a:blip r:embed="rId2"/>
          <a:stretch/>
        </p:blipFill>
        <p:spPr>
          <a:xfrm>
            <a:off x="1957320" y="1122480"/>
            <a:ext cx="5376960" cy="76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39640" y="2060280"/>
            <a:ext cx="38880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рожил долгую жизнь, он умер на 76 году и написал более 200 басен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опулярность басен Крылова была огромна уже при жизни поэт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4" name="Содержимое 4" descr="biograf1.jpg"/>
          <p:cNvPicPr/>
          <p:nvPr/>
        </p:nvPicPr>
        <p:blipFill>
          <a:blip r:embed="rId1"/>
          <a:stretch/>
        </p:blipFill>
        <p:spPr>
          <a:xfrm>
            <a:off x="6059520" y="109440"/>
            <a:ext cx="2998800" cy="882648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5" descr=""/>
          <p:cNvPicPr/>
          <p:nvPr/>
        </p:nvPicPr>
        <p:blipFill>
          <a:blip r:embed="rId2"/>
          <a:stretch/>
        </p:blipFill>
        <p:spPr>
          <a:xfrm>
            <a:off x="493560" y="463680"/>
            <a:ext cx="5596200" cy="68256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7" descr="1205478239_2b_krylov_vorona_i_lisica.jpg"/>
          <p:cNvPicPr/>
          <p:nvPr/>
        </p:nvPicPr>
        <p:blipFill>
          <a:blip r:embed="rId3"/>
          <a:stretch/>
        </p:blipFill>
        <p:spPr>
          <a:xfrm>
            <a:off x="4446720" y="1268280"/>
            <a:ext cx="2627280" cy="410544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8" descr="9785353038597.jpg"/>
          <p:cNvPicPr/>
          <p:nvPr/>
        </p:nvPicPr>
        <p:blipFill>
          <a:blip r:embed="rId4"/>
          <a:stretch/>
        </p:blipFill>
        <p:spPr>
          <a:xfrm>
            <a:off x="6095880" y="2925720"/>
            <a:ext cx="3048120" cy="393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292720" y="1101600"/>
            <a:ext cx="3456000" cy="441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Рассмотрите рисунки. Вспомните названия басен. Расскажите, что перепутал художник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9" name="Содержимое 4" descr="IMG.jpg"/>
          <p:cNvPicPr/>
          <p:nvPr/>
        </p:nvPicPr>
        <p:blipFill>
          <a:blip r:embed="rId1"/>
          <a:stretch/>
        </p:blipFill>
        <p:spPr>
          <a:xfrm>
            <a:off x="324000" y="404640"/>
            <a:ext cx="4824360" cy="613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Прямоугольник 4" descr=""/>
          <p:cNvPicPr/>
          <p:nvPr/>
        </p:nvPicPr>
        <p:blipFill>
          <a:blip r:embed="rId1"/>
          <a:stretch/>
        </p:blipFill>
        <p:spPr>
          <a:xfrm>
            <a:off x="334800" y="2786040"/>
            <a:ext cx="847440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52840" y="692280"/>
            <a:ext cx="33829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6f8d"/>
                </a:solidFill>
                <a:latin typeface="Trebuchet MS"/>
              </a:rPr>
              <a:t>Словарная работа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Содержимое 7" descr="953648398.jpg"/>
          <p:cNvPicPr/>
          <p:nvPr/>
        </p:nvPicPr>
        <p:blipFill>
          <a:blip r:embed="rId1"/>
          <a:stretch/>
        </p:blipFill>
        <p:spPr>
          <a:xfrm>
            <a:off x="324000" y="549360"/>
            <a:ext cx="4824360" cy="597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3" name="Прямоугольник 8" descr=""/>
          <p:cNvPicPr/>
          <p:nvPr/>
        </p:nvPicPr>
        <p:blipFill>
          <a:blip r:embed="rId2"/>
          <a:stretch/>
        </p:blipFill>
        <p:spPr>
          <a:xfrm>
            <a:off x="5145120" y="1663560"/>
            <a:ext cx="381636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822240"/>
            <a:ext cx="8534520" cy="920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95280" y="1557000"/>
            <a:ext cx="82915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Что однажды задумали сделать Лебедь, Щука и Рак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ак они старались выполнить работу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олучилась ли их затея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айдите слова, которые помогут увидеть образ каждого героя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акие слова в басне подсказывают, что воз можно было бы свезти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3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3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3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23640" y="3716280"/>
            <a:ext cx="83516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е спели вместе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е договорились, как они будут действовать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е пригласили на помощь кого-то более сильного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Прямоугольник 4" descr=""/>
          <p:cNvPicPr/>
          <p:nvPr/>
        </p:nvPicPr>
        <p:blipFill>
          <a:blip r:embed="rId1"/>
          <a:stretch/>
        </p:blipFill>
        <p:spPr>
          <a:xfrm>
            <a:off x="1504800" y="774720"/>
            <a:ext cx="5761080" cy="28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7:32:01Z</dcterms:created>
  <dc:creator>Володина О.Е.</dc:creator>
  <dc:description/>
  <cp:keywords>Крылов биография басни</cp:keywords>
  <dc:language>en-US</dc:language>
  <cp:lastModifiedBy>Пользователь Windows</cp:lastModifiedBy>
  <dcterms:modified xsi:type="dcterms:W3CDTF">2014-03-26T03:24:38Z</dcterms:modified>
  <cp:revision>27</cp:revision>
  <dc:subject>Урок литературного чтения во 2 классе</dc:subject>
  <dc:title>Иван Андреевич Крылов</dc:title>
</cp:coreProperties>
</file>