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4A8-968A-4FB5-A4C5-BF15CFC9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74E-E30E-40DC-A3CC-5C3E76C6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11B-1F77-45D5-8D6C-02150535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F27-F6EF-4C10-97C0-E08F0FA7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D4C-7DA6-47FB-AF06-F5BC4656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D7B-C392-48BD-B3DD-306E9BD6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E2B-BA71-4BBE-A9EA-8DBABF0F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EFD-55B0-4585-BED4-131521FF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3CF-754E-42FE-BBFD-4B8AA54F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BF9-8D13-4669-8BAA-091B2D19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3DF-6D1D-412D-8C9D-D942CB05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731-089F-47F4-86E0-5E940774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9D3B-859E-43B1-BFA4-EE63C6054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МЕТОДИЧЕСКАЯ СИСТЕМА ОБУЧЕНИЯ ГЕОМЕТРИИ</a:t>
            </a:r>
            <a:br>
              <a:rPr sz="3600"/>
            </a:b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МСОГ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Особенности реформы, относящиеся к курсу планиметрии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533520"/>
            <a:ext cx="853452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 начальный курс математики включена основательная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опедевтика геометр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ы простейшие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еоретико-множественные понятия, операции и символ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Усилена роль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ксиоматического мето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ложена четкая и строгая система акси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ущ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д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урс планиметрии включены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геометрические преобразования, перемещения плоско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екто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астных видов перемещени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скости, векторный аппара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ользу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редство решения задач и доказательства теор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В качестве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сновных метод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ироко использовался аксиоматический метод, координатный, векторный, геометрических преобразов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Классически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80880"/>
            <a:ext cx="83822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В. Погорелов: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азвитие логического мышле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щих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оказывать вс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обенно в начале обучения, широкое использование метода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оказательства от противн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ервых шагов обучения. Сознательный отрыв мышления от чертеж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 очень малой степени ометодиче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ет дополнительные трудности для учителя, возлагая на него подбор дополнительного материала, задачного, дидактическую обработку теоретического материал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ало пригоден для самостоятельн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владения курсом ученик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80880"/>
            <a:ext cx="83059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Л.С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Атанася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нимание уделяется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оступно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ложения,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азвитию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мений и навыков учащихся. Материал подается в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тодически обработанной форм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зможно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амостоятельно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владение материалом ученик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А.Д. Александр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адача преподавания геометрии – развить у учащихся три качества: пространственное воображение, практическое понимание и логическое мышление. В органическом единстве представлена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трогая логика и живое восприят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льного мира. Используют в физико-математических классах, с углубленным изучением матема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И.Ф. Шарыг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80880"/>
            <a:ext cx="8839080" cy="62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лизуе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торскую,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глядно-эмпирическую концепцию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роения школьного курса геометрии. Это выражается в отказе от аксиоматического подхода,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ксиоматика не выдвигаетс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первый пла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разделы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ыходят за рамк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ы (теорема Эйлера, прямая Эйлера, вневписанные окружности, задача Архимеда, окружность Аполлония и др.), однако, они предъявлены в интересной форме последовательных рассуждений,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крытого диалог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ляется внимание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тодам реше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дач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ны и систематизированы основные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аспространенны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шибк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ассуждениях. Таким образом, учебник в сильной мере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методиче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 материалы для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неклассн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ения, работы круж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Конечные результаты обучения геометр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33520"/>
            <a:ext cx="86104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на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войств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учаемых фигур, понимать, что они являются идеализированными образами реальных объек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Доказательств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ых теор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пособы реш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дач на доказательство, вычисление, постро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ме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реша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иповые задачи и оформлять их 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Изобража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глядно чертежи к задачам и теоремам,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распознава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еометрические фигуры на чертеж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ти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логическое обосновани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ждого шага при решении задач и доказательства теор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рафических умений, пространственных представл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 навыками использования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еометрических инструмент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изображения геометрических фигур, измерения длин отрезков и величин уг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еометрический язы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описания предметов окружающего ми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3352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бразовательн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80880"/>
            <a:ext cx="853452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ередача учащимся определенной системы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математически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знаний, умений и навык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 математической науки, необходимых для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общег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ния, для его продолжения в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высше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коле, для изучения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други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дисципли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практическо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ятельности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омощь учащимся в овладении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математическими идеями и метода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нания действитель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работка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мени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ать основные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тип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ематических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зада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менять знания на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актик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Формирование способов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чебно-познавательно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ятель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Знакомство с элементами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гуманитарног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ния; связанного с математикой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 u="sng">
                <a:solidFill>
                  <a:srgbClr val="008000"/>
                </a:solidFill>
                <a:uFillTx/>
                <a:latin typeface="Times New Roman"/>
                <a:hlinkClick r:id="rId1" action="ppaction://hlinksldjump"/>
              </a:rPr>
              <a:t>Цели обучения геомет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ФГОС Цели обучения математике, геомет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03120"/>
            <a:ext cx="8763120" cy="65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умений работать с учебным математическим текстом…, проводить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классификации, логические обоснования, доказательства математических утвержден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оценивать логическую правильность рассуждений, распознавать логически некорректные рассуж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владение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геометрическим язык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витие умения использовать его для описания предметов окружающего мира, развитие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пространственных представлен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изобразительны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умений, навыков геометрических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построен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систематических знан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 плоских фигурах и их свойствах, представлений о простейших пространственных телах, развитие умений применять их для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реш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геометрических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задач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моделирова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еальные ситуации на языке геометрии,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исследова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остроенные модели с использованием геометрических понятий и теорем, аппарата алгебры, решать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практическ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задачи, связанные с нахождением геометрических величин.                  </a:t>
            </a:r>
            <a:r>
              <a:rPr b="0" lang="ru-RU" sz="2400" spc="-1" strike="noStrike" u="sng">
                <a:solidFill>
                  <a:srgbClr val="008000"/>
                </a:solidFill>
                <a:uFillTx/>
                <a:latin typeface="Times New Roman"/>
                <a:hlinkClick r:id="rId1" action="ppaction://hlinksldjump"/>
              </a:rPr>
              <a:t>Специфические ц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екция №1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Общие вопросы методики обучения геометрии в основной школ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Исторически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й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аспе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33520"/>
            <a:ext cx="861048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е знания возникали в древности только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пытны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т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7 в. до н. Э. Их накопилось очень много, особенно в Египте, Вавилоне, Индии, Китае. Но знания –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азрознен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метрии как науки не существова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7 в до н.э. геометрические знания проникли из Египта в Грецию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и стаи доказывать в общ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иде многие геометрические положения, взятые из прак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главил эту работу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Евкли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 изложил курс геометрии в 13 книгах – «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чал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реческого на русский перевел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.Д. Мордухай-Болтовск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оследствии геометрия получила дальнейшее развитие, и были открыты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овые геометр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обачевского, Рима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Times New Roman"/>
              </a:rPr>
              <a:t>Роль и ц</a:t>
            </a:r>
            <a:r>
              <a:rPr b="1" lang="ru-RU" sz="4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ели обучения геометрии в основной шко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066680"/>
            <a:ext cx="87631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Геометр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ая математическая дисциплин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важнейших компонентов общечеловеческой культуры: представления о пространстве, в котором живет человек, во многом обеспечивают его миропонимание, мировоззр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ая деятельность считается первичной интеллектуальной деятельностью как человеческой цивилизации, так и отдельного индивидуум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никто, претендующий на звание культурного человека, не может считать себя таковым без знания геометр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Все </a:t>
            </a:r>
            <a:r>
              <a:rPr b="0" lang="ru-RU" sz="28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цели обучения 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атематике сохраняются и для геометрии. Однако, геометрия реализует также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пецифические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цели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914400"/>
            <a:ext cx="8686800" cy="58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азвитие логического мышления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ый курс геометр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наибольшую стройность,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логическую строг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обусловлено широким использованием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ксиоматического мето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его построе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широкое применение в геометрии находит логика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н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логики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 явном виде не представлен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читель во многом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амостоятельн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жен решать задачи развития логического мыш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ю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бходимо иметь четкое представл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логической структур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ур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логических основ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ематических понятий и предложений, доказательств теорем и решен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да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азвитие пространственного мыш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33520"/>
            <a:ext cx="8610480" cy="54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ение черте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номоментный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охва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г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рте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равл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ение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восприятие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щихся, выде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н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лемен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о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использование динамических моделе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жнения в проведении геометрических рассуждений,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не делая чертеж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редставляя его в ум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шение задач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на построен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собенно, методом геометрических преобразован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скости, методо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троения множеств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пражнения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трех типов оперирова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планиметрическими образ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Содержание курса геометрии основной шко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4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курса геометрии представлено разделами стереометрии и планиметр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04920" y="1219320"/>
            <a:ext cx="8686440" cy="2057400"/>
            <a:chOff x="304920" y="1219320"/>
            <a:chExt cx="8686440" cy="2057400"/>
          </a:xfrm>
        </p:grpSpPr>
        <p:grpSp>
          <p:nvGrpSpPr>
            <p:cNvPr id="54" name=""/>
            <p:cNvGrpSpPr/>
            <p:nvPr/>
          </p:nvGrpSpPr>
          <p:grpSpPr>
            <a:xfrm>
              <a:off x="310680" y="1223640"/>
              <a:ext cx="8674200" cy="2048040"/>
              <a:chOff x="310680" y="1223640"/>
              <a:chExt cx="8674200" cy="204804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310680" y="1223640"/>
                <a:ext cx="4336920" cy="597600"/>
                <a:chOff x="310680" y="1223640"/>
                <a:chExt cx="4336920" cy="59760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95640" y="1223640"/>
                  <a:ext cx="41670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99"/>
                      </a:solidFill>
                      <a:latin typeface="Times New Roman"/>
                      <a:ea typeface="Times New Roman"/>
                    </a:rPr>
                    <a:t>Планиметрия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10680" y="1223640"/>
                  <a:ext cx="433692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4647960" y="1223640"/>
                <a:ext cx="4336920" cy="597600"/>
                <a:chOff x="4647960" y="1223640"/>
                <a:chExt cx="4336920" cy="59760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4732920" y="1223640"/>
                  <a:ext cx="41670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Стереометрия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647960" y="1223640"/>
                  <a:ext cx="433692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310680" y="1821240"/>
                <a:ext cx="4336920" cy="1450440"/>
                <a:chOff x="310680" y="1821240"/>
                <a:chExt cx="4336920" cy="14504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395640" y="1821240"/>
                  <a:ext cx="4167000" cy="14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      Взаимное расположение прямых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      Свойства треугольников, четырехугольников, окружностей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      Отношения равенства и подобия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      Измерение углов, длин, площадей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10680" y="1821240"/>
                  <a:ext cx="4336920" cy="14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647960" y="1821240"/>
                <a:ext cx="4336920" cy="1450440"/>
                <a:chOff x="4647960" y="1821240"/>
                <a:chExt cx="4336920" cy="14504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732920" y="1821240"/>
                  <a:ext cx="4167000" cy="14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573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  Взаимное расположение прямых и плоскостей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573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  Свойства многогранников, призмы, пирамиды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573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  Тела вращения: цилиндр, конус, шар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573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  Измерение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углов,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лощадей поверхности и объем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ов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647960" y="1821240"/>
                  <a:ext cx="4336920" cy="14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" name=""/>
            <p:cNvSpPr/>
            <p:nvPr/>
          </p:nvSpPr>
          <p:spPr>
            <a:xfrm>
              <a:off x="304920" y="1219320"/>
              <a:ext cx="86864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одержание планиметр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457200"/>
            <a:ext cx="8839080" cy="59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ержательно-методически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лини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Геометрические фигуры и их свойств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7, значительно 8,9 клас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Геометрические величины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и их измер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ектор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торы впервые вошли в курс геометрии отечественной школы в середине 70-х годов и получили всеобщее признание. Однако методика их применения недостаточно разработана, поэтому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екторы недостаточно широк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уются в школьном курсе матема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содержание школьного курса планиметрии своими истоками имеет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Начала» Евклид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пытки отхода от них оказались неудачны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Геометрические преобразова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включены в настоящее время в одну из линий, а занимают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ериферийную час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ур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Подходы к построению курса планиметр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838080"/>
            <a:ext cx="75438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лассически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основу которого положены модернизированные </a:t>
            </a:r>
            <a:r>
              <a:rPr b="1" lang="ru-RU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«Начала» Евклид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овременны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фундаментом которого являются </a:t>
            </a:r>
            <a:r>
              <a:rPr b="1" lang="ru-RU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теоретико-множественные представле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идея </a:t>
            </a:r>
            <a:r>
              <a:rPr b="1" lang="ru-RU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геометрических преобразовани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скости. Реализован в ходе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еформы 70-х годов.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(Председатель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.Н. Колмогоров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2:35:05Z</dcterms:created>
  <dc:creator>terminator</dc:creator>
  <dc:description/>
  <dc:language>en-US</dc:language>
  <cp:lastModifiedBy>terminator</cp:lastModifiedBy>
  <dcterms:modified xsi:type="dcterms:W3CDTF">2010-08-31T16:21:40Z</dcterms:modified>
  <cp:revision>20</cp:revision>
  <dc:subject/>
  <dc:title>МЕТОДИЧЕСКИЕ ОСНОВЫ МЕТОДИКИ ОБУЧЕНИЯ ГЕОМЕТРИИ МСОГ </dc:title>
</cp:coreProperties>
</file>