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C27-4BDA-4DBE-8DE7-CBC464CC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0E0-F001-4506-B9C3-E3B5D39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9B4-D0CA-41F3-906C-4F086CAD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4E0-2CC3-4181-BEE2-E1D7825B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F49-A2B8-484F-973A-A5BB1425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729-ACFE-40C7-8E82-37F9D3AB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1AF-B5C4-4039-9F8F-AB32E317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BDB-D31E-409D-869E-C588F27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78F-DF77-4006-AD5F-3E39A58F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210-4ECA-45C7-B6F5-190F0A7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7C1-D552-4E7B-9E51-4F19A56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DE5-0739-4F62-AD3C-1C9F6C8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B05D-9184-4E7A-BF14-CB0A44CFF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Лекция №2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етодика изучения первых аксиом, теорем, понятий о простейших фигурах</a:t>
            </a:r>
            <a:r>
              <a:rPr b="1" lang="ru-RU" sz="5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Этапы: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ачально-пропедевтический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ачальная школа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, 5-6 к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33520"/>
            <a:ext cx="89154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й формирования у детей представлений о геометрических фигурах является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пособность их к восприятию фор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эта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оказа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 ту или иную геометрическую фигуру и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азва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соответствующим термином. Например: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это отрезки, это квадра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ой эта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деление тех элементов, из которых состоят фигуры, их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ущественны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знаков. Для этого выполн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ю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рактическ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изучении точки –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оводя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ез нее линии, получают прямые линии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гибани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маги так, что линия сгиба проходит через точк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891540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Вывод: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п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еобладают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аглядно-эмпирические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методы (практические) знакомства с первыми аксиомами и основными понят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комстве с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резк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делить такие его признаки, по которым можно легко опознать эту фигур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езок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меет концы и его следует проводить по линей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изображении отрезка обязательно фиксируются точки концов, а при изображении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ям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нии – 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з данной точки провести по линейке прямую линию, то получим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у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два луча – то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го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начале угол – фигура, состоящая из двух лучей с общим началом, а затем понимание как части плоскости. Нужны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де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Модели уг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71680"/>
            <a:ext cx="89154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одель прямого угл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ают перегибанием бумаги дваж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 знакомятся с единицей измерения угл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зуются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емами налож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дставлениями о луче. (Стороны угла – лучи, а значит их можно продолжить). Если стороны совпадут, то углы рав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комстве с острыми, тупыми углами, пользуются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оделями трех вид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равнение с прямым угл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ве стороны моделей и вершины совмещают, а другая сторона пройдет внутри прямого (для острого), вне его (для тупого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ные фигуры распознают в треугольниках, четырехугольниках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828440" y="228600"/>
            <a:ext cx="5977080" cy="1723680"/>
            <a:chOff x="1828440" y="228600"/>
            <a:chExt cx="5977080" cy="1723680"/>
          </a:xfrm>
        </p:grpSpPr>
        <p:grpSp>
          <p:nvGrpSpPr>
            <p:cNvPr id="124" name=""/>
            <p:cNvGrpSpPr/>
            <p:nvPr/>
          </p:nvGrpSpPr>
          <p:grpSpPr>
            <a:xfrm>
              <a:off x="1828440" y="1032480"/>
              <a:ext cx="1379520" cy="689760"/>
              <a:chOff x="1828440" y="1032480"/>
              <a:chExt cx="1379520" cy="689760"/>
            </a:xfrm>
          </p:grpSpPr>
          <p:sp>
            <p:nvSpPr>
              <p:cNvPr id="125" name=""/>
              <p:cNvSpPr/>
              <p:nvPr/>
            </p:nvSpPr>
            <p:spPr>
              <a:xfrm flipH="1" flipV="1">
                <a:off x="1828440" y="1032480"/>
                <a:ext cx="114840" cy="34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173320" y="1147680"/>
                <a:ext cx="574560" cy="22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633400" y="1147680"/>
                <a:ext cx="574560" cy="57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322800" y="343440"/>
              <a:ext cx="1378800" cy="844200"/>
              <a:chOff x="3322800" y="343440"/>
              <a:chExt cx="1378800" cy="844200"/>
            </a:xfrm>
          </p:grpSpPr>
          <p:sp>
            <p:nvSpPr>
              <p:cNvPr id="129" name=""/>
              <p:cNvSpPr/>
              <p:nvPr/>
            </p:nvSpPr>
            <p:spPr>
              <a:xfrm>
                <a:off x="3552480" y="918000"/>
                <a:ext cx="269640" cy="269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22800" y="343440"/>
                <a:ext cx="459720" cy="459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12200" y="343440"/>
                <a:ext cx="689400" cy="689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11520" y="228600"/>
              <a:ext cx="1494000" cy="1296360"/>
              <a:chOff x="6311520" y="228600"/>
              <a:chExt cx="1494000" cy="1296360"/>
            </a:xfrm>
          </p:grpSpPr>
          <p:sp>
            <p:nvSpPr>
              <p:cNvPr id="133" name=""/>
              <p:cNvSpPr/>
              <p:nvPr/>
            </p:nvSpPr>
            <p:spPr>
              <a:xfrm>
                <a:off x="6311520" y="228600"/>
                <a:ext cx="344880" cy="34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348960" y="61056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30960" y="343440"/>
                <a:ext cx="574560" cy="576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357440" y="1032840"/>
              <a:ext cx="1723680" cy="919440"/>
              <a:chOff x="4357440" y="1032840"/>
              <a:chExt cx="1723680" cy="919440"/>
            </a:xfrm>
          </p:grpSpPr>
          <p:sp>
            <p:nvSpPr>
              <p:cNvPr id="137" name=""/>
              <p:cNvSpPr/>
              <p:nvPr/>
            </p:nvSpPr>
            <p:spPr>
              <a:xfrm>
                <a:off x="4357440" y="1262520"/>
                <a:ext cx="1034280" cy="229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06560" y="1032840"/>
                <a:ext cx="574560" cy="91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32000" y="1607400"/>
                <a:ext cx="114840" cy="344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152280" y="2057400"/>
            <a:ext cx="3686400" cy="4571640"/>
            <a:chOff x="152280" y="2057400"/>
            <a:chExt cx="3686400" cy="4571640"/>
          </a:xfrm>
        </p:grpSpPr>
        <p:grpSp>
          <p:nvGrpSpPr>
            <p:cNvPr id="141" name=""/>
            <p:cNvGrpSpPr/>
            <p:nvPr/>
          </p:nvGrpSpPr>
          <p:grpSpPr>
            <a:xfrm>
              <a:off x="834840" y="3581280"/>
              <a:ext cx="2320920" cy="3047760"/>
              <a:chOff x="834840" y="3581280"/>
              <a:chExt cx="2320920" cy="3047760"/>
            </a:xfrm>
          </p:grpSpPr>
          <p:sp>
            <p:nvSpPr>
              <p:cNvPr id="142" name=""/>
              <p:cNvSpPr/>
              <p:nvPr/>
            </p:nvSpPr>
            <p:spPr>
              <a:xfrm>
                <a:off x="834840" y="3581280"/>
                <a:ext cx="2320920" cy="304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517400" y="4597200"/>
                <a:ext cx="5112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09640" y="4597200"/>
                <a:ext cx="5112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63520" y="5867280"/>
                <a:ext cx="5112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44160" y="4089240"/>
                <a:ext cx="546120" cy="101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90280" y="5358960"/>
                <a:ext cx="5457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36400" y="4089240"/>
                <a:ext cx="546120" cy="101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52280" y="2057400"/>
              <a:ext cx="36864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оведи прямые линии через точку К и через точку В так, чтобы они пересеклись в точке О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952880" y="2438280"/>
            <a:ext cx="33339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становление различий во фразах: «точк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есечени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двух линий», «лини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ходи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ерез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точку», «лини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единяе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две точки», «точк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надлежи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лин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371600" y="304920"/>
            <a:ext cx="5800680" cy="2113560"/>
            <a:chOff x="1371600" y="304920"/>
            <a:chExt cx="5800680" cy="2113560"/>
          </a:xfrm>
        </p:grpSpPr>
        <p:grpSp>
          <p:nvGrpSpPr>
            <p:cNvPr id="152" name=""/>
            <p:cNvGrpSpPr/>
            <p:nvPr/>
          </p:nvGrpSpPr>
          <p:grpSpPr>
            <a:xfrm>
              <a:off x="1371600" y="431280"/>
              <a:ext cx="5800680" cy="1987200"/>
              <a:chOff x="1371600" y="431280"/>
              <a:chExt cx="5800680" cy="1987200"/>
            </a:xfrm>
          </p:grpSpPr>
          <p:sp>
            <p:nvSpPr>
              <p:cNvPr id="153" name=""/>
              <p:cNvSpPr/>
              <p:nvPr/>
            </p:nvSpPr>
            <p:spPr>
              <a:xfrm>
                <a:off x="1371600" y="431280"/>
                <a:ext cx="5800680" cy="171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3194640" y="688680"/>
                <a:ext cx="3770640" cy="1729800"/>
                <a:chOff x="3194640" y="688680"/>
                <a:chExt cx="3770640" cy="172980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3194640" y="812520"/>
                  <a:ext cx="2071440" cy="1175760"/>
                  <a:chOff x="3194640" y="812520"/>
                  <a:chExt cx="2071440" cy="117576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3194640" y="812520"/>
                    <a:ext cx="1905840" cy="1135440"/>
                  </a:xfrm>
                  <a:prstGeom prst="triangle">
                    <a:avLst>
                      <a:gd name="adj" fmla="val 8822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852080" y="812520"/>
                    <a:ext cx="414000" cy="11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1116">
                        <a:moveTo>
                          <a:pt x="0" y="0"/>
                        </a:moveTo>
                        <a:cubicBezTo>
                          <a:pt x="151" y="60"/>
                          <a:pt x="302" y="121"/>
                          <a:pt x="362" y="181"/>
                        </a:cubicBezTo>
                        <a:cubicBezTo>
                          <a:pt x="422" y="241"/>
                          <a:pt x="332" y="302"/>
                          <a:pt x="362" y="362"/>
                        </a:cubicBezTo>
                        <a:cubicBezTo>
                          <a:pt x="392" y="422"/>
                          <a:pt x="543" y="483"/>
                          <a:pt x="543" y="543"/>
                        </a:cubicBezTo>
                        <a:cubicBezTo>
                          <a:pt x="543" y="603"/>
                          <a:pt x="422" y="634"/>
                          <a:pt x="362" y="724"/>
                        </a:cubicBezTo>
                        <a:cubicBezTo>
                          <a:pt x="302" y="814"/>
                          <a:pt x="211" y="1056"/>
                          <a:pt x="181" y="1086"/>
                        </a:cubicBezTo>
                        <a:cubicBezTo>
                          <a:pt x="151" y="1116"/>
                          <a:pt x="181" y="995"/>
                          <a:pt x="181" y="905"/>
                        </a:cubicBezTo>
                        <a:cubicBezTo>
                          <a:pt x="181" y="815"/>
                          <a:pt x="181" y="603"/>
                          <a:pt x="181" y="543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5058360" y="688680"/>
                  <a:ext cx="1906920" cy="1729800"/>
                  <a:chOff x="5058360" y="688680"/>
                  <a:chExt cx="1906920" cy="17298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12768600">
                    <a:off x="5058720" y="1383840"/>
                    <a:ext cx="1905480" cy="563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8559800">
                    <a:off x="5940360" y="484920"/>
                    <a:ext cx="274680" cy="16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1116">
                        <a:moveTo>
                          <a:pt x="0" y="0"/>
                        </a:moveTo>
                        <a:cubicBezTo>
                          <a:pt x="151" y="60"/>
                          <a:pt x="302" y="121"/>
                          <a:pt x="362" y="181"/>
                        </a:cubicBezTo>
                        <a:cubicBezTo>
                          <a:pt x="422" y="241"/>
                          <a:pt x="332" y="302"/>
                          <a:pt x="362" y="362"/>
                        </a:cubicBezTo>
                        <a:cubicBezTo>
                          <a:pt x="392" y="422"/>
                          <a:pt x="543" y="483"/>
                          <a:pt x="543" y="543"/>
                        </a:cubicBezTo>
                        <a:cubicBezTo>
                          <a:pt x="543" y="603"/>
                          <a:pt x="422" y="634"/>
                          <a:pt x="362" y="724"/>
                        </a:cubicBezTo>
                        <a:cubicBezTo>
                          <a:pt x="302" y="814"/>
                          <a:pt x="211" y="1056"/>
                          <a:pt x="181" y="1086"/>
                        </a:cubicBezTo>
                        <a:cubicBezTo>
                          <a:pt x="151" y="1116"/>
                          <a:pt x="181" y="995"/>
                          <a:pt x="181" y="905"/>
                        </a:cubicBezTo>
                        <a:cubicBezTo>
                          <a:pt x="181" y="815"/>
                          <a:pt x="181" y="603"/>
                          <a:pt x="181" y="543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1" name=""/>
              <p:cNvGrpSpPr/>
              <p:nvPr/>
            </p:nvGrpSpPr>
            <p:grpSpPr>
              <a:xfrm>
                <a:off x="1578600" y="971640"/>
                <a:ext cx="1450080" cy="984960"/>
                <a:chOff x="1578600" y="971640"/>
                <a:chExt cx="1450080" cy="9849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578600" y="971640"/>
                  <a:ext cx="1450080" cy="984960"/>
                </a:xfrm>
                <a:custGeom>
                  <a:avLst/>
                  <a:gdLst/>
                  <a:ahLst/>
                  <a:rect l="l" t="t" r="r" b="b"/>
                  <a:pathLst>
                    <a:path w="784" h="573">
                      <a:moveTo>
                        <a:pt x="0" y="30"/>
                      </a:moveTo>
                      <a:cubicBezTo>
                        <a:pt x="120" y="15"/>
                        <a:pt x="241" y="0"/>
                        <a:pt x="362" y="30"/>
                      </a:cubicBezTo>
                      <a:cubicBezTo>
                        <a:pt x="483" y="60"/>
                        <a:pt x="664" y="120"/>
                        <a:pt x="724" y="211"/>
                      </a:cubicBezTo>
                      <a:cubicBezTo>
                        <a:pt x="784" y="302"/>
                        <a:pt x="754" y="437"/>
                        <a:pt x="724" y="573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578600" y="1002960"/>
                  <a:ext cx="1450080" cy="9532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2821680" y="304920"/>
              <a:ext cx="310752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онятие об угл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04920" y="2286000"/>
            <a:ext cx="6091920" cy="1980720"/>
            <a:chOff x="304920" y="2286000"/>
            <a:chExt cx="6091920" cy="1980720"/>
          </a:xfrm>
        </p:grpSpPr>
        <p:grpSp>
          <p:nvGrpSpPr>
            <p:cNvPr id="166" name=""/>
            <p:cNvGrpSpPr/>
            <p:nvPr/>
          </p:nvGrpSpPr>
          <p:grpSpPr>
            <a:xfrm>
              <a:off x="304920" y="2974680"/>
              <a:ext cx="1954080" cy="1198080"/>
              <a:chOff x="304920" y="2974680"/>
              <a:chExt cx="1954080" cy="1198080"/>
            </a:xfrm>
          </p:grpSpPr>
          <p:sp>
            <p:nvSpPr>
              <p:cNvPr id="167" name=""/>
              <p:cNvSpPr/>
              <p:nvPr/>
            </p:nvSpPr>
            <p:spPr>
              <a:xfrm>
                <a:off x="304920" y="2974680"/>
                <a:ext cx="1954080" cy="119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534600" y="3146760"/>
                <a:ext cx="1571760" cy="889560"/>
                <a:chOff x="534600" y="3146760"/>
                <a:chExt cx="1571760" cy="889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534600" y="3146760"/>
                  <a:ext cx="804600" cy="889560"/>
                  <a:chOff x="534600" y="3146760"/>
                  <a:chExt cx="804600" cy="8895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34600" y="3146760"/>
                    <a:ext cx="804600" cy="88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4" h="573">
                        <a:moveTo>
                          <a:pt x="0" y="30"/>
                        </a:moveTo>
                        <a:cubicBezTo>
                          <a:pt x="120" y="15"/>
                          <a:pt x="241" y="0"/>
                          <a:pt x="362" y="30"/>
                        </a:cubicBezTo>
                        <a:cubicBezTo>
                          <a:pt x="483" y="60"/>
                          <a:pt x="664" y="120"/>
                          <a:pt x="724" y="211"/>
                        </a:cubicBezTo>
                        <a:cubicBezTo>
                          <a:pt x="784" y="302"/>
                          <a:pt x="754" y="437"/>
                          <a:pt x="724" y="573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34600" y="3175200"/>
                    <a:ext cx="804600" cy="861120"/>
                  </a:xfrm>
                  <a:prstGeom prst="rtTriangl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1569240" y="3318840"/>
                  <a:ext cx="537120" cy="572760"/>
                  <a:chOff x="1569240" y="3318840"/>
                  <a:chExt cx="537120" cy="57276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1569240" y="3318840"/>
                    <a:ext cx="537120" cy="572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4" h="573">
                        <a:moveTo>
                          <a:pt x="0" y="30"/>
                        </a:moveTo>
                        <a:cubicBezTo>
                          <a:pt x="120" y="15"/>
                          <a:pt x="241" y="0"/>
                          <a:pt x="362" y="30"/>
                        </a:cubicBezTo>
                        <a:cubicBezTo>
                          <a:pt x="483" y="60"/>
                          <a:pt x="664" y="120"/>
                          <a:pt x="724" y="211"/>
                        </a:cubicBezTo>
                        <a:cubicBezTo>
                          <a:pt x="784" y="302"/>
                          <a:pt x="754" y="437"/>
                          <a:pt x="724" y="573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569240" y="3336840"/>
                    <a:ext cx="537120" cy="554400"/>
                  </a:xfrm>
                  <a:prstGeom prst="rtTriangl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5" name=""/>
            <p:cNvGrpSpPr/>
            <p:nvPr/>
          </p:nvGrpSpPr>
          <p:grpSpPr>
            <a:xfrm>
              <a:off x="2603520" y="2802600"/>
              <a:ext cx="3793320" cy="1464120"/>
              <a:chOff x="2603520" y="2802600"/>
              <a:chExt cx="3793320" cy="14641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603520" y="2802600"/>
                <a:ext cx="1628640" cy="1464120"/>
                <a:chOff x="2603520" y="2802600"/>
                <a:chExt cx="1628640" cy="1464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603880" y="2889000"/>
                  <a:ext cx="0" cy="1377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603880" y="4266720"/>
                  <a:ext cx="1379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603880" y="2802600"/>
                  <a:ext cx="1206720" cy="1464120"/>
                </a:xfrm>
                <a:custGeom>
                  <a:avLst/>
                  <a:gdLst/>
                  <a:ahLst/>
                  <a:rect l="l" t="t" r="r" b="b"/>
                  <a:pathLst>
                    <a:path w="1900" h="1539">
                      <a:moveTo>
                        <a:pt x="0" y="91"/>
                      </a:moveTo>
                      <a:cubicBezTo>
                        <a:pt x="256" y="45"/>
                        <a:pt x="513" y="0"/>
                        <a:pt x="724" y="91"/>
                      </a:cubicBezTo>
                      <a:cubicBezTo>
                        <a:pt x="935" y="182"/>
                        <a:pt x="1086" y="483"/>
                        <a:pt x="1267" y="634"/>
                      </a:cubicBezTo>
                      <a:cubicBezTo>
                        <a:pt x="1448" y="785"/>
                        <a:pt x="1720" y="845"/>
                        <a:pt x="1810" y="996"/>
                      </a:cubicBezTo>
                      <a:cubicBezTo>
                        <a:pt x="1900" y="1147"/>
                        <a:pt x="1810" y="1449"/>
                        <a:pt x="1810" y="1539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2603520" y="3061080"/>
                  <a:ext cx="1149480" cy="1205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753360" y="3061080"/>
                  <a:ext cx="478800" cy="1205280"/>
                </a:xfrm>
                <a:custGeom>
                  <a:avLst/>
                  <a:gdLst/>
                  <a:ahLst/>
                  <a:rect l="l" t="t" r="r" b="b"/>
                  <a:pathLst>
                    <a:path w="754" h="1267">
                      <a:moveTo>
                        <a:pt x="0" y="0"/>
                      </a:moveTo>
                      <a:cubicBezTo>
                        <a:pt x="30" y="136"/>
                        <a:pt x="60" y="272"/>
                        <a:pt x="181" y="362"/>
                      </a:cubicBezTo>
                      <a:cubicBezTo>
                        <a:pt x="302" y="452"/>
                        <a:pt x="694" y="392"/>
                        <a:pt x="724" y="543"/>
                      </a:cubicBezTo>
                      <a:cubicBezTo>
                        <a:pt x="754" y="694"/>
                        <a:pt x="558" y="980"/>
                        <a:pt x="362" y="126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442760" y="2802600"/>
                <a:ext cx="1954080" cy="1464120"/>
                <a:chOff x="4442760" y="2802600"/>
                <a:chExt cx="1954080" cy="1464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017320" y="2889000"/>
                  <a:ext cx="0" cy="1377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17320" y="4266720"/>
                  <a:ext cx="1379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017320" y="2802600"/>
                  <a:ext cx="1206720" cy="1464120"/>
                </a:xfrm>
                <a:custGeom>
                  <a:avLst/>
                  <a:gdLst/>
                  <a:ahLst/>
                  <a:rect l="l" t="t" r="r" b="b"/>
                  <a:pathLst>
                    <a:path w="1900" h="1539">
                      <a:moveTo>
                        <a:pt x="0" y="91"/>
                      </a:moveTo>
                      <a:cubicBezTo>
                        <a:pt x="256" y="45"/>
                        <a:pt x="513" y="0"/>
                        <a:pt x="724" y="91"/>
                      </a:cubicBezTo>
                      <a:cubicBezTo>
                        <a:pt x="935" y="182"/>
                        <a:pt x="1086" y="483"/>
                        <a:pt x="1267" y="634"/>
                      </a:cubicBezTo>
                      <a:cubicBezTo>
                        <a:pt x="1448" y="785"/>
                        <a:pt x="1720" y="845"/>
                        <a:pt x="1810" y="996"/>
                      </a:cubicBezTo>
                      <a:cubicBezTo>
                        <a:pt x="1900" y="1147"/>
                        <a:pt x="1810" y="1449"/>
                        <a:pt x="1810" y="1539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42760" y="3233160"/>
                  <a:ext cx="574560" cy="10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42760" y="3032640"/>
                  <a:ext cx="1954080" cy="1233720"/>
                </a:xfrm>
                <a:custGeom>
                  <a:avLst/>
                  <a:gdLst/>
                  <a:ahLst/>
                  <a:rect l="l" t="t" r="r" b="b"/>
                  <a:pathLst>
                    <a:path w="3077" h="1297">
                      <a:moveTo>
                        <a:pt x="0" y="211"/>
                      </a:moveTo>
                      <a:cubicBezTo>
                        <a:pt x="151" y="105"/>
                        <a:pt x="302" y="0"/>
                        <a:pt x="543" y="30"/>
                      </a:cubicBezTo>
                      <a:cubicBezTo>
                        <a:pt x="784" y="60"/>
                        <a:pt x="1086" y="332"/>
                        <a:pt x="1448" y="392"/>
                      </a:cubicBezTo>
                      <a:cubicBezTo>
                        <a:pt x="1810" y="452"/>
                        <a:pt x="2444" y="241"/>
                        <a:pt x="2715" y="392"/>
                      </a:cubicBezTo>
                      <a:cubicBezTo>
                        <a:pt x="2986" y="543"/>
                        <a:pt x="3031" y="920"/>
                        <a:pt x="3077" y="129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2259000" y="2286000"/>
              <a:ext cx="17240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равнение угл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286000" y="4495680"/>
            <a:ext cx="4286160" cy="2049480"/>
            <a:chOff x="2286000" y="4495680"/>
            <a:chExt cx="4286160" cy="2049480"/>
          </a:xfrm>
        </p:grpSpPr>
        <p:grpSp>
          <p:nvGrpSpPr>
            <p:cNvPr id="190" name=""/>
            <p:cNvGrpSpPr/>
            <p:nvPr/>
          </p:nvGrpSpPr>
          <p:grpSpPr>
            <a:xfrm>
              <a:off x="2286000" y="4495680"/>
              <a:ext cx="4286160" cy="2049480"/>
              <a:chOff x="2286000" y="4495680"/>
              <a:chExt cx="4286160" cy="2049480"/>
            </a:xfrm>
          </p:grpSpPr>
          <p:sp>
            <p:nvSpPr>
              <p:cNvPr id="191" name=""/>
              <p:cNvSpPr/>
              <p:nvPr/>
            </p:nvSpPr>
            <p:spPr>
              <a:xfrm>
                <a:off x="2286000" y="4495680"/>
                <a:ext cx="2619360" cy="2037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05360" y="4495680"/>
                <a:ext cx="1666800" cy="2049480"/>
              </a:xfrm>
              <a:prstGeom prst="rtTriangl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768640" y="5608440"/>
              <a:ext cx="803520" cy="926640"/>
              <a:chOff x="5768640" y="5608440"/>
              <a:chExt cx="803520" cy="926640"/>
            </a:xfrm>
          </p:grpSpPr>
          <p:sp>
            <p:nvSpPr>
              <p:cNvPr id="194" name=""/>
              <p:cNvSpPr/>
              <p:nvPr/>
            </p:nvSpPr>
            <p:spPr>
              <a:xfrm>
                <a:off x="6572160" y="5656680"/>
                <a:ext cx="0" cy="87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768640" y="6535080"/>
                <a:ext cx="80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 rot="10800000">
                <a:off x="5768640" y="5608440"/>
                <a:ext cx="803520" cy="926640"/>
              </a:xfrm>
              <a:custGeom>
                <a:avLst/>
                <a:gdLst/>
                <a:ahLst/>
                <a:rect l="l" t="t" r="r" b="b"/>
                <a:pathLst>
                  <a:path w="1086" h="1146">
                    <a:moveTo>
                      <a:pt x="0" y="60"/>
                    </a:moveTo>
                    <a:cubicBezTo>
                      <a:pt x="136" y="30"/>
                      <a:pt x="272" y="0"/>
                      <a:pt x="362" y="60"/>
                    </a:cubicBezTo>
                    <a:cubicBezTo>
                      <a:pt x="452" y="120"/>
                      <a:pt x="453" y="332"/>
                      <a:pt x="543" y="422"/>
                    </a:cubicBezTo>
                    <a:cubicBezTo>
                      <a:pt x="633" y="512"/>
                      <a:pt x="815" y="482"/>
                      <a:pt x="905" y="603"/>
                    </a:cubicBezTo>
                    <a:cubicBezTo>
                      <a:pt x="995" y="724"/>
                      <a:pt x="1040" y="935"/>
                      <a:pt x="1086" y="114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099680" y="4495680"/>
              <a:ext cx="803520" cy="926640"/>
              <a:chOff x="4099680" y="4495680"/>
              <a:chExt cx="803520" cy="9266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903200" y="4496040"/>
                <a:ext cx="0" cy="87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099680" y="4495680"/>
                <a:ext cx="80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0800000">
                <a:off x="4099680" y="4495680"/>
                <a:ext cx="803520" cy="926640"/>
              </a:xfrm>
              <a:custGeom>
                <a:avLst/>
                <a:gdLst/>
                <a:ahLst/>
                <a:rect l="l" t="t" r="r" b="b"/>
                <a:pathLst>
                  <a:path w="1086" h="1146">
                    <a:moveTo>
                      <a:pt x="0" y="60"/>
                    </a:moveTo>
                    <a:cubicBezTo>
                      <a:pt x="136" y="30"/>
                      <a:pt x="272" y="0"/>
                      <a:pt x="362" y="60"/>
                    </a:cubicBezTo>
                    <a:cubicBezTo>
                      <a:pt x="452" y="120"/>
                      <a:pt x="453" y="332"/>
                      <a:pt x="543" y="422"/>
                    </a:cubicBezTo>
                    <a:cubicBezTo>
                      <a:pt x="633" y="512"/>
                      <a:pt x="815" y="482"/>
                      <a:pt x="905" y="603"/>
                    </a:cubicBezTo>
                    <a:cubicBezTo>
                      <a:pt x="995" y="724"/>
                      <a:pt x="1040" y="935"/>
                      <a:pt x="1086" y="114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286000" y="4495680"/>
              <a:ext cx="803520" cy="926640"/>
              <a:chOff x="2286000" y="4495680"/>
              <a:chExt cx="803520" cy="92664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286000" y="4496040"/>
                <a:ext cx="0" cy="87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0" y="4495680"/>
                <a:ext cx="80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2286000" y="4495680"/>
                <a:ext cx="803520" cy="926640"/>
              </a:xfrm>
              <a:custGeom>
                <a:avLst/>
                <a:gdLst/>
                <a:ahLst/>
                <a:rect l="l" t="t" r="r" b="b"/>
                <a:pathLst>
                  <a:path w="1086" h="1146">
                    <a:moveTo>
                      <a:pt x="0" y="60"/>
                    </a:moveTo>
                    <a:cubicBezTo>
                      <a:pt x="136" y="30"/>
                      <a:pt x="272" y="0"/>
                      <a:pt x="362" y="60"/>
                    </a:cubicBezTo>
                    <a:cubicBezTo>
                      <a:pt x="452" y="120"/>
                      <a:pt x="453" y="332"/>
                      <a:pt x="543" y="422"/>
                    </a:cubicBezTo>
                    <a:cubicBezTo>
                      <a:pt x="633" y="512"/>
                      <a:pt x="815" y="482"/>
                      <a:pt x="905" y="603"/>
                    </a:cubicBezTo>
                    <a:cubicBezTo>
                      <a:pt x="995" y="724"/>
                      <a:pt x="1040" y="935"/>
                      <a:pt x="1086" y="114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286000" y="5608440"/>
              <a:ext cx="803520" cy="926640"/>
              <a:chOff x="2286000" y="5608440"/>
              <a:chExt cx="803520" cy="926640"/>
            </a:xfrm>
          </p:grpSpPr>
          <p:sp>
            <p:nvSpPr>
              <p:cNvPr id="206" name=""/>
              <p:cNvSpPr/>
              <p:nvPr/>
            </p:nvSpPr>
            <p:spPr>
              <a:xfrm>
                <a:off x="2286000" y="5656680"/>
                <a:ext cx="0" cy="87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86000" y="6535080"/>
                <a:ext cx="80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86000" y="5608440"/>
                <a:ext cx="803520" cy="926640"/>
              </a:xfrm>
              <a:custGeom>
                <a:avLst/>
                <a:gdLst/>
                <a:ahLst/>
                <a:rect l="l" t="t" r="r" b="b"/>
                <a:pathLst>
                  <a:path w="1086" h="1146">
                    <a:moveTo>
                      <a:pt x="0" y="60"/>
                    </a:moveTo>
                    <a:cubicBezTo>
                      <a:pt x="136" y="30"/>
                      <a:pt x="272" y="0"/>
                      <a:pt x="362" y="60"/>
                    </a:cubicBezTo>
                    <a:cubicBezTo>
                      <a:pt x="452" y="120"/>
                      <a:pt x="453" y="332"/>
                      <a:pt x="543" y="422"/>
                    </a:cubicBezTo>
                    <a:cubicBezTo>
                      <a:pt x="633" y="512"/>
                      <a:pt x="815" y="482"/>
                      <a:pt x="905" y="603"/>
                    </a:cubicBezTo>
                    <a:cubicBezTo>
                      <a:pt x="995" y="724"/>
                      <a:pt x="1040" y="935"/>
                      <a:pt x="1086" y="114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истем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ический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этап. 7-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609480"/>
            <a:ext cx="899172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курса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ет работы по структур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мы: как выделять условие, заключ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К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к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 формулировать умозаключ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а дедуктивного вывода (общее положение, частное утверждение – вывод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теоремы сформулированы в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категорич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ет разъясн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а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от противн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ет образ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ой записи и доказательства (только у Руденко), нет разбиения на шаг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а проведены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интетически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Дальнейшее об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914400"/>
            <a:ext cx="822960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ходу изучения геометрии эти вопросы разъясняю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ю следует иметь в виду, что аксиомы принимаются без доказательства не потому, что они очевидны, а потому что они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уть первые предлож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доказательства которых еще нет никакого исходного материа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ить внимание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озникновению первых доказательст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алес Милетск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вым начал игру в «докажи», «почему это так», а не готовый рецепт к действи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теоре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ертикальных уг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етодические рекомендации к из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учению 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62120"/>
            <a:ext cx="9144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есе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возникновении и развитии геометр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оде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ских и пространственных фигур, выявить различие, ввести название раздела –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ланиметр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ямая, точк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одятся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а наглядной основ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четом представлений, сложившихся у учащихся в результате опыта и изучения математики в 1-6 класса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нить, что прямая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безграничн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е можно представить лишь мысленно, а на рисунке – часть прям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Замеч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20968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личие от пропедевтического этапа: 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ейшие понятия планиметрии – точка, прямая –предстаю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новом вид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сновные понят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ойства которых раскрываются в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ксиома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рактиче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батываются знания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 взаимном расположении точек и прям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итают по записи, выполняют запись по рисунку и характеризуют. Должны усвоить: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 каждой прямой лежит сколько угодно точек и вне каждой прямой – тож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 проведении прямой через две точ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рактиче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 положения являются наглядно очевидными и не вызывают сомнений.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начала провести прямую через одну точку, убедиться, что их несколько, затем задать вторую точку и убедиться в единственности прямой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делать вывод: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ерез любые две точки можно провести прямую и притом только одн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рисовать образец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мую можно обозначать двумя большими латинскими букв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57120"/>
            <a:ext cx="556236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людей, усвоивших великие принципы математики, одним органом чувств больше, чем у простых смертных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Дарв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 одно человеческое исследование не может назваться истинной наукой, если оно не прошло через математические доказательств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ардо да Вин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Винчи" descr=""/>
          <p:cNvPicPr/>
          <p:nvPr/>
        </p:nvPicPr>
        <p:blipFill>
          <a:blip r:embed="rId1"/>
          <a:stretch/>
        </p:blipFill>
        <p:spPr>
          <a:xfrm>
            <a:off x="6448320" y="3581280"/>
            <a:ext cx="24624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Дарвин%20Чарльз%201880" descr=""/>
          <p:cNvPicPr/>
          <p:nvPr/>
        </p:nvPicPr>
        <p:blipFill>
          <a:blip r:embed="rId2"/>
          <a:stretch/>
        </p:blipFill>
        <p:spPr>
          <a:xfrm>
            <a:off x="6485040" y="152280"/>
            <a:ext cx="2439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1219320"/>
            <a:ext cx="86104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ллюстрация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содержания аксиомы примерами, на моделях, в практической работ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формулировка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иллюстраци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исунком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раткая запись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нализ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математического содерж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схема введения аксиом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ервые теор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380880"/>
            <a:ext cx="86104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лучаи взаимного расположения двух прямых на плоско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рисунках, практические работы, вопросы). Усвоить: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ве прямые либо имеют одну общую точку, либо не имеют общих точе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десь аксиома прямой используется при доказательстве первых предложений, которые еще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носят название теор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противног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шении задач опираться на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аглядные предст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х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Могут ли прямые ОА и АВ быть различными, если точка О лежит на прямой АВ? (Не могут, так как обе они проходят через точки А и О, а через две точки проходит только одна пряма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етодика введения понятий о простейших фигур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143000"/>
            <a:ext cx="86104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резок, луч, уго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вые понятия, которым даются более или менее строгие определения –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асти прямой или плоскости, ограниченные точками или луч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детально рассматриваются свойства расположения точек на прямой, прямых на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Цел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 понятие отрезка, понятия луча, дополнительных лучей, угла как геометрической фигуры, внутренней и внешней области, его видов, обозначения луча и угла, с символической записью принадле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Отрез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685800"/>
            <a:ext cx="84582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отрезка ввест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 помощью рисун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делив ча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точки – концы отрезка, принадлежащие 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очки, лежащие между его кон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ю какой, известной нам фигуры является отрезок? (Прямой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отрезок – это часть прямой, ограниченная двумя точками и включающая все точки, лежащие между его концами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Луч, уг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762120"/>
            <a:ext cx="853416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исатель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одится понятие луча,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м точку на прямой, разобьет на две части – луч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к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асти прямой, ограниченной одной точкой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угла вводится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ормально-логиче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еометрическая фигура, которая состоит из точки и двух лучей, исходящих из этой точ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и этом оно имеет двоякий смыс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очка и два луча, из нее исходя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Угол с внутренней область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ике Атанасяна отражены оба под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imes New Roman"/>
              </a:rPr>
              <a:t>Упражнения на готовых чертеж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90720" y="1219320"/>
            <a:ext cx="7619400" cy="4647600"/>
            <a:chOff x="990720" y="1219320"/>
            <a:chExt cx="7619400" cy="4647600"/>
          </a:xfrm>
        </p:grpSpPr>
        <p:grpSp>
          <p:nvGrpSpPr>
            <p:cNvPr id="230" name=""/>
            <p:cNvGrpSpPr/>
            <p:nvPr/>
          </p:nvGrpSpPr>
          <p:grpSpPr>
            <a:xfrm>
              <a:off x="1457280" y="1623240"/>
              <a:ext cx="6531120" cy="1414440"/>
              <a:chOff x="1457280" y="1623240"/>
              <a:chExt cx="6531120" cy="1414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457280" y="1825560"/>
                <a:ext cx="1243800" cy="1006200"/>
                <a:chOff x="1457280" y="1825560"/>
                <a:chExt cx="1243800" cy="10062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457280" y="1825560"/>
                  <a:ext cx="1243800" cy="40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920960" y="2225880"/>
                  <a:ext cx="311040" cy="605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3478680" y="2027520"/>
                <a:ext cx="1088280" cy="40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478680" y="2633760"/>
                <a:ext cx="466200" cy="40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89040" y="2027520"/>
                <a:ext cx="93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55600" y="2229840"/>
                <a:ext cx="311040" cy="60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899760" y="1623240"/>
                <a:ext cx="777240" cy="80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7988400" y="1825200"/>
                <a:ext cx="0" cy="80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457280" y="4048560"/>
              <a:ext cx="6838920" cy="1414080"/>
              <a:chOff x="1457280" y="4048560"/>
              <a:chExt cx="6838920" cy="141408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1457280" y="4253760"/>
                <a:ext cx="1088280" cy="40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765440" y="4654080"/>
                <a:ext cx="621720" cy="80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73280" y="4246920"/>
                <a:ext cx="1088280" cy="20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786480" y="4654440"/>
                <a:ext cx="466200" cy="60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42040" y="4048560"/>
                <a:ext cx="777240" cy="60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5186520" y="5058360"/>
                <a:ext cx="777240" cy="20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052400" y="4048560"/>
                <a:ext cx="1243800" cy="40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07920" y="4654440"/>
                <a:ext cx="777240" cy="80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1301760" y="162360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01440" y="142128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23840" y="263376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12120" y="263376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5240" y="243180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66640" y="142128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10800" y="1219320"/>
              <a:ext cx="621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8360" y="142128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99760" y="222948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78680" y="162360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4920" y="222948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88400" y="243180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90720" y="425052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00760" y="465444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3880" y="5260680"/>
              <a:ext cx="621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99760" y="465444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67960" y="5260680"/>
              <a:ext cx="621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12120" y="404856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9400" y="4048560"/>
              <a:ext cx="621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55640" y="3644280"/>
              <a:ext cx="621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ор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380880"/>
            <a:ext cx="8610480" cy="69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тся две первые теоремы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 смежны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ертикальных угл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глы смежные, у которых одна сторона общая, а две другие являются продолжениями одна друг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ов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орема, доказательст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т.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Шаг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уждений и обоснования не выделены. Доказательство просто и опирается на интуицию, здравый смысл. Если детализировать, то будет загромождено, можно представи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              Углы смеж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              Одна сторона является продолжением другой, значит обе стороны лежат на одной прям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              Если стороны угла лежат на одной прямой, то угол развернуты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              Его мера – 18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              Значит сумма углов – 18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уть матема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238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ее 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дедуктивный мето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е способность вывести все свои утверждения из немногих основных, называемых 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ксиом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четкая формулировка аксиом, как правило, завершает целый этап ее развития, оформляет достигнутые результаты. Принципы – не исходный пункт исследования, а его конечный результ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ан л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480"/>
            <a:ext cx="86868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темы в школьном курсе математики. Характеристика знаний учащихся и особенности проведения первых уро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 к те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ы методики введения понятий о простейших фигурах, акси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-пропедевт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4.       Методические рекомендации к изучению 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о 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85800"/>
            <a:ext cx="83059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а систематического курса планиметрии посвящены изучению простейших геометрических фигур 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очка, прямая, отрезок, луч, уго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их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войст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7 клас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удности первых уроков систематического курса геометрии обусло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838080"/>
            <a:ext cx="85345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Выделением курса геометрии в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пециальну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матическую дисциплин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овиз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ы кур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Резким повышением уровня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трогости л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ужде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бстрактность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а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Введением большого количества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овы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ятий, терминов, непривычной символик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есформированность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ыков обобщения, абстрагир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арактеристика знаний учащихся. 7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76120"/>
            <a:ext cx="8915400" cy="66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геометрические представления о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фигур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их взаимном распо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меют представления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о методе геометр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комство с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новыми фигура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воссоздание их образа и усвоение свой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владение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терминологи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геометрическим язы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от наивных представлений к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бстрактным понятия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их определения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геометрических фактов к их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доказательств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жается сторона аксиоматического метода, связанная с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логической организаци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атериа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временное изучение на интуитивном уровне и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дедуктивно постро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ео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cc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чно освящается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суть аксиоматического мет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новные принципы метод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741240"/>
            <a:ext cx="883908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Постепенность перехода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от конкретного к абстрактному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Обращение к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агляд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кружающей действитель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Воспитание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потребности в доказательств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верждений; (критическ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шен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заключениям, основанным на неполной индукции; использо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енности зрительных восприят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иллюзии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показ относительнос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измерен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Обучение умению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обосновыва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матические предлож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Помощь в ориентации в аксиомах, определениях, теоремах, постепенное знакомство с </a:t>
            </a: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логическим строени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рса планимет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58" name=""/>
            <p:cNvSpPr/>
            <p:nvPr/>
          </p:nvSpPr>
          <p:spPr>
            <a:xfrm>
              <a:off x="2469240" y="0"/>
              <a:ext cx="2620080" cy="75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ОСНОВНЫЕ 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неопределяем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52920" y="866160"/>
              <a:ext cx="1695240" cy="3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cc"/>
                  </a:solidFill>
                  <a:latin typeface="Times New Roman"/>
                </a:rPr>
                <a:t>ТОЧ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2240" y="866160"/>
              <a:ext cx="1695240" cy="3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cc"/>
                  </a:solidFill>
                  <a:latin typeface="Times New Roman"/>
                </a:rPr>
                <a:t>ПРЯМ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7400" y="1624320"/>
              <a:ext cx="1849320" cy="21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cc"/>
                  </a:solidFill>
                  <a:latin typeface="Times New Roman"/>
                </a:rPr>
                <a:t>РАСПОЛОЖ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77400" y="1299600"/>
              <a:ext cx="1849320" cy="21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cc"/>
                  </a:solidFill>
                  <a:latin typeface="Times New Roman"/>
                </a:rPr>
                <a:t>ОБОЗНАЧ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41280" y="1299600"/>
              <a:ext cx="1227960" cy="32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,В,С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35240" y="1299600"/>
              <a:ext cx="939960" cy="32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,b,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254760" y="2066040"/>
              <a:ext cx="941400" cy="542520"/>
              <a:chOff x="3254760" y="2066040"/>
              <a:chExt cx="941400" cy="542520"/>
            </a:xfrm>
          </p:grpSpPr>
          <p:sp>
            <p:nvSpPr>
              <p:cNvPr id="66" name=""/>
              <p:cNvSpPr/>
              <p:nvPr/>
            </p:nvSpPr>
            <p:spPr>
              <a:xfrm>
                <a:off x="3254760" y="2066040"/>
                <a:ext cx="941400" cy="54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33320" y="2165040"/>
                <a:ext cx="15408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66760" y="2410200"/>
                <a:ext cx="15372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7284240" y="1848240"/>
              <a:ext cx="856800" cy="614880"/>
              <a:chOff x="7284240" y="1848240"/>
              <a:chExt cx="856800" cy="614880"/>
            </a:xfrm>
          </p:grpSpPr>
          <p:sp>
            <p:nvSpPr>
              <p:cNvPr id="70" name=""/>
              <p:cNvSpPr/>
              <p:nvPr/>
            </p:nvSpPr>
            <p:spPr>
              <a:xfrm>
                <a:off x="7604280" y="2112840"/>
                <a:ext cx="15408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284240" y="1914120"/>
                <a:ext cx="856800" cy="54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7396920" y="1848240"/>
                <a:ext cx="630720" cy="5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084680" y="1957320"/>
              <a:ext cx="770400" cy="433080"/>
              <a:chOff x="1084680" y="1957320"/>
              <a:chExt cx="770400" cy="433080"/>
            </a:xfrm>
          </p:grpSpPr>
          <p:sp>
            <p:nvSpPr>
              <p:cNvPr id="74" name=""/>
              <p:cNvSpPr/>
              <p:nvPr/>
            </p:nvSpPr>
            <p:spPr>
              <a:xfrm>
                <a:off x="1084680" y="1957320"/>
                <a:ext cx="770400" cy="43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88160" y="2116080"/>
                <a:ext cx="154080" cy="108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169720" y="1957320"/>
              <a:ext cx="770400" cy="433080"/>
              <a:chOff x="2169720" y="1957320"/>
              <a:chExt cx="770400" cy="433080"/>
            </a:xfrm>
          </p:grpSpPr>
          <p:sp>
            <p:nvSpPr>
              <p:cNvPr id="77" name=""/>
              <p:cNvSpPr/>
              <p:nvPr/>
            </p:nvSpPr>
            <p:spPr>
              <a:xfrm>
                <a:off x="2169720" y="1957320"/>
                <a:ext cx="770400" cy="43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50680" y="2072160"/>
                <a:ext cx="154080" cy="108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199200" y="1848240"/>
              <a:ext cx="873720" cy="552240"/>
              <a:chOff x="6199200" y="1848240"/>
              <a:chExt cx="873720" cy="552240"/>
            </a:xfrm>
          </p:grpSpPr>
          <p:sp>
            <p:nvSpPr>
              <p:cNvPr id="80" name=""/>
              <p:cNvSpPr/>
              <p:nvPr/>
            </p:nvSpPr>
            <p:spPr>
              <a:xfrm>
                <a:off x="6302520" y="1848240"/>
                <a:ext cx="770400" cy="43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199200" y="1967400"/>
                <a:ext cx="770400" cy="43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649400" y="1957320"/>
              <a:ext cx="1387080" cy="53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В,СD…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54760" y="3808440"/>
              <a:ext cx="1695240" cy="3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ОТРЕЗО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07600" y="4642560"/>
              <a:ext cx="1695240" cy="3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ЛУ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7600" y="5731560"/>
              <a:ext cx="1695240" cy="3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УГО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34480" y="3046320"/>
              <a:ext cx="4339440" cy="65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ПРОСТЕЙШИЕ ГЕОМЕТРИЧЕСКИЕ ФИГУРЫ определяем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24480" y="977040"/>
              <a:ext cx="29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8920" y="977040"/>
              <a:ext cx="0" cy="41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947480" y="3892680"/>
              <a:ext cx="34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58960" y="3264120"/>
              <a:ext cx="464760" cy="32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19560" y="977040"/>
              <a:ext cx="123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9920" y="977040"/>
              <a:ext cx="0" cy="522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7680" y="3892680"/>
              <a:ext cx="263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4760" y="3264120"/>
              <a:ext cx="464760" cy="32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947480" y="4764240"/>
              <a:ext cx="34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47080" y="4219560"/>
              <a:ext cx="464760" cy="32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7680" y="4764240"/>
              <a:ext cx="263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2880" y="4219560"/>
              <a:ext cx="464760" cy="32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09560" y="5006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97680" y="4219560"/>
              <a:ext cx="1239480" cy="32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В, 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19520" y="5115600"/>
              <a:ext cx="1239480" cy="32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А, 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13840" y="6167160"/>
              <a:ext cx="232452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hk, 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O,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A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79280" y="4897800"/>
              <a:ext cx="3564360" cy="188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СРАВН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Наложение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авные фигуры, середина отрезка, биссектриса угл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ИЗМЕР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равнением с единицей измерения, сколько раз укладывается – число=дли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рямой, острый, тупо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5986800"/>
              <a:ext cx="2634480" cy="87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тороны, вершина, развернутый, внутренняя, внешняя область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99600" y="5224320"/>
              <a:ext cx="464760" cy="32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9920" y="5878080"/>
              <a:ext cx="263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60" y="5442120"/>
              <a:ext cx="464760" cy="32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479680" y="14126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9400" y="14126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169720" y="432360"/>
              <a:ext cx="30960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14520" y="323640"/>
              <a:ext cx="15480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9400" y="1521360"/>
              <a:ext cx="464760" cy="43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339440" y="2610720"/>
              <a:ext cx="185976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9360" y="4026600"/>
              <a:ext cx="619920" cy="13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959360" y="5333400"/>
              <a:ext cx="61992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4400" y="2610720"/>
              <a:ext cx="1827000" cy="32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АКСИО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01992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4:58:46Z</dcterms:created>
  <dc:creator>terminator</dc:creator>
  <dc:description/>
  <dc:language>en-US</dc:language>
  <cp:lastModifiedBy>terminator</cp:lastModifiedBy>
  <dcterms:modified xsi:type="dcterms:W3CDTF">2010-09-07T15:07:26Z</dcterms:modified>
  <cp:revision>23</cp:revision>
  <dc:subject/>
  <dc:title>Лекция №2  Методика изучения первых аксиом, теорем, понятий о простейших фигурах </dc:title>
</cp:coreProperties>
</file>