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10E5-68E9-4B64-9869-6912AC701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AF10-5560-4518-B143-3152C30B0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BF25-8360-4A6B-AEDD-AC59093F3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5D50-6CC1-4B98-A45A-B9ACC0949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C7F5-7675-4C29-B364-CD00E9AE6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D7AF-4EBB-4632-9894-634FD6796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381D-3850-4830-AE48-85CD1598C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43F8-FA93-4B55-9F7C-FAED38FE8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0A9E-E499-499C-A564-FD5A109D7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D74D-C25D-43BD-B8FD-2AFFF208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8D67-CA82-4CC8-849D-8C618A24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6250-E601-40B4-A062-748FC4E2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2806C-787D-480F-A5CE-99BA2EC0F1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99"/>
                </a:solidFill>
                <a:latin typeface="Times New Roman"/>
              </a:rPr>
              <a:t>Лекция №3</a:t>
            </a:r>
            <a:br>
              <a:rPr sz="4800"/>
            </a:br>
            <a:r>
              <a:rPr b="1" lang="ru-RU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Методика изучения геометрических фигу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Пути введения понятия многоугольника и его вид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762120"/>
            <a:ext cx="8686800" cy="57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Конкретно-индуктивн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орело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А.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1. Треугольники и четырехугольники, их свойст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2. Общее понятие многоугольни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ие многоугольника усваивается более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осознанн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благодаря изученным частным объекта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анасян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Л.С. 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комбинированн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Классификация многоугольни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762120"/>
            <a:ext cx="861048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угольники </a:t>
            </a:r>
            <a:r>
              <a:rPr b="1" lang="ru-RU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классифицируются по числу углов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Первый вид – треугольник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едевтический этап – дошкольное воспитание и начальная школа. Определение – конструктивно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Атанасян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ЧАНИЕ: если понятия имеют взаимопересечения, удобно пользоваться таблиц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3854520" y="3124080"/>
            <a:ext cx="4039560" cy="2759040"/>
            <a:chOff x="3854520" y="3124080"/>
            <a:chExt cx="4039560" cy="2759040"/>
          </a:xfrm>
        </p:grpSpPr>
        <p:sp>
          <p:nvSpPr>
            <p:cNvPr id="103" name=""/>
            <p:cNvSpPr/>
            <p:nvPr/>
          </p:nvSpPr>
          <p:spPr>
            <a:xfrm>
              <a:off x="5692680" y="3125160"/>
              <a:ext cx="574560" cy="80460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037760" y="4043520"/>
              <a:ext cx="689400" cy="804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854520" y="3124080"/>
              <a:ext cx="1102680" cy="794520"/>
            </a:xfrm>
            <a:prstGeom prst="triangle">
              <a:avLst>
                <a:gd name="adj" fmla="val 7467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00600" y="4963320"/>
              <a:ext cx="987840" cy="804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12717000">
              <a:off x="6727320" y="3467880"/>
              <a:ext cx="1196640" cy="228600"/>
            </a:xfrm>
            <a:prstGeom prst="triangle">
              <a:avLst>
                <a:gd name="adj" fmla="val 3034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 rot="13486200">
              <a:off x="5463360" y="4388400"/>
              <a:ext cx="920160" cy="4471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12140400">
              <a:off x="6612480" y="4388400"/>
              <a:ext cx="1272960" cy="2671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084200" y="4388760"/>
              <a:ext cx="229680" cy="11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4429080" y="4388760"/>
              <a:ext cx="229680" cy="11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693400" y="4503600"/>
              <a:ext cx="114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038280" y="4733280"/>
              <a:ext cx="0" cy="11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6957360" y="4388760"/>
              <a:ext cx="114840" cy="11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17440" y="4503600"/>
              <a:ext cx="0" cy="22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084200" y="5308200"/>
              <a:ext cx="114840" cy="11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4543920" y="5308200"/>
              <a:ext cx="229680" cy="11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429080" y="5653440"/>
              <a:ext cx="0" cy="22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762120" y="1219320"/>
            <a:ext cx="7772040" cy="5028840"/>
            <a:chOff x="762120" y="1219320"/>
            <a:chExt cx="7772040" cy="5028840"/>
          </a:xfrm>
        </p:grpSpPr>
        <p:grpSp>
          <p:nvGrpSpPr>
            <p:cNvPr id="120" name=""/>
            <p:cNvGrpSpPr/>
            <p:nvPr/>
          </p:nvGrpSpPr>
          <p:grpSpPr>
            <a:xfrm>
              <a:off x="767880" y="1224720"/>
              <a:ext cx="7759800" cy="5017320"/>
              <a:chOff x="767880" y="1224720"/>
              <a:chExt cx="7759800" cy="5017320"/>
            </a:xfrm>
          </p:grpSpPr>
          <p:grpSp>
            <p:nvGrpSpPr>
              <p:cNvPr id="121" name=""/>
              <p:cNvGrpSpPr/>
              <p:nvPr/>
            </p:nvGrpSpPr>
            <p:grpSpPr>
              <a:xfrm>
                <a:off x="767880" y="1224720"/>
                <a:ext cx="2877120" cy="1689840"/>
                <a:chOff x="767880" y="1224720"/>
                <a:chExt cx="2877120" cy="1689840"/>
              </a:xfrm>
            </p:grpSpPr>
            <p:grpSp>
              <p:nvGrpSpPr>
                <p:cNvPr id="122" name=""/>
                <p:cNvGrpSpPr/>
                <p:nvPr/>
              </p:nvGrpSpPr>
              <p:grpSpPr>
                <a:xfrm>
                  <a:off x="853920" y="1224720"/>
                  <a:ext cx="2706840" cy="1522800"/>
                  <a:chOff x="853920" y="1224720"/>
                  <a:chExt cx="2706840" cy="1522800"/>
                </a:xfrm>
              </p:grpSpPr>
              <p:sp>
                <p:nvSpPr>
                  <p:cNvPr id="123" name=""/>
                  <p:cNvSpPr/>
                  <p:nvPr/>
                </p:nvSpPr>
                <p:spPr>
                  <a:xfrm>
                    <a:off x="853920" y="1224720"/>
                    <a:ext cx="2705040" cy="65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sp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По углам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>
                    <a:off x="853920" y="2152800"/>
                    <a:ext cx="2706840" cy="594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По сторонам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5" name=""/>
                <p:cNvSpPr/>
                <p:nvPr/>
              </p:nvSpPr>
              <p:spPr>
                <a:xfrm>
                  <a:off x="767880" y="1224720"/>
                  <a:ext cx="2877120" cy="168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3645360" y="1224720"/>
                <a:ext cx="1593360" cy="1689840"/>
                <a:chOff x="3645360" y="1224720"/>
                <a:chExt cx="1593360" cy="168984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3729600" y="1224720"/>
                  <a:ext cx="1424880" cy="168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остроугольные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645360" y="1224720"/>
                  <a:ext cx="1593360" cy="168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5239440" y="1224720"/>
                <a:ext cx="1647720" cy="1689840"/>
                <a:chOff x="5239440" y="1224720"/>
                <a:chExt cx="1647720" cy="168984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5323320" y="1224720"/>
                  <a:ext cx="1479600" cy="168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прямоугольные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5239440" y="1224720"/>
                  <a:ext cx="1647720" cy="168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6887880" y="1224720"/>
                <a:ext cx="1639800" cy="1689840"/>
                <a:chOff x="6887880" y="1224720"/>
                <a:chExt cx="1639800" cy="168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6971760" y="1224720"/>
                  <a:ext cx="1472040" cy="168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тупоугольные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6887880" y="1224720"/>
                  <a:ext cx="1639800" cy="168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767880" y="2914920"/>
                <a:ext cx="2707200" cy="1040400"/>
                <a:chOff x="767880" y="2914920"/>
                <a:chExt cx="2707200" cy="104040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852120" y="2914920"/>
                  <a:ext cx="2538720" cy="104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Разносторон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767880" y="2914920"/>
                  <a:ext cx="2707200" cy="1040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3475440" y="2914920"/>
                <a:ext cx="1593000" cy="1040400"/>
                <a:chOff x="3475440" y="2914920"/>
                <a:chExt cx="1593000" cy="104040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3559320" y="2914920"/>
                  <a:ext cx="1425240" cy="104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475440" y="2914920"/>
                  <a:ext cx="1593000" cy="1040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5068800" y="2914920"/>
                <a:ext cx="1647720" cy="1040400"/>
                <a:chOff x="5068800" y="2914920"/>
                <a:chExt cx="1647720" cy="104040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5153040" y="2914920"/>
                  <a:ext cx="1479600" cy="104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8800" y="2914920"/>
                  <a:ext cx="1647720" cy="1040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6717240" y="2914920"/>
                <a:ext cx="1639800" cy="1040400"/>
                <a:chOff x="6717240" y="2914920"/>
                <a:chExt cx="1639800" cy="104040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6801480" y="2914920"/>
                  <a:ext cx="1471680" cy="104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717240" y="2914920"/>
                  <a:ext cx="1639800" cy="1040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767880" y="3955680"/>
                <a:ext cx="1240920" cy="2286360"/>
                <a:chOff x="767880" y="3955680"/>
                <a:chExt cx="1240920" cy="228636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852120" y="3955680"/>
                  <a:ext cx="1072440" cy="228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Равнобедренные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67880" y="3955680"/>
                  <a:ext cx="1240920" cy="228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2009160" y="3955680"/>
                <a:ext cx="1465920" cy="1019520"/>
                <a:chOff x="2009160" y="3955680"/>
                <a:chExt cx="1465920" cy="10195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2093040" y="3955680"/>
                  <a:ext cx="1297800" cy="101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Неравно-сторонние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2009160" y="3955680"/>
                  <a:ext cx="1465920" cy="101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475440" y="3955680"/>
                <a:ext cx="1593000" cy="1019520"/>
                <a:chOff x="3475440" y="3955680"/>
                <a:chExt cx="1593000" cy="101952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3559320" y="3955680"/>
                  <a:ext cx="1425240" cy="101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75440" y="3955680"/>
                  <a:ext cx="1593000" cy="101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5068800" y="3955680"/>
                <a:ext cx="1647720" cy="1019520"/>
                <a:chOff x="5068800" y="3955680"/>
                <a:chExt cx="1647720" cy="10195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5153040" y="3955680"/>
                  <a:ext cx="1479600" cy="101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5068800" y="3955680"/>
                  <a:ext cx="1647720" cy="101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6717240" y="3955680"/>
                <a:ext cx="1639800" cy="1019520"/>
                <a:chOff x="6717240" y="3955680"/>
                <a:chExt cx="1639800" cy="101952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6801480" y="3955680"/>
                  <a:ext cx="1471680" cy="101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717240" y="3955680"/>
                  <a:ext cx="1639800" cy="101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009160" y="4975920"/>
                <a:ext cx="1465920" cy="1266120"/>
                <a:chOff x="2009160" y="4975920"/>
                <a:chExt cx="1465920" cy="126612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093040" y="4975920"/>
                  <a:ext cx="1297800" cy="12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Равно-сторонние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009160" y="4975920"/>
                  <a:ext cx="1465920" cy="12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3475440" y="4975920"/>
                <a:ext cx="1593000" cy="1266120"/>
                <a:chOff x="3475440" y="4975920"/>
                <a:chExt cx="1593000" cy="12661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3559320" y="4975920"/>
                  <a:ext cx="1425240" cy="12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475440" y="4975920"/>
                  <a:ext cx="1593000" cy="12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5068800" y="4975920"/>
                <a:ext cx="1647720" cy="1266120"/>
                <a:chOff x="5068800" y="4975920"/>
                <a:chExt cx="1647720" cy="126612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5153040" y="4975920"/>
                  <a:ext cx="1479600" cy="12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5068800" y="4975920"/>
                  <a:ext cx="1647720" cy="12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6717240" y="4975920"/>
                <a:ext cx="1639800" cy="1266120"/>
                <a:chOff x="6717240" y="4975920"/>
                <a:chExt cx="1639800" cy="126612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6801480" y="4975920"/>
                  <a:ext cx="1471680" cy="12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6717240" y="4975920"/>
                  <a:ext cx="1639800" cy="12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4" name=""/>
            <p:cNvSpPr/>
            <p:nvPr/>
          </p:nvSpPr>
          <p:spPr>
            <a:xfrm>
              <a:off x="762120" y="1219320"/>
              <a:ext cx="7772040" cy="50288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аблиц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Times New Roman"/>
              </a:rPr>
              <a:t>Метод равенств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571680"/>
            <a:ext cx="891540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О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сновн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ой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 мето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казательства теорем и решения зада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метод равенств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Центральный вопрос тем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енство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реугольнико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есть 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частны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учай равенства фигур, таких, какие можно совместить наложением (Атанасян). Понятие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наложени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читается 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интуитивно ясным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изнаки равенства треугольнико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уста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вливаю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надлежность данного объекта к определенному классу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шаги доказательства состоят в последовательном 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аложени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дного из треугольников на другой и доказательства совмещения их при это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Алгоритм использования </a:t>
            </a: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метода </a:t>
            </a:r>
            <a:r>
              <a:rPr b="1" i="1" lang="ru-RU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равенства треугольни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990720"/>
            <a:ext cx="8839080" cy="56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     Указывается 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пар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реугольников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     Выдвигается 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гипотез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 их равенств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     Выделяются 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три пар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ответственно равных элементов этих треугольников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      Выбирается 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призна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енства, в котором присутствуют именно эти пары соответственно равных элементов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      На основании доказанного равенства треугольников делается 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вывод о равенств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х их соответственных 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элементо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ые нужны для решения задачи или доказательства теорем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Задачи на готовых чертежа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838080" y="1900440"/>
            <a:ext cx="7772040" cy="1544400"/>
            <a:chOff x="838080" y="1900440"/>
            <a:chExt cx="7772040" cy="1544400"/>
          </a:xfrm>
        </p:grpSpPr>
        <p:sp>
          <p:nvSpPr>
            <p:cNvPr id="182" name=""/>
            <p:cNvSpPr/>
            <p:nvPr/>
          </p:nvSpPr>
          <p:spPr>
            <a:xfrm>
              <a:off x="1197360" y="2057400"/>
              <a:ext cx="1797480" cy="11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838080" y="2057040"/>
              <a:ext cx="2516400" cy="11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838080" y="2057400"/>
              <a:ext cx="359280" cy="11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2995200" y="2057400"/>
              <a:ext cx="359280" cy="11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455560" y="2255400"/>
              <a:ext cx="179640" cy="39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635560" y="2255400"/>
              <a:ext cx="179640" cy="39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197360" y="2850120"/>
              <a:ext cx="179640" cy="39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377000" y="2850120"/>
              <a:ext cx="179640" cy="39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1556640" y="2255400"/>
              <a:ext cx="17964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2455200" y="2850120"/>
              <a:ext cx="17964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13040" y="2057400"/>
              <a:ext cx="898560" cy="1387440"/>
            </a:xfrm>
            <a:prstGeom prst="triangle">
              <a:avLst>
                <a:gd name="adj" fmla="val 7779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3387000">
              <a:off x="4426560" y="2031840"/>
              <a:ext cx="990720" cy="1258200"/>
            </a:xfrm>
            <a:prstGeom prst="triangle">
              <a:avLst>
                <a:gd name="adj" fmla="val 7779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721400" y="2217240"/>
              <a:ext cx="43560" cy="25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600800" y="2289600"/>
              <a:ext cx="32760" cy="21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5310720" y="2698920"/>
              <a:ext cx="240120" cy="8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5333040" y="2819520"/>
              <a:ext cx="26208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892040" y="2253240"/>
              <a:ext cx="244080" cy="204840"/>
            </a:xfrm>
            <a:custGeom>
              <a:avLst/>
              <a:gdLst/>
              <a:ahLst/>
              <a:rect l="l" t="t" r="r" b="b"/>
              <a:pathLst>
                <a:path w="246" h="187">
                  <a:moveTo>
                    <a:pt x="26" y="0"/>
                  </a:moveTo>
                  <a:cubicBezTo>
                    <a:pt x="13" y="50"/>
                    <a:pt x="0" y="101"/>
                    <a:pt x="37" y="132"/>
                  </a:cubicBezTo>
                  <a:cubicBezTo>
                    <a:pt x="74" y="163"/>
                    <a:pt x="211" y="178"/>
                    <a:pt x="246" y="18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147280" y="2433960"/>
              <a:ext cx="228960" cy="137880"/>
            </a:xfrm>
            <a:custGeom>
              <a:avLst/>
              <a:gdLst/>
              <a:ahLst/>
              <a:rect l="l" t="t" r="r" b="b"/>
              <a:pathLst>
                <a:path w="231" h="126">
                  <a:moveTo>
                    <a:pt x="0" y="0"/>
                  </a:moveTo>
                  <a:cubicBezTo>
                    <a:pt x="30" y="58"/>
                    <a:pt x="61" y="116"/>
                    <a:pt x="99" y="121"/>
                  </a:cubicBezTo>
                  <a:cubicBezTo>
                    <a:pt x="137" y="126"/>
                    <a:pt x="184" y="79"/>
                    <a:pt x="231" y="3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392520" y="2313360"/>
              <a:ext cx="2217600" cy="915120"/>
            </a:xfrm>
            <a:prstGeom prst="parallelogram">
              <a:avLst>
                <a:gd name="adj" fmla="val 605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949800" y="2289600"/>
              <a:ext cx="1114200" cy="9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07960" y="2530440"/>
              <a:ext cx="415080" cy="115920"/>
            </a:xfrm>
            <a:custGeom>
              <a:avLst/>
              <a:gdLst/>
              <a:ahLst/>
              <a:rect l="l" t="t" r="r" b="b"/>
              <a:pathLst>
                <a:path w="418" h="106">
                  <a:moveTo>
                    <a:pt x="0" y="44"/>
                  </a:moveTo>
                  <a:cubicBezTo>
                    <a:pt x="75" y="75"/>
                    <a:pt x="150" y="106"/>
                    <a:pt x="220" y="99"/>
                  </a:cubicBezTo>
                  <a:cubicBezTo>
                    <a:pt x="290" y="92"/>
                    <a:pt x="354" y="46"/>
                    <a:pt x="41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7736400" y="2883960"/>
              <a:ext cx="415080" cy="115920"/>
            </a:xfrm>
            <a:custGeom>
              <a:avLst/>
              <a:gdLst/>
              <a:ahLst/>
              <a:rect l="l" t="t" r="r" b="b"/>
              <a:pathLst>
                <a:path w="418" h="106">
                  <a:moveTo>
                    <a:pt x="0" y="44"/>
                  </a:moveTo>
                  <a:cubicBezTo>
                    <a:pt x="75" y="75"/>
                    <a:pt x="150" y="106"/>
                    <a:pt x="220" y="99"/>
                  </a:cubicBezTo>
                  <a:cubicBezTo>
                    <a:pt x="290" y="92"/>
                    <a:pt x="354" y="46"/>
                    <a:pt x="41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7277400" y="2313360"/>
              <a:ext cx="371160" cy="336960"/>
              <a:chOff x="7277400" y="2313360"/>
              <a:chExt cx="371160" cy="336960"/>
            </a:xfrm>
          </p:grpSpPr>
          <p:sp>
            <p:nvSpPr>
              <p:cNvPr id="205" name=""/>
              <p:cNvSpPr/>
              <p:nvPr/>
            </p:nvSpPr>
            <p:spPr>
              <a:xfrm>
                <a:off x="7277400" y="2313360"/>
                <a:ext cx="200520" cy="228600"/>
              </a:xfrm>
              <a:custGeom>
                <a:avLst/>
                <a:gdLst/>
                <a:ahLst/>
                <a:rect l="l" t="t" r="r" b="b"/>
                <a:pathLst>
                  <a:path w="202" h="209">
                    <a:moveTo>
                      <a:pt x="88" y="0"/>
                    </a:moveTo>
                    <a:cubicBezTo>
                      <a:pt x="145" y="37"/>
                      <a:pt x="202" y="75"/>
                      <a:pt x="187" y="110"/>
                    </a:cubicBezTo>
                    <a:cubicBezTo>
                      <a:pt x="172" y="145"/>
                      <a:pt x="86" y="177"/>
                      <a:pt x="0" y="20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353720" y="2313360"/>
                <a:ext cx="294840" cy="336960"/>
              </a:xfrm>
              <a:custGeom>
                <a:avLst/>
                <a:gdLst/>
                <a:ahLst/>
                <a:rect l="l" t="t" r="r" b="b"/>
                <a:pathLst>
                  <a:path w="286" h="363">
                    <a:moveTo>
                      <a:pt x="198" y="0"/>
                    </a:moveTo>
                    <a:cubicBezTo>
                      <a:pt x="242" y="74"/>
                      <a:pt x="286" y="149"/>
                      <a:pt x="253" y="209"/>
                    </a:cubicBezTo>
                    <a:cubicBezTo>
                      <a:pt x="220" y="269"/>
                      <a:pt x="110" y="316"/>
                      <a:pt x="0" y="36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7541640" y="3000240"/>
              <a:ext cx="238320" cy="228600"/>
            </a:xfrm>
            <a:custGeom>
              <a:avLst/>
              <a:gdLst/>
              <a:ahLst/>
              <a:rect l="l" t="t" r="r" b="b"/>
              <a:pathLst>
                <a:path w="240" h="209">
                  <a:moveTo>
                    <a:pt x="240" y="0"/>
                  </a:moveTo>
                  <a:cubicBezTo>
                    <a:pt x="151" y="10"/>
                    <a:pt x="62" y="20"/>
                    <a:pt x="31" y="55"/>
                  </a:cubicBezTo>
                  <a:cubicBezTo>
                    <a:pt x="0" y="90"/>
                    <a:pt x="26" y="149"/>
                    <a:pt x="53" y="20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441560" y="2903760"/>
              <a:ext cx="272880" cy="300960"/>
            </a:xfrm>
            <a:custGeom>
              <a:avLst/>
              <a:gdLst/>
              <a:ahLst/>
              <a:rect l="l" t="t" r="r" b="b"/>
              <a:pathLst>
                <a:path w="365" h="253">
                  <a:moveTo>
                    <a:pt x="365" y="0"/>
                  </a:moveTo>
                  <a:cubicBezTo>
                    <a:pt x="239" y="23"/>
                    <a:pt x="114" y="46"/>
                    <a:pt x="57" y="88"/>
                  </a:cubicBezTo>
                  <a:cubicBezTo>
                    <a:pt x="0" y="130"/>
                    <a:pt x="12" y="191"/>
                    <a:pt x="24" y="25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533520" y="4495680"/>
            <a:ext cx="7696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 пары треугольников и доказать их равенств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Теорема Пифаго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0880" y="2133720"/>
            <a:ext cx="8458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ема Пифагора дает возможность для развития познавательной активности  при помощи истории теоремы, различных способов доказательства, применения на практик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Методика изучения четырехугольни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" y="457200"/>
            <a:ext cx="8610480" cy="63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пределение четырехугольника 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ится в зависимости от места введения многоугольник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</a:t>
            </a:r>
            <a:r>
              <a:rPr b="1" lang="ru-RU" sz="28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его частный вид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Атанасян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</a:t>
            </a:r>
            <a:r>
              <a:rPr b="1" lang="ru-RU" sz="2800" spc="-1" strike="noStrike">
                <a:solidFill>
                  <a:srgbClr val="cc0099"/>
                </a:solidFill>
                <a:latin typeface="Times New Roman"/>
              </a:rPr>
              <a:t>фигур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щая из точек и отрезков (Погорелов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ние для классификации – наличие </a:t>
            </a:r>
            <a:r>
              <a:rPr b="1" lang="ru-RU" sz="28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параллельных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орон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доказательства теорем широко используются признаки равенства треугольников, свойства и признаки параллельных прямых, весь изученный ранее материа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Методическая схема введения частных видов четырехугольников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3520" y="1143000"/>
            <a:ext cx="8381880" cy="54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Дается определение (через ближайший род - четырехугольник и видовые отличия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зываются элементы (вершины, стороны, диагонали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 Формулируются и доказываются свойства и признак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Рассматриваются задачи на построение этого четырехугольни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Пла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8686800" cy="57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Трактовки понятия «фигура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но-логическая схема основных классов геометрических фигу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есто и роль темы «Многоугольники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мысловые особенности понимания термина «многоугольник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ути введения понятия многоугольника и его видов, классификац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Треугольники и метод равенст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Трактовки понятия «фигур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8534520" cy="49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Классическ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гура мыслилась как </a:t>
            </a:r>
            <a:r>
              <a:rPr b="1" lang="ru-RU" sz="3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нечто целое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е состоящее из точек, самостоятельный объект, но как </a:t>
            </a:r>
            <a:r>
              <a:rPr b="1" lang="ru-RU" sz="3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место точек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место на котором или в котором лежат точки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езок не состоит из точек как из песчинок, но вполне определяется своими точками. То есть </a:t>
            </a:r>
            <a:r>
              <a:rPr b="1" lang="ru-RU" sz="3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геометрическое место точек= фигур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Трактовки понятия «фигур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685800"/>
            <a:ext cx="8610480" cy="57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Современная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теоретико-множественная: геометрическая – </a:t>
            </a:r>
            <a:r>
              <a:rPr b="1" lang="ru-RU" sz="3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любое множество точек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еализован лишь однажды в учебниках Колмогоро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рс 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Погорелов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Всякую геометрическую фигуру представляем себе составленной из точек»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рс 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Атанасян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формирование в процессе изучения фигу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cc"/>
                </a:solidFill>
                <a:latin typeface="Times New Roman"/>
              </a:rPr>
              <a:t>Замечани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371600"/>
            <a:ext cx="822960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того, чтобы иметь полные аксиоматические основания геометрии, нужно включить в них аксиоматику фигуры (основные объекты – точки и фигуры, основное отношение – точка принадлежит фигуре, аксиомы. То есть фигура – это то, что под этим названием удовлетворяет аксиомам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Структурно-логическая схема основных классов геометрических фигур (Атанасян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620640" y="762120"/>
            <a:ext cx="8142480" cy="6087600"/>
            <a:chOff x="620640" y="762120"/>
            <a:chExt cx="8142480" cy="6087600"/>
          </a:xfrm>
        </p:grpSpPr>
        <p:sp>
          <p:nvSpPr>
            <p:cNvPr id="52" name=""/>
            <p:cNvSpPr/>
            <p:nvPr/>
          </p:nvSpPr>
          <p:spPr>
            <a:xfrm>
              <a:off x="620640" y="1922760"/>
              <a:ext cx="3224160" cy="1779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901080" y="762120"/>
              <a:ext cx="7862040" cy="6087600"/>
              <a:chOff x="901080" y="762120"/>
              <a:chExt cx="7862040" cy="6087600"/>
            </a:xfrm>
          </p:grpSpPr>
          <p:sp>
            <p:nvSpPr>
              <p:cNvPr id="54" name=""/>
              <p:cNvSpPr/>
              <p:nvPr/>
            </p:nvSpPr>
            <p:spPr>
              <a:xfrm>
                <a:off x="4259880" y="762120"/>
                <a:ext cx="1277640" cy="573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ТОЧК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ПРЯМАЯ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H="1">
                <a:off x="2723040" y="1649160"/>
                <a:ext cx="560520" cy="41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360800" y="2145960"/>
                <a:ext cx="1465200" cy="410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ЛОМАНАЯ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788880" y="1785960"/>
                <a:ext cx="1974240" cy="6235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33cc"/>
                    </a:solidFill>
                    <a:latin typeface="Times New Roman"/>
                  </a:rPr>
                  <a:t>ОКРУЖНОСТЬ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33cc"/>
                    </a:solidFill>
                    <a:latin typeface="Times New Roman"/>
                  </a:rPr>
                  <a:t>КРУГ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396320" y="1617840"/>
                <a:ext cx="710280" cy="153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144880" y="2743920"/>
                <a:ext cx="1226520" cy="307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НЕ ПРОСТАЯ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302560" y="3291480"/>
                <a:ext cx="1404000" cy="282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ЗАМКНУТАЯ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353480" y="3154680"/>
                <a:ext cx="2479320" cy="3988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33cc"/>
                    </a:solidFill>
                    <a:latin typeface="Times New Roman"/>
                  </a:rPr>
                  <a:t>МНОГОУГОЛЬНИК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953160" y="3422880"/>
                <a:ext cx="315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936240" y="3539520"/>
                <a:ext cx="315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807520" y="3838680"/>
                <a:ext cx="1456920" cy="273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ВЫПУКЛЫЙ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387040" y="2607120"/>
                <a:ext cx="1962360" cy="4104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0099"/>
                    </a:solidFill>
                    <a:latin typeface="Times New Roman"/>
                  </a:rPr>
                  <a:t>ТРЕУГОЛЬНИК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844800" y="4386240"/>
                <a:ext cx="2803680" cy="4104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0099"/>
                    </a:solidFill>
                    <a:latin typeface="Times New Roman"/>
                  </a:rPr>
                  <a:t>ЧЕТЫРЕХУГОЛЬНИК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788880" y="5070960"/>
                <a:ext cx="1541880" cy="410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6600"/>
                    </a:solidFill>
                    <a:latin typeface="Times New Roman"/>
                  </a:rPr>
                  <a:t>ТРАПЕЦИЯ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704760" y="5070960"/>
                <a:ext cx="2663280" cy="410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6600"/>
                    </a:solidFill>
                    <a:latin typeface="Times New Roman"/>
                  </a:rPr>
                  <a:t>ПАРАЛЛЕЛОГРАММ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863440" y="5755320"/>
                <a:ext cx="2242800" cy="410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6600"/>
                    </a:solidFill>
                    <a:latin typeface="Times New Roman"/>
                  </a:rPr>
                  <a:t>ПРЯМОУГОЛЬНИК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387040" y="5755320"/>
                <a:ext cx="840960" cy="410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6600"/>
                    </a:solidFill>
                    <a:latin typeface="Times New Roman"/>
                  </a:rPr>
                  <a:t>РОМБ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545720" y="6439320"/>
                <a:ext cx="1261440" cy="410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6600"/>
                    </a:solidFill>
                    <a:latin typeface="Times New Roman"/>
                  </a:rPr>
                  <a:t>КВАДРА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283920" y="3838680"/>
                <a:ext cx="1682280" cy="273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НЕ ВЫПУКЛЫЙ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545720" y="1649160"/>
                <a:ext cx="1121400" cy="95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>
                <a:off x="5947560" y="4112640"/>
                <a:ext cx="140040" cy="27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>
                <a:off x="4965840" y="4797000"/>
                <a:ext cx="280440" cy="27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648480" y="4797000"/>
                <a:ext cx="420480" cy="27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686120" y="5481360"/>
                <a:ext cx="0" cy="27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667120" y="5481360"/>
                <a:ext cx="0" cy="27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686120" y="6165720"/>
                <a:ext cx="420480" cy="27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>
                <a:off x="5106600" y="6165720"/>
                <a:ext cx="420480" cy="27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4686120" y="3565080"/>
                <a:ext cx="280080" cy="27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807520" y="3565080"/>
                <a:ext cx="280440" cy="27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>
                <a:off x="1531080" y="2556360"/>
                <a:ext cx="140040" cy="13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512440" y="2556360"/>
                <a:ext cx="140040" cy="13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>
                <a:off x="3844800" y="964800"/>
                <a:ext cx="420480" cy="41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527080" y="964800"/>
                <a:ext cx="1401840" cy="82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283920" y="1375200"/>
                <a:ext cx="1228320" cy="307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ОТРЕЗОК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602000" y="3017880"/>
                <a:ext cx="700560" cy="41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901080" y="2743920"/>
                <a:ext cx="971280" cy="307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ПРОСТАЯ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>
                <a:off x="6928920" y="3017880"/>
                <a:ext cx="140040" cy="82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1" name=""/>
          <p:cNvSpPr/>
          <p:nvPr/>
        </p:nvSpPr>
        <p:spPr>
          <a:xfrm>
            <a:off x="152280" y="4800600"/>
            <a:ext cx="2514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Times New Roman"/>
              </a:rPr>
              <a:t>Начальные сведения из стереометрии: многогранники, тела вращ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Место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и роль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темы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«М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ногоугольники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571680"/>
            <a:ext cx="868680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7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 клас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реугольник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виды, признаки равенств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8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 класс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етырехугольники и их свойства, подобие треугольников, площади многоугольнико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9 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клас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рикладные вопросы – решение треугольнико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правильные многоугольники, их связь с окружность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уе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ировоззрение (история, практические задачи)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е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огичность и доказательность мышления (определения, теоремы)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о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начение – применение свойств многоугольников при изучении других разделов планиметрии, курса стереометр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Смысловые особенности понимания термина «Многоугольник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1066680"/>
            <a:ext cx="868680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Карка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ез внутренней области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анасян, Погорело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к 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часть плоскост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граниченная простой замкнутой линие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Атанасян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«Фигуру, состоящую 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з многоугольника и его внутренней област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акже называют 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многоугольником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Погорело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угольная область или 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лоский многоугольни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Пути введения понятия многоугольника и его вид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838080"/>
            <a:ext cx="8915400" cy="54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Абстрактно-дедуктивн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лмогоро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А.Н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1.      Общее понятие многоугольни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2.      Частные вид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е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совершенен логическ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устанавливаются взаимосвязи частных видов многоугольников, вводятся все определения формально-логическим способом, через ближайший род и видо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ы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лич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4T14:22:26Z</dcterms:created>
  <dc:creator>terminator</dc:creator>
  <dc:description/>
  <dc:language>en-US</dc:language>
  <cp:lastModifiedBy>terminator</cp:lastModifiedBy>
  <dcterms:modified xsi:type="dcterms:W3CDTF">2010-09-21T08:09:05Z</dcterms:modified>
  <cp:revision>22</cp:revision>
  <dc:subject/>
  <dc:title>Лекция №3 Методика изучения геометрических фигур</dc:title>
</cp:coreProperties>
</file>