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06B-5675-4755-B816-CE00DBA1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856-CDBC-4EC1-95E0-81DF11D1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60F-88BA-4AA9-A9DE-626A2A66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BDA-951D-4710-99C0-E65E04AB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CFC-E5B9-4FDB-A504-4E01430F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103-D316-4728-A587-33DCA9D9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818-9A94-4A01-83DE-1947B519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0C5-4F50-4A94-AD58-B013EF9D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F3F-283F-42FD-861B-48AF4F59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80F-BB86-45FA-8612-78B8A97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212-A3D1-4C4B-B1D3-8C168C17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1ED-F046-40DA-B168-24F474C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5177-6F54-4644-93C5-97D44253D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Times New Roman"/>
              </a:rPr>
              <a:t>Лекция №4</a:t>
            </a:r>
            <a:br>
              <a:rPr sz="4800"/>
            </a:b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ика изучения геометрических построений в курсе геометр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4.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Этап.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икладной. Методика обучения решению задач на постро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990720"/>
            <a:ext cx="876312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задачи на построение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задачам на построение относят те задачи, в которых по некоторым данным элементам требуется построить искомую фигур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Виды зада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определяются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ани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элемент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еличин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гда задача является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етриче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оложени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лоскости – тогда задача является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озиционн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элементов задана величиной, часть – положением на плоскости; тогда задача называется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омбинированн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Поясн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059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дача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зиционна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построения выполняются непосредственно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 заданных фигура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е на равных им (не перечерчиваются в другом месте тетради или доск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ЭТАПЫ РЕШЕНИЯ ЗАДАЧИ НА ПОСТРО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219320"/>
            <a:ext cx="85345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НАЛИЗ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ыскание способа решения задачи путем установления связей между искомыми элементами и данными задач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, что задача уже решена, создается </a:t>
            </a:r>
            <a:r>
              <a:rPr b="1" i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чертеж-набросо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дополнительные постро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постро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Этапы решения задачи на построение (продолж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19320"/>
            <a:ext cx="84582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СТРОЕНИ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последовательности основных построений достаточных для построения фигур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ое оформление шагов - </a:t>
            </a:r>
            <a:r>
              <a:rPr b="1" i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чертеж-постро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КАЗАТЕЛЬСТВ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ие соответствия построенной фигуры требованиям зада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1219320"/>
            <a:ext cx="85345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ССЛЕДОВАНИ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условия разрешимости и числа решений для каждого случа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омерность достигается исследованием  хо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ения: перебрать последовательно шаги построения, установить, всегда ли выполнимо на каждом шаге построение, сколькими способ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Этапы решения задачи на построение (продолж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2 период. Построения 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49280"/>
            <a:ext cx="9144000" cy="64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менты стереометрии внесены в курс основной школы. 9 клас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остроение изображен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геометрических тел (параллельные ортогональные и косоугольные проекци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Воображаемые постро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ражени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авливается лишь факт существования решения, само построение искомого элемента не выполняе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 сводится к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еречисле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й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вокупности геометрических операц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актическое выполнение которых (в случае, если бы их можно было выполнить) приводит к построению искомого элемен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Эффективные постро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на проекционном чертеже: метрические и позиционные)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, определяемые условием, задаются на изображении оригинал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"/>
            <a:ext cx="5867280" cy="74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й окружности постройте точку, равноудаленную от двух данных пересекающихся прямых. Сколько решений может иметь задач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позиционная, специально оговорено в условии требование исследования. Значит это – один из основных этапов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спользуем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пересечения множеств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62720" y="685800"/>
            <a:ext cx="3352680" cy="4419720"/>
            <a:chOff x="5562720" y="685800"/>
            <a:chExt cx="3352680" cy="4419720"/>
          </a:xfrm>
        </p:grpSpPr>
        <p:sp>
          <p:nvSpPr>
            <p:cNvPr id="73" name=""/>
            <p:cNvSpPr/>
            <p:nvPr/>
          </p:nvSpPr>
          <p:spPr>
            <a:xfrm>
              <a:off x="6172200" y="3581280"/>
              <a:ext cx="144792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562720" y="2057040"/>
              <a:ext cx="327636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81680" y="685800"/>
              <a:ext cx="2133720" cy="403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Анал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57200"/>
            <a:ext cx="45720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, выделяются свойства искомой точки: 1. принадлежит окружности; 2. одинаково удалена от прямых а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принадлежит биссектрисам углов, образованных прямыми. То есть решение – точка пересечения окружности и биссектри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ий пла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строить биссектрисы углов. Найти точки пересе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57800" y="762120"/>
            <a:ext cx="3352680" cy="4419000"/>
            <a:chOff x="5257800" y="762120"/>
            <a:chExt cx="3352680" cy="4419000"/>
          </a:xfrm>
        </p:grpSpPr>
        <p:sp>
          <p:nvSpPr>
            <p:cNvPr id="79" name=""/>
            <p:cNvSpPr/>
            <p:nvPr/>
          </p:nvSpPr>
          <p:spPr>
            <a:xfrm>
              <a:off x="5867280" y="3657240"/>
              <a:ext cx="1447920" cy="1523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257800" y="2133360"/>
              <a:ext cx="3276360" cy="198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76760" y="762120"/>
              <a:ext cx="2133720" cy="40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19560" y="1523880"/>
            <a:ext cx="2361960" cy="2819520"/>
            <a:chOff x="6019560" y="1523880"/>
            <a:chExt cx="2361960" cy="2819520"/>
          </a:xfrm>
        </p:grpSpPr>
        <p:sp>
          <p:nvSpPr>
            <p:cNvPr id="83" name=""/>
            <p:cNvSpPr/>
            <p:nvPr/>
          </p:nvSpPr>
          <p:spPr>
            <a:xfrm flipH="1">
              <a:off x="7010280" y="1523880"/>
              <a:ext cx="914400" cy="2819520"/>
            </a:xfrm>
            <a:prstGeom prst="line">
              <a:avLst/>
            </a:prstGeom>
            <a:ln w="3816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6019560" y="2285640"/>
              <a:ext cx="2361960" cy="762120"/>
            </a:xfrm>
            <a:prstGeom prst="line">
              <a:avLst/>
            </a:prstGeom>
            <a:ln w="3816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52280"/>
            <a:ext cx="8534520" cy="75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стро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оказ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олько для построенного случая): точки А и В являются искомыми, так как удовлетворяют условия задачи: 1. лежат на данной окружности (по построению); 2. равноудалены от двух пересекающихся прямых а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принадлежат биссектрисе угла, образованного прямыми а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сслед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скольку две пересекающиеся прямые образуют две пары вертикальных углов, то биссектрис этих углов тоже две. Количество решений определяется количеством общих точек окружности и биссектри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окружность пересекается с двумя биссектрисами – 4 ре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пересекается с одной, а другой касается – 3 ре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сается двух – 2 ре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касается одной, а другой нет – 1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не пересекается – нет реш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990720"/>
            <a:ext cx="80773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сто и роль 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иоды и этапы изучения геометрических постро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педевтическ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общающ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кладн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тапы решения задачи на постро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Место 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85800"/>
            <a:ext cx="86868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ых программах геометрические построения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е выделе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ачестве одной из содержательно-методических линий в отличие от линий: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геометрические фигуры и их свойства, геометрические величи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построения лишь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провождаю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ение геометрических фигу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Роль геометрических постро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14280"/>
            <a:ext cx="838224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бучающие фун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, углубление, закрепление теоретических зна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Формирование графических умений и навык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Развивающее знач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Развитие пространственного мыш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Развитие творческого мыш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Развитие конструктивных способнос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любой задачи на построение требует от учащихся умений владеть чертежными инструментами и выполнять простейшие постро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Д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а периода изучения геометрических постро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458200" cy="57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1 период. Построения на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1.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Этап.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Пропедевтическ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готовка ведется в начальной школе (линейка, угольник, циркуль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рсе 5-6 класс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навык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работ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остейшими чертежными инструментами (линейкой, угольником, транспортиром, циркулем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ыки построения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остейш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ометрических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фигу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стройств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струмента, выяснить, какие геометрические фигуры можно построить или измерить с его помощ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удности и ошибки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обусловлены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09480"/>
            <a:ext cx="861048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Для линейк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умением совместить метку начала отсчета на линейке с началом измеряемого отрез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умением ориентироваться по шкале, с незнанием единиц измерения и соответствующих отрез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Для транспортир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умением совместить центр с вершиной угл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м направления отсч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вычной системой счисления: основная единица измерения – 180-я часть развернутого угл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Этап.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Основной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87440"/>
            <a:ext cx="891540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7-м классе геометрические построения начинают применяться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решению конструктивных зада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должны представлять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еометрические образ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ждого инструмен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дносторонняя линейк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яма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вусторонняя линейк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ара параллельных прямых, отстоящих на данное расстоя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гольни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ара взаимно-перпендикулярных прям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Циркул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кружность любого радиу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бот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ыков владения чертежными инструмент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деляется основной набор чертежных инструментов – циркуль и линейка, оговариваются их конструктивные возмож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3 Этап.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Обобщение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элементарных постро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33520"/>
            <a:ext cx="853416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угла и отрезка, равных данному, окружности данного радиус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отрезка и угла попола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через данную точку на и вне прямой, параллельной или перпендикулярной данной прям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треугольника по трем элементам, построение касательной к окружности через точку на и вне е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Элементарные постро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26960"/>
            <a:ext cx="86868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базо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решения более сложных задач на постро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жны быть освоены учащимися на уровне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вы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четкий алгорит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ждого построе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алгоритма доведено до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автоматизм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о этот материал рассмотреть после темы «Окружность», что дает возможность теоретического обоснования постро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8:13:47Z</dcterms:created>
  <dc:creator>terminator</dc:creator>
  <dc:description/>
  <dc:language>en-US</dc:language>
  <cp:lastModifiedBy>terminator</cp:lastModifiedBy>
  <dcterms:modified xsi:type="dcterms:W3CDTF">2010-09-28T19:19:41Z</dcterms:modified>
  <cp:revision>16</cp:revision>
  <dc:subject/>
  <dc:title>Лекция №4 Методика изучения геометрических построений в курсе геометрии </dc:title>
</cp:coreProperties>
</file>