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3700-C648-4E1B-B75E-3370C97F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7D9A-A0FD-4440-97E0-BF2143ED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561-807D-4E3E-9EF6-8A3FF4B5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CDDC-121E-47FC-AB69-75339377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999-B85F-4AFD-9028-D71E9C8A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215-12AF-467D-AD50-4A1B5E5A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E7C8-FE88-4434-B476-D0173B3A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F76-3D75-470C-9EE4-0177BBC0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0405-FE7A-44DA-B325-CF44A833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0DE-AE15-4DF2-8423-6AE54B27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6A05-CB86-4602-A425-987706E2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224-00CC-4B6E-B5CE-8BB75E77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4700-9187-43BB-A788-8330AAA275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cc"/>
                </a:solidFill>
                <a:latin typeface="Times New Roman"/>
              </a:rPr>
              <a:t>Лекция №5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Методика изучения геометрических преобразован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рудности в усвоении геометрических преобразов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838080"/>
            <a:ext cx="868680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При изучении геометрических преобразований ряд трудностей связан с </a:t>
            </a:r>
            <a:r>
              <a:rPr b="1" lang="ru-RU" sz="28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терминологие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мы изучаем геометрические преобразования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на плоск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ч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т о преобразовании </a:t>
            </a:r>
            <a:r>
              <a:rPr b="1" i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ножества точек плоско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каждой точке плоскости ставится в соответствие точно одна точка этой же плоскости по определенному закону или правил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 </a:t>
            </a:r>
            <a:r>
              <a:rPr b="1" i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ножество точек плоско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ют прост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плоскостью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ез указанных замечаний, у учащихся возникнут затруднения, ввиду того, что они под плоскостью понимают не множество точек, а носителя этого множества, который не подвергается никакому преобразован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рудности в усвоении геометрических преобразов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914400"/>
            <a:ext cx="845820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   Учащиеся затрудняются ответить на вопрос, </a:t>
            </a:r>
            <a:r>
              <a:rPr b="1" lang="ru-RU" sz="28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чем определяетс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ное геометрическое преобразование, или когда его можно считать заданны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может рассмотрение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еобразования как функц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ю можно считать заданной, ес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а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область определе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о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правил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 которому для каждого значения аргумента можем определить соответствующее ему значение функ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2120"/>
            <a:ext cx="853452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. 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«Даны точка О и прямая </a:t>
            </a:r>
            <a:r>
              <a:rPr b="1" i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b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. Постройте прямую, на которую отображается прямая </a:t>
            </a:r>
            <a:r>
              <a:rPr b="1" i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b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при центральной симметрии с центром О»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бразованию подвергается множество точек плоскост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ждой точкой А плоскости сопоставляется точка А’ этой же плоскости по следующему </a:t>
            </a:r>
            <a:r>
              <a:rPr b="1" lang="ru-RU" sz="3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правилу: 1) 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O</a:t>
            </a:r>
            <a:r>
              <a:rPr b="1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</a:t>
            </a:r>
            <a:r>
              <a:rPr b="1" lang="ru-RU" sz="3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АА ‘, 2) ОА=ОА’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рудности в усвоении геометрических преобразов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762120"/>
            <a:ext cx="853416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 Трудности связаны с неумением учащихся </a:t>
            </a:r>
            <a:r>
              <a:rPr b="1" lang="ru-RU" sz="32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определять образ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дельной точки в данном преобразовании и непониманием того, что </a:t>
            </a:r>
            <a:r>
              <a:rPr b="1" lang="ru-RU" sz="32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образ фигуры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этом преобразовании есть </a:t>
            </a:r>
            <a:r>
              <a:rPr b="1" lang="ru-RU" sz="3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ножество образов всех ее точе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учении геометрических преобразований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ят образы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только отдельных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че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скости, но и определенных подмножеств, определенных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гу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резков, треугольников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838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ть образы фигу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057400"/>
            <a:ext cx="1218960" cy="990720"/>
          </a:xfrm>
          <a:prstGeom prst="triangle">
            <a:avLst>
              <a:gd name="adj" fmla="val 746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80880" y="3961800"/>
            <a:ext cx="1219320" cy="990360"/>
          </a:xfrm>
          <a:prstGeom prst="triangle">
            <a:avLst>
              <a:gd name="adj" fmla="val 746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80360" y="2057400"/>
            <a:ext cx="1219320" cy="990720"/>
          </a:xfrm>
          <a:prstGeom prst="triangle">
            <a:avLst>
              <a:gd name="adj" fmla="val 746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16002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3505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1676520"/>
            <a:ext cx="1066680" cy="1523880"/>
          </a:xfrm>
          <a:prstGeom prst="downArrow">
            <a:avLst>
              <a:gd name="adj1" fmla="val 50000"/>
              <a:gd name="adj2" fmla="val 357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257800" y="609120"/>
            <a:ext cx="1066680" cy="1524240"/>
          </a:xfrm>
          <a:prstGeom prst="downArrow">
            <a:avLst>
              <a:gd name="adj1" fmla="val 50000"/>
              <a:gd name="adj2" fmla="val 35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73520" y="1676520"/>
            <a:ext cx="857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686120" y="990720"/>
            <a:ext cx="8254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146120" y="984240"/>
            <a:ext cx="1917720" cy="18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885840" y="990720"/>
            <a:ext cx="24130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419720" y="609480"/>
            <a:ext cx="137160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146480" y="1688760"/>
            <a:ext cx="190512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35000" y="4856040"/>
            <a:ext cx="1828800" cy="1187640"/>
          </a:xfrm>
          <a:prstGeom prst="flowChartManualInpu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2882880" y="4381560"/>
            <a:ext cx="1828800" cy="1187280"/>
          </a:xfrm>
          <a:prstGeom prst="flowChartManualInput">
            <a:avLst/>
          </a:prstGeom>
          <a:solidFill>
            <a:srgbClr val="6600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84320" y="4381560"/>
            <a:ext cx="890640" cy="16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873520" y="4856040"/>
            <a:ext cx="890280" cy="712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35000" y="5105520"/>
            <a:ext cx="279108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946160" y="4381200"/>
            <a:ext cx="2779920" cy="16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73480" y="516420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59280" y="3336840"/>
            <a:ext cx="1068480" cy="1211400"/>
          </a:xfrm>
          <a:custGeom>
            <a:avLst/>
            <a:gdLst>
              <a:gd name="textAreaLeft" fmla="*/ 250920 w 1068480"/>
              <a:gd name="textAreaRight" fmla="*/ 816840 w 1068480"/>
              <a:gd name="textAreaTop" fmla="*/ 142200 h 1211400"/>
              <a:gd name="textAreaBottom" fmla="*/ 759960 h 1211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2464200">
            <a:off x="7348320" y="2908440"/>
            <a:ext cx="1068120" cy="1211040"/>
          </a:xfrm>
          <a:custGeom>
            <a:avLst/>
            <a:gdLst>
              <a:gd name="textAreaLeft" fmla="*/ 250920 w 1068120"/>
              <a:gd name="textAreaRight" fmla="*/ 816480 w 1068120"/>
              <a:gd name="textAreaTop" fmla="*/ 142200 h 1211040"/>
              <a:gd name="textAreaBottom" fmla="*/ 759600 h 12110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294600" y="3965400"/>
            <a:ext cx="119844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294600" y="3134880"/>
            <a:ext cx="1911240" cy="2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75640" y="4156200"/>
            <a:ext cx="593640" cy="12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09000" y="3230640"/>
            <a:ext cx="272880" cy="21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94600" y="4548240"/>
            <a:ext cx="1187280" cy="8906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81880" y="3978360"/>
            <a:ext cx="11160" cy="146052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39040" y="5388120"/>
            <a:ext cx="108000" cy="10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99400" y="4583160"/>
            <a:ext cx="593640" cy="404640"/>
          </a:xfrm>
          <a:custGeom>
            <a:avLst/>
            <a:gdLst/>
            <a:ahLst/>
            <a:rect l="l" t="t" r="r" b="b"/>
            <a:pathLst>
              <a:path w="374" h="255">
                <a:moveTo>
                  <a:pt x="0" y="255"/>
                </a:moveTo>
                <a:cubicBezTo>
                  <a:pt x="29" y="157"/>
                  <a:pt x="58" y="60"/>
                  <a:pt x="120" y="30"/>
                </a:cubicBezTo>
                <a:cubicBezTo>
                  <a:pt x="182" y="0"/>
                  <a:pt x="278" y="37"/>
                  <a:pt x="374" y="75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рудности в усвоении геометрических преобразов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838080"/>
            <a:ext cx="868680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льзование геометрических преобразований в качестве </a:t>
            </a:r>
            <a:r>
              <a:rPr b="1" lang="ru-RU" sz="32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метода доказательств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орем и решения задач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 </a:t>
            </a:r>
            <a:r>
              <a:rPr b="1" lang="ru-RU" sz="3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психологическ</a:t>
            </a:r>
            <a:r>
              <a:rPr b="1" lang="ru-RU" sz="3200" spc="-1" strike="noStrike">
                <a:solidFill>
                  <a:srgbClr val="cc00cc"/>
                </a:solidFill>
                <a:latin typeface="Times New Roman"/>
              </a:rPr>
              <a:t>ог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геометрические преобразования </a:t>
            </a:r>
            <a:r>
              <a:rPr b="1" lang="ru-RU" sz="3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нельзя наблюда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строить (в отличие от равных или подобных треугольников), их можно только вообразить. Пространственное воображение развито у подростков недостаточно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намическое моделирование на ЭВМ оказывает помощ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4640" y="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9000" y="309600"/>
            <a:ext cx="87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роить трапецию по основаниям и диагоналя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7800" y="1044720"/>
            <a:ext cx="1390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000" y="1317600"/>
            <a:ext cx="3017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5840" y="1900080"/>
            <a:ext cx="292104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7000" y="2173320"/>
            <a:ext cx="239868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391000" y="1211040"/>
            <a:ext cx="1889280" cy="1092240"/>
          </a:xfrm>
          <a:custGeom>
            <a:avLst/>
            <a:gdLst>
              <a:gd name="textAreaLeft" fmla="*/ 441360 w 1889280"/>
              <a:gd name="textAreaRight" fmla="*/ 1447920 w 1889280"/>
              <a:gd name="textAreaTop" fmla="*/ 255240 h 1092240"/>
              <a:gd name="textAreaBottom" fmla="*/ 8370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65" y="21600"/>
                </a:lnTo>
                <a:lnTo>
                  <a:pt x="5935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5120" y="2341440"/>
            <a:ext cx="1865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403960" y="1221840"/>
            <a:ext cx="1365120" cy="1057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25960" y="1200240"/>
            <a:ext cx="1354320" cy="1079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02560" y="1222200"/>
            <a:ext cx="1353960" cy="1079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2327400"/>
            <a:ext cx="80820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462640" y="1269720"/>
            <a:ext cx="1317600" cy="998280"/>
          </a:xfrm>
          <a:prstGeom prst="line">
            <a:avLst/>
          </a:prstGeom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1520" y="1293840"/>
            <a:ext cx="1306800" cy="103356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01840" y="5245200"/>
            <a:ext cx="3017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5246640"/>
            <a:ext cx="1390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327760" y="3736440"/>
            <a:ext cx="1870920" cy="15008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31080" y="3714120"/>
            <a:ext cx="2507760" cy="14983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47960" y="3714840"/>
            <a:ext cx="1390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314440" y="3728880"/>
            <a:ext cx="534960" cy="153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27480" y="3728880"/>
            <a:ext cx="1139760" cy="15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Этапы изучения в современных учебник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066680"/>
            <a:ext cx="84582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Пропедевт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ая школ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5-6к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уитивные представления о симметричных фигурах, построение по клеточкам симметричных фигу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Основ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533520"/>
            <a:ext cx="838188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танасян Л.С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47.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севая и центральная симметр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возможностью 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обогащения свойст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ученных фигур: неразвернутый угол, равнобедренный и равносторонний треугольник, прямоугольник и ромб, квадрат, окруж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яется 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отсутствие ос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мметрии у параллелограмма (при наличии центра симметрии), разностороннего треугольни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симметрии не имеет треугольник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я 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явно не выделен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словия задания симметрии 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не акцентирован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Times New Roman"/>
              </a:rPr>
              <a:t>Завершающ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358920"/>
            <a:ext cx="891540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вых программах добавлен стереометрический материал: многогранники, круглые тела, формула объема прямоугольного параллелепипеда. В связи с этим сокращен материал, посвященный движения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3.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вижения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рмин «геометрические преобразования» не исполь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е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я. Только «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тображение плоскости на себ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виж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овь с использованием новой терминологии рассматрив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ютс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евая и центральная симметрия как движения.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араллельный перенос, поворо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во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тс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первые, условия их задания сформулированы, н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акценты явно не расставле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ла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762120"/>
            <a:ext cx="76201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порный конспект к тем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еометрические преобразования как фун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временный подход к построению курса математ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рудности в усвоении геометрических преобразов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тапы изуч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533520"/>
            <a:ext cx="82296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курсы планиметрии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е строятся на основе геометрических преобразовани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щее понятие о геометрических преобразованиях плоскости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е вводитс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ориентирует на изучение частных видов геометрических преобразований: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движений (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параллельный перенос, поворот,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севая и центральная симметрия) и подобия фигу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, изучение геометрических преобразований носит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изолированны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, они очень мало взаимосвязаны с другими вопросами курса геометрии основной шко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2057400"/>
            <a:ext cx="77724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У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Атанася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осит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ллюстрирующи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у Погорелов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матривается не преобразование плоскости, а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еобразование фигу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 изучении преобразования фигур широко используется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оординатны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о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838080" y="0"/>
            <a:ext cx="7696080" cy="6858000"/>
            <a:chOff x="838080" y="0"/>
            <a:chExt cx="7696080" cy="6858000"/>
          </a:xfrm>
        </p:grpSpPr>
        <p:sp>
          <p:nvSpPr>
            <p:cNvPr id="45" name=""/>
            <p:cNvSpPr/>
            <p:nvPr/>
          </p:nvSpPr>
          <p:spPr>
            <a:xfrm>
              <a:off x="1748520" y="0"/>
              <a:ext cx="29145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Неопределяемые пон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69240" y="389160"/>
              <a:ext cx="1393200" cy="24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множеств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31280" y="1157040"/>
              <a:ext cx="1961640" cy="226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ответств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82080" y="1667160"/>
              <a:ext cx="2025720" cy="25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тображение «в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64120" y="1609200"/>
              <a:ext cx="2282040" cy="421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тображение «на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юрьек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09360" y="3216240"/>
              <a:ext cx="1344960" cy="60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нъек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«разным  -разные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99320" y="1958400"/>
              <a:ext cx="2634840" cy="60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Биек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заимно однозначное отображе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162840" y="2650680"/>
              <a:ext cx="2239920" cy="970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cc"/>
                  </a:solidFill>
                  <a:latin typeface="Times New Roman"/>
                </a:rPr>
                <a:t>Преобразов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заимно однозначное отображение множества на себ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104280" y="620280"/>
              <a:ext cx="31680" cy="53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598400" y="1240920"/>
              <a:ext cx="632520" cy="4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77080" y="1262160"/>
              <a:ext cx="52020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1903680"/>
              <a:ext cx="344880" cy="31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826520" y="2304000"/>
              <a:ext cx="1072800" cy="9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348680" y="2563920"/>
              <a:ext cx="0" cy="8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35000" y="30492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35720" y="523440"/>
              <a:ext cx="52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1286280" y="2161440"/>
              <a:ext cx="1581120" cy="778680"/>
              <a:chOff x="1286280" y="2161440"/>
              <a:chExt cx="1581120" cy="778680"/>
            </a:xfrm>
          </p:grpSpPr>
          <p:sp>
            <p:nvSpPr>
              <p:cNvPr id="62" name=""/>
              <p:cNvSpPr/>
              <p:nvPr/>
            </p:nvSpPr>
            <p:spPr>
              <a:xfrm>
                <a:off x="1286280" y="2161440"/>
                <a:ext cx="527040" cy="778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340360" y="2161440"/>
                <a:ext cx="527040" cy="778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549440" y="2766960"/>
                <a:ext cx="13140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549440" y="2247840"/>
                <a:ext cx="13140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49440" y="2421000"/>
                <a:ext cx="13140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49440" y="2593800"/>
                <a:ext cx="13140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603880" y="2766960"/>
                <a:ext cx="13140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03880" y="2247840"/>
                <a:ext cx="13140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03880" y="2421000"/>
                <a:ext cx="13140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603880" y="2593800"/>
                <a:ext cx="13140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81200" y="2303280"/>
                <a:ext cx="92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81200" y="2455920"/>
                <a:ext cx="92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1620360" y="2482200"/>
                <a:ext cx="983520" cy="15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1620360" y="2634120"/>
                <a:ext cx="101700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3448440" y="2198160"/>
              <a:ext cx="1581120" cy="778680"/>
              <a:chOff x="3448440" y="2198160"/>
              <a:chExt cx="1581120" cy="778680"/>
            </a:xfrm>
          </p:grpSpPr>
          <p:sp>
            <p:nvSpPr>
              <p:cNvPr id="77" name=""/>
              <p:cNvSpPr/>
              <p:nvPr/>
            </p:nvSpPr>
            <p:spPr>
              <a:xfrm>
                <a:off x="3448440" y="2198160"/>
                <a:ext cx="527040" cy="778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502520" y="2198160"/>
                <a:ext cx="527040" cy="625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11960" y="2803680"/>
                <a:ext cx="13176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11960" y="2284560"/>
                <a:ext cx="13176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711960" y="2457720"/>
                <a:ext cx="13176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711960" y="2630880"/>
                <a:ext cx="13176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66040" y="2284560"/>
                <a:ext cx="13176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766040" y="2457720"/>
                <a:ext cx="13176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766040" y="2630880"/>
                <a:ext cx="13176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843720" y="2340000"/>
                <a:ext cx="92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843720" y="2492640"/>
                <a:ext cx="92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3782520" y="2518920"/>
                <a:ext cx="983520" cy="15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3782520" y="2671200"/>
                <a:ext cx="101700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1615320" y="3105720"/>
              <a:ext cx="526680" cy="778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69400" y="3105720"/>
              <a:ext cx="527040" cy="92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78840" y="3711600"/>
              <a:ext cx="131400" cy="86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78840" y="3192120"/>
              <a:ext cx="131400" cy="86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78840" y="3365280"/>
              <a:ext cx="131400" cy="86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78840" y="3538440"/>
              <a:ext cx="131400" cy="86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32920" y="3711600"/>
              <a:ext cx="131760" cy="86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32920" y="3192120"/>
              <a:ext cx="131760" cy="86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32920" y="3365280"/>
              <a:ext cx="131760" cy="86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32920" y="3538440"/>
              <a:ext cx="131760" cy="86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10600" y="3247920"/>
              <a:ext cx="92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10600" y="3400200"/>
              <a:ext cx="89388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949400" y="3578760"/>
              <a:ext cx="1016640" cy="1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241080" y="3594960"/>
              <a:ext cx="34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02320" y="1924920"/>
              <a:ext cx="24804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041440" y="2045880"/>
              <a:ext cx="35244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6306840" y="962280"/>
              <a:ext cx="1581120" cy="778680"/>
              <a:chOff x="6306840" y="962280"/>
              <a:chExt cx="1581120" cy="778680"/>
            </a:xfrm>
          </p:grpSpPr>
          <p:sp>
            <p:nvSpPr>
              <p:cNvPr id="107" name=""/>
              <p:cNvSpPr/>
              <p:nvPr/>
            </p:nvSpPr>
            <p:spPr>
              <a:xfrm>
                <a:off x="6306840" y="962280"/>
                <a:ext cx="526680" cy="778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360920" y="962280"/>
                <a:ext cx="527040" cy="778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570000" y="1567800"/>
                <a:ext cx="13140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70000" y="1048680"/>
                <a:ext cx="13140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570000" y="1221840"/>
                <a:ext cx="13140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570000" y="1395000"/>
                <a:ext cx="13140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24440" y="1567800"/>
                <a:ext cx="13140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24440" y="1048680"/>
                <a:ext cx="13140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624440" y="1221840"/>
                <a:ext cx="13140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24440" y="1395000"/>
                <a:ext cx="13140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701760" y="1104120"/>
                <a:ext cx="92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701760" y="1256760"/>
                <a:ext cx="92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640920" y="1440720"/>
                <a:ext cx="101880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6640920" y="1430280"/>
                <a:ext cx="1027080" cy="19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4665600" y="4228200"/>
              <a:ext cx="2738160" cy="746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cc"/>
                  </a:solidFill>
                  <a:latin typeface="Times New Roman"/>
                </a:rPr>
                <a:t>Движ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храняют расстояния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между точками, форму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не деформируют фигуру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84840" y="5517000"/>
              <a:ext cx="1249200" cy="24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c00cc"/>
                  </a:solidFill>
                  <a:latin typeface="Times New Roman"/>
                </a:rPr>
                <a:t>Поворо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30440" y="5522040"/>
              <a:ext cx="1545120" cy="24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c00cc"/>
                  </a:solidFill>
                  <a:latin typeface="Times New Roman"/>
                </a:rPr>
                <a:t>Симметр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86600" y="5906160"/>
              <a:ext cx="1601280" cy="43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севая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центральна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10240" y="5527440"/>
              <a:ext cx="2065680" cy="41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c00cc"/>
                  </a:solidFill>
                  <a:latin typeface="Times New Roman"/>
                </a:rPr>
                <a:t>Параллельный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c00cc"/>
                  </a:solidFill>
                  <a:latin typeface="Times New Roman"/>
                </a:rPr>
                <a:t>перенос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487240" y="4754160"/>
              <a:ext cx="2161800" cy="76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065920" y="4964760"/>
              <a:ext cx="53640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11560" y="4975200"/>
              <a:ext cx="21600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91480" y="5769360"/>
              <a:ext cx="0" cy="1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4501800"/>
              <a:ext cx="1841760" cy="59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Гомоте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Меняет размеры, сохраняет форму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3800880" y="4469760"/>
              <a:ext cx="824400" cy="204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52000" y="4228200"/>
              <a:ext cx="1248840" cy="24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cc"/>
                  </a:solidFill>
                  <a:latin typeface="Times New Roman"/>
                </a:rPr>
                <a:t>Подоб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79360" y="6085080"/>
              <a:ext cx="1953360" cy="77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Аффинные, проективные преобразования, топология и т.д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130800" y="3623400"/>
              <a:ext cx="546480" cy="58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132760" y="3628800"/>
              <a:ext cx="10080" cy="24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056840" y="3507840"/>
              <a:ext cx="212184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663640" y="4480920"/>
              <a:ext cx="616320" cy="2419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7966800" y="1498680"/>
              <a:ext cx="334080" cy="45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8920" y="373320"/>
              <a:ext cx="1665360" cy="389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Декартово произведе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64960" y="51012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97160" y="867600"/>
              <a:ext cx="1665360" cy="2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одмножеств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17520" y="762480"/>
              <a:ext cx="2376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008960" y="1093680"/>
              <a:ext cx="14400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40120" y="3847320"/>
              <a:ext cx="131760" cy="86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007000" y="3423600"/>
              <a:ext cx="92880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Определ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533520"/>
            <a:ext cx="853452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ответствие, при котором каждому элементу множества А отвечает единственный элемент множества В, называется ОТОБРАЖЕНИЕМ множества А </a:t>
            </a:r>
            <a:r>
              <a:rPr b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в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ножество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ответствие, при котором каждому элементу множества А отвечает единственный элемент множества В и, кроме того, каждому элементу множества В отвечает хотя бы один элемент множества А, называется ОТОБРАЖЕНИЕМ множества А </a:t>
            </a:r>
            <a:r>
              <a:rPr b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множество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ображение называется ИНЪЕКТИВНЫМ, если любые разные элементы множества А имеют различные образ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10960" y="260280"/>
            <a:ext cx="8720280" cy="6338880"/>
            <a:chOff x="210960" y="260280"/>
            <a:chExt cx="8720280" cy="6338880"/>
          </a:xfrm>
        </p:grpSpPr>
        <p:sp>
          <p:nvSpPr>
            <p:cNvPr id="149" name=""/>
            <p:cNvSpPr/>
            <p:nvPr/>
          </p:nvSpPr>
          <p:spPr>
            <a:xfrm>
              <a:off x="936720" y="263520"/>
              <a:ext cx="5145120" cy="84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иек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заимно однозначное отображе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40400" y="1128600"/>
              <a:ext cx="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7020000" y="260280"/>
              <a:ext cx="1861920" cy="1084320"/>
              <a:chOff x="7020000" y="260280"/>
              <a:chExt cx="1861920" cy="1084320"/>
            </a:xfrm>
          </p:grpSpPr>
          <p:sp>
            <p:nvSpPr>
              <p:cNvPr id="152" name=""/>
              <p:cNvSpPr/>
              <p:nvPr/>
            </p:nvSpPr>
            <p:spPr>
              <a:xfrm>
                <a:off x="7020000" y="260280"/>
                <a:ext cx="620280" cy="1084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261280" y="260280"/>
                <a:ext cx="620640" cy="1084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29960" y="1103400"/>
                <a:ext cx="154800" cy="120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29960" y="380520"/>
                <a:ext cx="154800" cy="120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329960" y="621720"/>
                <a:ext cx="154800" cy="120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29960" y="862560"/>
                <a:ext cx="154800" cy="120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571600" y="1103400"/>
                <a:ext cx="154800" cy="120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571600" y="380520"/>
                <a:ext cx="154800" cy="120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571600" y="621720"/>
                <a:ext cx="154800" cy="120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71600" y="862560"/>
                <a:ext cx="154800" cy="120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485120" y="457920"/>
                <a:ext cx="108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485120" y="670320"/>
                <a:ext cx="108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413480" y="926280"/>
                <a:ext cx="1199880" cy="23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7413480" y="911880"/>
                <a:ext cx="1209600" cy="27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463920" y="5289480"/>
              <a:ext cx="1889280" cy="49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cc"/>
                  </a:solidFill>
                  <a:latin typeface="Times New Roman"/>
                </a:rPr>
                <a:t>Поворо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9520" y="5251320"/>
              <a:ext cx="2566800" cy="55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cc"/>
                  </a:solidFill>
                  <a:latin typeface="Times New Roman"/>
                </a:rPr>
                <a:t>Симметр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4040" y="5997600"/>
              <a:ext cx="3490920" cy="601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севая, центральн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96000" y="5472000"/>
              <a:ext cx="3135240" cy="9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cc"/>
                  </a:solidFill>
                  <a:latin typeface="Times New Roman"/>
                </a:rPr>
                <a:t>Параллельный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cc"/>
                  </a:solidFill>
                  <a:latin typeface="Times New Roman"/>
                </a:rPr>
                <a:t>перено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033360" y="4395960"/>
              <a:ext cx="1630440" cy="84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5344920" y="4687920"/>
              <a:ext cx="44100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11880" y="4702320"/>
              <a:ext cx="254160" cy="75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03400" y="5807160"/>
              <a:ext cx="14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3795480" y="3679920"/>
              <a:ext cx="841320" cy="604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12960" y="3224160"/>
              <a:ext cx="1470240" cy="4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Подоб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67160" y="2584440"/>
              <a:ext cx="725760" cy="70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987360" y="2617920"/>
              <a:ext cx="436680" cy="59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2324160" y="3704760"/>
              <a:ext cx="1000080" cy="646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99120" y="684360"/>
              <a:ext cx="85572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73520" y="3308400"/>
              <a:ext cx="4197600" cy="1679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Движ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храняют расстояни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ежду точками, форму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е деформируют фигур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06640" y="1654200"/>
              <a:ext cx="5284800" cy="1208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Преобразов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заимно однозначное отображение множества на себ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0960" y="3828960"/>
              <a:ext cx="2787840" cy="11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мотет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еняет размеры, сохраняет форм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73360" y="5792760"/>
              <a:ext cx="1341720" cy="476280"/>
            </a:xfrm>
            <a:custGeom>
              <a:avLst/>
              <a:gdLst/>
              <a:ahLst/>
              <a:rect l="l" t="t" r="r" b="b"/>
              <a:pathLst>
                <a:path w="793" h="449">
                  <a:moveTo>
                    <a:pt x="793" y="0"/>
                  </a:moveTo>
                  <a:cubicBezTo>
                    <a:pt x="765" y="142"/>
                    <a:pt x="738" y="284"/>
                    <a:pt x="606" y="359"/>
                  </a:cubicBezTo>
                  <a:cubicBezTo>
                    <a:pt x="474" y="434"/>
                    <a:pt x="237" y="441"/>
                    <a:pt x="0" y="44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Геометрические преобразования как фун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685800"/>
            <a:ext cx="815328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з основных идей современной математики – </a:t>
            </a:r>
            <a:r>
              <a:rPr b="1" lang="ru-RU" sz="3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идея отображения множест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щее понятие отображения множеств – общее понятие функ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Две модел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ое преобразование и числовая функц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личаются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иродой элементо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ласти определения и области значений,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особом зада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Геометрические преобразования и числовые фун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1447920"/>
            <a:ext cx="81536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ждое </a:t>
            </a:r>
            <a:r>
              <a:rPr b="1" lang="ru-RU" sz="3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геометрическое преобразовани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яет собой некоторую функцию, области определения и значений ее являются точечными множеств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Times New Roman"/>
              </a:rPr>
              <a:t>Ч</a:t>
            </a:r>
            <a:r>
              <a:rPr b="1" lang="ru-RU" sz="3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исловая функц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еобразовывает» (как и геометрическое преобразование) одно множество – числовое, в другое (или в это же) по определенному закон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дея построения курса математики на теоретико-множественной осно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762120"/>
            <a:ext cx="853452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60-70 годах </a:t>
            </a:r>
            <a:r>
              <a:rPr b="1" lang="ru-RU" sz="3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идея отображе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положена в основу школьного курса математик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й идее строился курс алгебры – </a:t>
            </a:r>
            <a:r>
              <a:rPr b="1" lang="ru-RU" sz="3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функци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матривались </a:t>
            </a:r>
            <a:r>
              <a:rPr b="1" lang="ru-RU" sz="3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как отображе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овых множест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еометрии основное внимание уделялось изучению </a:t>
            </a:r>
            <a:r>
              <a:rPr b="1" lang="ru-RU" sz="3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геометрических преобразовани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скости, на этой основе строилось и изложение традиционных тем: «Четырехугольники», «Векторы» 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труктура изложе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87520"/>
            <a:ext cx="8534160" cy="63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ые геометрические понят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ая фигура – множество точек. Примеры – окружность, круг, сфе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определений. Неопределяемые понятия. Аксио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ок и луч. Координаты на прямой. Ломаная. Плоскость. Планиметр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. Многоугольник. Полуплоскость. Уго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груэнтность фигур и перемещ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орот, симметрия), примеры симметрии фигу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ость и параллельны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. (отношения рефлексивности, транзитивности, симметричности, эквивалентност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угольн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реугольники, четырехугольники, площад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то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гомотетия (свойства, подобные многоугольник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р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ригонометрические фу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рические соотношения в треугольни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исанные и описанные многоугольни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ые сведения из стереомет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показал, что введение в основу курса геометрии идеи отображений усложнило систему понятий, ослабило формирование навыков реше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rminator</cp:lastModifiedBy>
  <dcterms:modified xsi:type="dcterms:W3CDTF">2010-09-30T15:24:04Z</dcterms:modified>
  <cp:revision>21</cp:revision>
  <dc:subject/>
  <dc:title>PowerPoint Presentation</dc:title>
</cp:coreProperties>
</file>