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694A-3915-4C46-842D-D1561A43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A56A-16BA-4B6D-A7F2-D0D171D5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B345-CCCA-41BB-8585-908D8F340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A16B-AE5D-43F7-8BB6-76632B80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EDAE-1537-490D-9D2E-F978297E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2A06-4BD5-4728-A7CE-AA2C73EE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BA59-EDD1-4CE0-B58B-DF69816F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AD95-525B-43C0-9723-82A73BFC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E796-7E42-4A19-BA60-E9BC4497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DB38-01CE-44B8-A873-1436AABF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D72B-2721-4339-B366-CFCDEF5E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AD79-21A8-481D-A760-66BD346F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4880-7170-4E5A-BF58-2D3857C2C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Times New Roman"/>
              </a:rPr>
              <a:t>Лекция №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514600"/>
            <a:ext cx="79250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МЕТОДИКА ИЗУЧЕНИЯ ГЕОМЕТРИЧЕСКИХ ВЕЛИЧИ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Замеч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914400"/>
            <a:ext cx="861084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льшинстве школьных учебников не делается различия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между поняти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е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кретной величины (например, «длина»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и ее числовым значение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лученным после измер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каждое из понятий «длина», «площадь», «объем» определяется как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ещественное число, удовлетворяющее аксиомам меры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Требования програм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457200"/>
            <a:ext cx="8991720" cy="63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овани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подготовке учащихся, касающейся изучения и измерения величин в основной школ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должен владеть практическими навыками использования геометрических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инструменто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изображения фигур, а также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для нахождения длин отрезков и величин угло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ть задачи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на вычисление геометрических величи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лин, углов, площадей), применяя изученные свойства фигур и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формул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водя аргументацию в ходе решения задач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облема измерения велич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380880"/>
            <a:ext cx="8610480" cy="65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 основных вопрос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что тако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личина (длина, площадь и др.) - </a:t>
            </a:r>
            <a:r>
              <a:rPr b="1" i="1" lang="en-US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формально-логическа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рона пробле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 помощью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каких инструменто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меряется величина; по какому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закону, правилу, формул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числяется числовое значение этой величины - </a:t>
            </a:r>
            <a:r>
              <a:rPr b="1" i="1" lang="en-US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прикладна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рона пробле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е основной упор делается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на прикладну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рону; ученики имеют дело с конкретными величинами, иллюстрирующими общее понятие величин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 профильных специализированных классов важен и формально-логический аспект проблем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Виды величин. Аксиома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533520"/>
            <a:ext cx="87631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еленные классы величин (класс </a:t>
            </a:r>
            <a:r>
              <a:rPr b="1" lang="ru-RU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скалярных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личин, класс </a:t>
            </a:r>
            <a:r>
              <a:rPr b="1" lang="ru-RU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векторных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личин и др.) имеют чаще всего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сиоматическо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е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Система скалярных величин задается аксиоматически следующими свойствами</a:t>
            </a:r>
            <a:r>
              <a:rPr b="1" lang="ru-RU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равнимостью, аддитивностью, упорядоченностью, коммутативностью и ассоциативностью относительно сложения, монотонностью, существованием разности, возможностью измер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Замеч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2057400"/>
            <a:ext cx="754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свойства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в явном виде не формулируютс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школе, но выявляются в ходе решения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практически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дач непосредственно при работе с моделями либо с числовыми значениями величи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Аксиомы ме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80880"/>
            <a:ext cx="8839440" cy="64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 величин, которые проявляютс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измерен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писываются с помощью </a:t>
            </a:r>
            <a:r>
              <a:rPr b="1" i="1" lang="ru-RU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аксиом меры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нормируемост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уществование фигуры с мерой, равной единиц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неотрицательност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аждой фигуре ставится в соответствие неотрицательное числ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инвариантност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вные фигуры имеют равные мер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аддитивност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мера фигуры, составленной из конечного числа непересекающихся фигур, равна сумме мер этих фигу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рсе геометрии основной школы </a:t>
            </a:r>
            <a:r>
              <a:rPr b="1" lang="ru-RU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свойств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ыражающие математическую сущность </a:t>
            </a:r>
            <a:r>
              <a:rPr b="1" i="1" lang="ru-RU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аксиом мер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должны быть известн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ащимся. Они в явном или неявном виде находят применение при изучении конкретных геометрических величин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Замеч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609480"/>
            <a:ext cx="853416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учении допускается для упрощения языка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отождествление </a:t>
            </a:r>
            <a:r>
              <a:rPr b="1" i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меры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 величины с самой </a:t>
            </a:r>
            <a:r>
              <a:rPr b="1" i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величино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меры длины с длиной, меры площади с площадью, меры объема с объемом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говорят «длина отрезка – действительное число» вместо «мера длины отрезка…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 основных этапов изучения величин можно выделить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ропедевтически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систематически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Этапы изуч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33520"/>
            <a:ext cx="84582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Пропедевтический эта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математики 1-6-х 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классов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витие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интуитивных представлений о величинах и их практическом измерени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епосредственное измерение 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длин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резков, 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взвешивание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 определени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ъема 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Times New Roman"/>
                <a:hlinkClick r:id="rId4" action="ppaction://hlinksldjump"/>
              </a:rPr>
              <a:t>переливанием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ы, измерение величин углов с помощью транспортира и д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учащиеся усваивают, что для величин существуют отношения равенства и неравенства, их можно складывать, делить на доли, измерять. То есть на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интуитивном уровне отрабатываются 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свойства </a:t>
            </a:r>
            <a:r>
              <a:rPr b="0" lang="en-US" sz="2800" spc="-1" strike="noStrike" u="sng">
                <a:solidFill>
                  <a:srgbClr val="cc0099"/>
                </a:solidFill>
                <a:uFillTx/>
                <a:latin typeface="Times New Roman"/>
                <a:ea typeface="Times New Roman"/>
              </a:rPr>
              <a:t>величин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опедевтический эта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289080"/>
            <a:ext cx="8305920" cy="66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и формирования представлений учащихся о величинах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ение и уточнение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редставлени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кольника о данной величине (обращение к опыту ребенк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Сравнени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нородных величин (визуально, наложением, приложением, путем использования различных мерок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Знакомство с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единицей измерени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нной величины и с измерительным прибор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Формирование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измерительных умени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навы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Пропедевтический эта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457200"/>
            <a:ext cx="86868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Сложение и вычитани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нородных величин, выраженных в единицах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одного наименовани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Знакомство с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новыми единицам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мерения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,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ерево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нородных величин в другие, выраженные в других единицах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измерения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 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Сложение и вычитани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личин, выраженных в единицах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двух наименовани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    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Умножение и делени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личин на числ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52320" y="0"/>
            <a:ext cx="2590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ла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914400"/>
            <a:ext cx="8001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оль изучения величин в школьном курсе математики. Общее понятие величи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нятие геометрической величи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ебования програм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блема измерения величи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ды величин. Аксиомати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тапы изуч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Пропедевтический эта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533520"/>
            <a:ext cx="8534520" cy="59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ширение объема геометрических знаний учащихся связано с понятием угла и с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задачей измерения величин угло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ние понятия угл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го необходимо мыслить сразу неограниченны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величина угла не зависит от «длины сторон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гл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иеся приходят к мысли о величине угла и специальном инструменте для ее измерения (транспортире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Терминологическая трудност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пециального термина для обозначения величины угла не существуе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Систематический эта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289080"/>
            <a:ext cx="8382240" cy="66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ий эта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учения величин относится к курсу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геометрии основной школ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Э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тап изучения методов косвенного измерения величин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ребования к учащему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точно отчетлив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лен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о сущности процесса измерени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 тесной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связ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нятия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величин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нятием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числ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ние факт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числа в своем историческом развитии возникли в результате двух основных операций: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счета предметов и измерения величи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ущность процесса измер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517680"/>
            <a:ext cx="8686800" cy="63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Измерить величину – это значит, сравнить ее с другой, однородной величиной, принятой за единицу измерени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Этап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цес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мерения величин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Из данного рода величин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выбираетс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которая величина, которую называют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единицей измер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Осуществляется процесс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измерени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сравнени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нной величины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с выбранно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единицей измерени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измерения величины находят некоторое число –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числовое значение данной величин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выбранной единице измер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Отлич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609480"/>
            <a:ext cx="8534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четко различать геометрическую фигуру, величину, относящуюся к фигуре и числовое значение этой величин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0" y="2133720"/>
            <a:ext cx="9143280" cy="4571640"/>
            <a:chOff x="0" y="2133720"/>
            <a:chExt cx="9143280" cy="4571640"/>
          </a:xfrm>
        </p:grpSpPr>
        <p:grpSp>
          <p:nvGrpSpPr>
            <p:cNvPr id="88" name=""/>
            <p:cNvGrpSpPr/>
            <p:nvPr/>
          </p:nvGrpSpPr>
          <p:grpSpPr>
            <a:xfrm>
              <a:off x="9720" y="2139480"/>
              <a:ext cx="9120960" cy="4559400"/>
              <a:chOff x="9720" y="2139480"/>
              <a:chExt cx="9120960" cy="455940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9720" y="2139480"/>
                <a:ext cx="3037680" cy="949680"/>
                <a:chOff x="9720" y="2139480"/>
                <a:chExt cx="3037680" cy="9496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56240" y="2139480"/>
                  <a:ext cx="2744640" cy="9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99"/>
                      </a:solidFill>
                      <a:latin typeface="Times New Roman"/>
                      <a:ea typeface="Times New Roman"/>
                    </a:rPr>
                    <a:t>Геометрическая фигур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9720" y="2139480"/>
                  <a:ext cx="3037680" cy="94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048120" y="2139480"/>
                <a:ext cx="3040920" cy="949680"/>
                <a:chOff x="3048120" y="2139480"/>
                <a:chExt cx="3040920" cy="9496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194640" y="2139480"/>
                  <a:ext cx="2748600" cy="9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9900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048120" y="2139480"/>
                  <a:ext cx="3040920" cy="94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6089760" y="2139480"/>
                <a:ext cx="3040920" cy="949680"/>
                <a:chOff x="6089760" y="2139480"/>
                <a:chExt cx="3040920" cy="9496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6236280" y="2139480"/>
                  <a:ext cx="2748600" cy="9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Значение величины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089760" y="2139480"/>
                  <a:ext cx="3040920" cy="94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9720" y="3089520"/>
                <a:ext cx="3037680" cy="949320"/>
                <a:chOff x="9720" y="3089520"/>
                <a:chExt cx="3037680" cy="9493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6240" y="3089520"/>
                  <a:ext cx="2744640" cy="94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 Отрезок АВ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9720" y="3089520"/>
                  <a:ext cx="3037680" cy="94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3048120" y="3089520"/>
                <a:ext cx="3040920" cy="949320"/>
                <a:chOff x="3048120" y="3089520"/>
                <a:chExt cx="3040920" cy="9493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194640" y="3089520"/>
                  <a:ext cx="2748600" cy="94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Длина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отрезка АВ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048120" y="3089520"/>
                  <a:ext cx="3040920" cy="94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6089760" y="3089520"/>
                <a:ext cx="3040920" cy="949320"/>
                <a:chOff x="6089760" y="3089520"/>
                <a:chExt cx="3040920" cy="9493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6236280" y="3089520"/>
                  <a:ext cx="2748600" cy="94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Числовое значение длины отрезка АВ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089760" y="3089520"/>
                  <a:ext cx="3040920" cy="94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9720" y="4039200"/>
                <a:ext cx="3037680" cy="949680"/>
                <a:chOff x="9720" y="4039200"/>
                <a:chExt cx="3037680" cy="9496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56240" y="4039200"/>
                  <a:ext cx="2744640" cy="9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Обозначение: [АВ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9720" y="4039200"/>
                  <a:ext cx="3037680" cy="94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3048120" y="4039200"/>
                <a:ext cx="3040920" cy="949680"/>
                <a:chOff x="3048120" y="4039200"/>
                <a:chExt cx="3040920" cy="9496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194640" y="4039200"/>
                  <a:ext cx="2748600" cy="9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Обозначение: |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B</a:t>
                  </a:r>
                  <a:r>
                    <a:rPr b="1" lang="ru-R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|=4см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048120" y="4039200"/>
                  <a:ext cx="3040920" cy="94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6089760" y="4039200"/>
                <a:ext cx="3040920" cy="949680"/>
                <a:chOff x="6089760" y="4039200"/>
                <a:chExt cx="3040920" cy="9496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236280" y="4039200"/>
                  <a:ext cx="2748600" cy="9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089760" y="4039200"/>
                  <a:ext cx="3040920" cy="94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9720" y="4989240"/>
                <a:ext cx="3037680" cy="949680"/>
                <a:chOff x="9720" y="4989240"/>
                <a:chExt cx="3037680" cy="9496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56240" y="4989240"/>
                  <a:ext cx="2744640" cy="9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 Угол АВС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9720" y="4989240"/>
                  <a:ext cx="3037680" cy="94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048120" y="4989240"/>
                <a:ext cx="3040920" cy="949680"/>
                <a:chOff x="3048120" y="4989240"/>
                <a:chExt cx="3040920" cy="9496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194640" y="4989240"/>
                  <a:ext cx="2748600" cy="9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еличина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угла АВС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048120" y="4989240"/>
                  <a:ext cx="3040920" cy="94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089760" y="4989240"/>
                <a:ext cx="3040920" cy="949680"/>
                <a:chOff x="6089760" y="4989240"/>
                <a:chExt cx="3040920" cy="9496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236280" y="4989240"/>
                  <a:ext cx="2748600" cy="9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Числовое значение величины угла АВС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089760" y="4989240"/>
                  <a:ext cx="3040920" cy="94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9720" y="5939640"/>
                <a:ext cx="3037680" cy="759240"/>
                <a:chOff x="9720" y="5939640"/>
                <a:chExt cx="3037680" cy="7592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56240" y="5939640"/>
                  <a:ext cx="2744640" cy="75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Обозначение: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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ВС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9720" y="5939640"/>
                  <a:ext cx="3037680" cy="75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3048120" y="5939640"/>
                <a:ext cx="3040920" cy="759240"/>
                <a:chOff x="3048120" y="5939640"/>
                <a:chExt cx="3040920" cy="7592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3194640" y="5939640"/>
                  <a:ext cx="2748600" cy="75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Обозначение: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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ВС=60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048120" y="5939640"/>
                  <a:ext cx="3040920" cy="75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6089760" y="5939640"/>
                <a:ext cx="3040920" cy="759240"/>
                <a:chOff x="6089760" y="5939640"/>
                <a:chExt cx="3040920" cy="7592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6236280" y="5939640"/>
                  <a:ext cx="2748600" cy="75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089760" y="5939640"/>
                  <a:ext cx="3040920" cy="75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" name=""/>
            <p:cNvSpPr/>
            <p:nvPr/>
          </p:nvSpPr>
          <p:spPr>
            <a:xfrm>
              <a:off x="0" y="2133720"/>
              <a:ext cx="9143280" cy="4571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Систематический эта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533520"/>
            <a:ext cx="845820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виваются знания и навыки, связанные с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прикладно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роной вопроса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ются факты, позволяющие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от измерени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йти </a:t>
            </a:r>
            <a:r>
              <a:rPr b="1" i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к вычислени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личин с помощью формул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внимание здесь уделяется вычислению по формулам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площаде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игур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жение получает и формально-логическая сторона вопроса: изучаются основные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свойства длин и площаде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налоги аксиом мер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Истор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380880"/>
            <a:ext cx="8763120" cy="60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единицы длины, как на Руси, так и у других народов древности, были связаны с различными частями тела человека: ширина ладони – 1 ладонь, 7 ладоней – 1 локоть, длина первой фаланги большого пальца руки – 1 дюйм, расстояние между концами пальцев разведенных в стороны рук – маховая сажень, расстояние от пальцев левой ноги до конца пальцев поднятой правой руки - косая сажен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окоть» – мера длины, которой купцы пользовались для измерения ткани, египтяне измеряли локтями подъем Нил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адонями» английские крестьяне измеряли высоту лошад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юйм» - голландское название. Эта мера использовалась для измерения небольших предметов (вспомнить сказку Г.Х.Андерсена «Дюймовочка»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Истор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380880"/>
            <a:ext cx="86108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известны другие единицы измерения: ярд (этой мере длины 900 лет. Она была равна расстоянию от конца носа короля Генрих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 конца пальцев его вытянутой руки). Один ярд равен трем футам, фут – «ступня», равен 12 дюймам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ения давали разные результаты, потому что у всех людей разные по размеру руки. Это заметил английский король Эдуард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установил «законный дюйм, равный длине трех ячменных зерен, выложенных в ряд». В Россию дюйм пришел в царствование Петр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н равен 2см 5м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Истор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380880"/>
            <a:ext cx="8610480" cy="62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с сейчас принята система измерений длины, в основе которой лежит метр и его доли – метрическая система. Ее создали французы. В 1792г. Академия наук измеряла длину земного меридиана, проходящего через Париж. В результате огромной работы была найдена длина парижского меридиана в «туазах». Парижская Академия наук предложила принять за единую меру длины новую единицу измерения – «метр», равную одной десятимиллионной доле четверти парижского меридиана. В России первым применил метр как единицу длины Н.И. Лобачевский. Инициаторами введения метрической системы мер как международной были русские ученые и, главным образом, Б.С. Якоби. Обязательной в нашей стране эта система стала после 1918г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Истор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380880"/>
            <a:ext cx="8686800" cy="63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ной школе, после ознакомления с иррациональными числами, рассказ о проблеме соизмеримости величин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но тому, как единица была общей мерой целых чисел, величины должны иметь общую единицу измерения – быть соизмеримыми, каждая величина отождествлялась с целым числом составляющих ее единиц. Эта попытка отождествить целые числа с непрерывными величинами ни к чему не привела. Решающую роль в этом сыграло открытие пифагорейцами иррационального числа. В квадрате со стороной 1 отношение диагонали к стороне равно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; оно не выражалось в виде отношения целых чисел. Сторона и диагональ не имеют общей единицы измерения и называются несоизмеримыми. В связи с открытием несоизмеримых величин в греческую математику проникло понятие бесконеч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Обложка%20Петерсон%201%20класс" descr=""/>
          <p:cNvPicPr/>
          <p:nvPr/>
        </p:nvPicPr>
        <p:blipFill>
          <a:blip r:embed="rId1"/>
          <a:stretch/>
        </p:blipFill>
        <p:spPr>
          <a:xfrm>
            <a:off x="1925640" y="76320"/>
            <a:ext cx="5173560" cy="670536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7543800" y="533520"/>
            <a:ext cx="1143000" cy="533160"/>
          </a:xfrm>
          <a:prstGeom prst="leftArrow">
            <a:avLst>
              <a:gd name="adj1" fmla="val 50000"/>
              <a:gd name="adj2" fmla="val 5359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685800"/>
            <a:ext cx="861048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тематика позволяет изучать и описывать явления окружающего мир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Количественны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дели того или иного процесса являются наиболее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адекватным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ым общим понятием всех таких моделей является понятие «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еличи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изучения величин в школе выделена в одну из основных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содержательно-методических линий курса геометри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ой школ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Роль изучения величин в школьном курсе матема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Величины.%20Длина" descr=""/>
          <p:cNvPicPr/>
          <p:nvPr/>
        </p:nvPicPr>
        <p:blipFill>
          <a:blip r:embed="rId1"/>
          <a:stretch/>
        </p:blipFill>
        <p:spPr>
          <a:xfrm>
            <a:off x="2016000" y="152280"/>
            <a:ext cx="5112000" cy="655344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rId2" action="ppaction://hlinksldjump"/>
          </p:cNvPr>
          <p:cNvSpPr/>
          <p:nvPr/>
        </p:nvSpPr>
        <p:spPr>
          <a:xfrm>
            <a:off x="7543800" y="533520"/>
            <a:ext cx="1143000" cy="533160"/>
          </a:xfrm>
          <a:prstGeom prst="leftArrow">
            <a:avLst>
              <a:gd name="adj1" fmla="val 50000"/>
              <a:gd name="adj2" fmla="val 5359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Масса" descr=""/>
          <p:cNvPicPr/>
          <p:nvPr/>
        </p:nvPicPr>
        <p:blipFill>
          <a:blip r:embed="rId1"/>
          <a:stretch/>
        </p:blipFill>
        <p:spPr>
          <a:xfrm>
            <a:off x="2185920" y="152280"/>
            <a:ext cx="4772160" cy="655344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543800" y="533520"/>
            <a:ext cx="1143000" cy="533160"/>
          </a:xfrm>
          <a:prstGeom prst="leftArrow">
            <a:avLst>
              <a:gd name="adj1" fmla="val 50000"/>
              <a:gd name="adj2" fmla="val 5359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Объем" descr=""/>
          <p:cNvPicPr/>
          <p:nvPr/>
        </p:nvPicPr>
        <p:blipFill>
          <a:blip r:embed="rId1"/>
          <a:stretch/>
        </p:blipFill>
        <p:spPr>
          <a:xfrm>
            <a:off x="2043000" y="152280"/>
            <a:ext cx="5056200" cy="655344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7543800" y="533520"/>
            <a:ext cx="1143000" cy="533160"/>
          </a:xfrm>
          <a:prstGeom prst="leftArrow">
            <a:avLst>
              <a:gd name="adj1" fmla="val 50000"/>
              <a:gd name="adj2" fmla="val 5359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Свойства%20величин" descr=""/>
          <p:cNvPicPr/>
          <p:nvPr/>
        </p:nvPicPr>
        <p:blipFill>
          <a:blip r:embed="rId1"/>
          <a:stretch/>
        </p:blipFill>
        <p:spPr>
          <a:xfrm>
            <a:off x="2097000" y="152280"/>
            <a:ext cx="4948200" cy="6553440"/>
          </a:xfrm>
          <a:prstGeom prst="rect">
            <a:avLst/>
          </a:prstGeom>
          <a:ln w="0">
            <a:noFill/>
          </a:ln>
        </p:spPr>
      </p:pic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7543800" y="533520"/>
            <a:ext cx="1143000" cy="533160"/>
          </a:xfrm>
          <a:prstGeom prst="leftArrow">
            <a:avLst>
              <a:gd name="adj1" fmla="val 50000"/>
              <a:gd name="adj2" fmla="val 5359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Схема%20величин%20и%20нет" descr=""/>
          <p:cNvPicPr/>
          <p:nvPr/>
        </p:nvPicPr>
        <p:blipFill>
          <a:blip r:embed="rId1"/>
          <a:stretch/>
        </p:blipFill>
        <p:spPr>
          <a:xfrm>
            <a:off x="2171880" y="152280"/>
            <a:ext cx="4856040" cy="647712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7543800" y="533520"/>
            <a:ext cx="1143000" cy="533160"/>
          </a:xfrm>
          <a:prstGeom prst="leftArrow">
            <a:avLst>
              <a:gd name="adj1" fmla="val 50000"/>
              <a:gd name="adj2" fmla="val 5359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онятие величи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57200"/>
            <a:ext cx="8915400" cy="60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Понятие величины - одно из важнейших общенаучных поняти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физик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личины – скорость, сопротивлени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математик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лина, площадь, объем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информатик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бъем информаци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экономик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затраты, выручка, прибыль, себестоим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техник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оизводительность, расход топлив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еографи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бъем осадков, атмосферное давление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хими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олярная масса, молярный объем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сихологи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эффициент интеллекта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онятие величи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457200"/>
            <a:ext cx="845820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оваре </a:t>
            </a:r>
            <a:r>
              <a:rPr b="1" lang="ru-RU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С.И. Ожегов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Величина то (предмет, явление и т.п.), что можно </a:t>
            </a:r>
            <a:r>
              <a:rPr b="1" lang="ru-RU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измерить, исчислит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А.Н. Крыло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сал: «Надо помнить, что есть множество «величин», то есть того, к чему приложены понятия «больше» и «меньше», но величин </a:t>
            </a:r>
            <a:r>
              <a:rPr b="1" lang="ru-RU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точно не измеряемых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пример ум и глупость; красота и безобразие; храбрость и трусость; находчивость и тупость и т.д.; для измерения этих величин нет единиц, эти величины </a:t>
            </a:r>
            <a:r>
              <a:rPr b="1" lang="ru-RU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не могут быть числам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онятие величи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57200"/>
            <a:ext cx="876312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понятие величины – непосредственное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бобщени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кретных величин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уитивн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личина может быть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больше или меньш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ве однородные величины могут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складыватьс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еличину можно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делит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произвольное натуральное число, ее можно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измерит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равнить с другой величиной того же рода, принятой за единицу измерения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сформулировать ответ на вопрос,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что такое величина в математических термина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просто и в рамках обязательной программы школьное обучение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е должно давать отве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это вопрос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учении имеют дело с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конкретным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личина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Замеч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19320"/>
            <a:ext cx="853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зж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ельно будут перечислены 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аксиомы – свойства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общего поняти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личины и отдельно представлены 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четыре аксиомы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меры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 величин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возникают в связи с измерением величин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Величина в геометр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28600"/>
            <a:ext cx="883908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ятие величины устанавливает </a:t>
            </a:r>
            <a:r>
              <a:rPr b="1" lang="ru-RU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взаимосвяз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важнейшими математическими понятиями - </a:t>
            </a:r>
            <a:r>
              <a:rPr b="1" i="1" lang="ru-RU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числом и фигуро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позволяет перейти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т качественног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исательного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 количественному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учению свойств объектов, то есть </a:t>
            </a:r>
            <a:r>
              <a:rPr b="1" lang="ru-RU" sz="3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математизироват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нания об изучаемом объект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ое описание – величина – представляется не только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число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и обязательно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единицей измерен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Величины в геометрии основной школ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457200"/>
            <a:ext cx="8534520" cy="61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рсе геометрии основной школы изучаются следующие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еометрические величин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ли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езка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величи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гла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ли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ружности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ли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уги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лощад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ногоугольника и его частных видов (прямоугольника, треугольника, параллелограмма, трапеции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лощад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уг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7:32:25Z</dcterms:created>
  <dc:creator>terminator</dc:creator>
  <dc:description/>
  <dc:language>en-US</dc:language>
  <cp:lastModifiedBy>terminator</cp:lastModifiedBy>
  <dcterms:modified xsi:type="dcterms:W3CDTF">2010-10-12T17:09:21Z</dcterms:modified>
  <cp:revision>25</cp:revision>
  <dc:subject/>
  <dc:title>Презентация PowerPoint</dc:title>
</cp:coreProperties>
</file>