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925-B486-47C9-93B2-B0E64174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9C0-09AD-417C-9962-4C42BDE3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446-4117-4FDC-B3CE-EC19131F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72B-8D07-462A-AB0D-88653C25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1D3-E117-41B8-871A-02416A51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95C-AE80-4538-B86F-0AAAF3D6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98E-7110-4507-9A35-F1F085FB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B6C-1039-4B10-B093-F6F6ED5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30C-421C-45AF-B38A-042653D4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067-5704-4FBF-8104-EA8DC78B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6CE-C941-4660-83F6-94A5F24E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495-A638-4648-B876-F3B3EFB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DE7F-F77B-41C1-A9DB-119982FF7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ЛОГИЧЕСКОЕ СТРОЕНИЕ КУРСА ГЕОМЕТ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2259000" y="0"/>
              <a:ext cx="441072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 построения теории планиметр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ксиоматический мето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046160"/>
              <a:ext cx="2473920" cy="34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снования планиметр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689200" y="929880"/>
              <a:ext cx="3549960" cy="581040"/>
              <a:chOff x="2689200" y="929880"/>
              <a:chExt cx="3549960" cy="581040"/>
            </a:xfrm>
          </p:grpSpPr>
          <p:sp>
            <p:nvSpPr>
              <p:cNvPr id="63" name=""/>
              <p:cNvSpPr/>
              <p:nvPr/>
            </p:nvSpPr>
            <p:spPr>
              <a:xfrm>
                <a:off x="2689200" y="929880"/>
                <a:ext cx="3335040" cy="581040"/>
              </a:xfrm>
              <a:custGeom>
                <a:avLst/>
                <a:gdLst>
                  <a:gd name="textAreaLeft" fmla="*/ 416880 w 3335040"/>
                  <a:gd name="textAreaRight" fmla="*/ 2918160 w 3335040"/>
                  <a:gd name="textAreaTop" fmla="*/ 145080 h 581040"/>
                  <a:gd name="textAreaBottom" fmla="*/ 435960 h 58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42320" y="1046160"/>
                <a:ext cx="2796840" cy="34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Логический пут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239520" y="1046160"/>
              <a:ext cx="139824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743480"/>
              <a:ext cx="1936440" cy="348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сновные понят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208240"/>
              <a:ext cx="96804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бъект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0600" y="2208240"/>
              <a:ext cx="129060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тнош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673360"/>
              <a:ext cx="860400" cy="69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Точ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рез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игу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68040" y="2673360"/>
              <a:ext cx="2151360" cy="69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очка принадлежит фигур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очка является концом отрез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ва отрезка рав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42320" y="2208240"/>
              <a:ext cx="13982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вязи отрезков и точе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8560" y="2208240"/>
              <a:ext cx="9680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авенства отрезк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24240" y="2208240"/>
              <a:ext cx="8604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епрерыв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92640" y="2208240"/>
              <a:ext cx="107568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Плоск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75960" y="2091960"/>
              <a:ext cx="968040" cy="69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Параллельности Евклид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916240" y="1859760"/>
              <a:ext cx="4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410720" y="1859760"/>
              <a:ext cx="53784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6400" y="197604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16600" y="1976040"/>
              <a:ext cx="4302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22840" y="197604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37760" y="1859760"/>
              <a:ext cx="8604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0200" y="20919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13520" y="20919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0200" y="2557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13520" y="2557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83320" y="139464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8560" y="1743480"/>
              <a:ext cx="96804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линей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46800" y="1743480"/>
              <a:ext cx="1290600" cy="348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ксио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6440" y="1394640"/>
              <a:ext cx="505584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83240" y="3138480"/>
              <a:ext cx="860400" cy="25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Через точку, не лежащую на данной прямой, проходит единственная прямая, не пересекающая данную прямую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07560" y="3138480"/>
              <a:ext cx="968040" cy="185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ксиома разбиения плоскости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ксиома откладывания угла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ксиома равенства отрез угл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4240" y="3138480"/>
              <a:ext cx="1075680" cy="290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сли дана бесконечная последовательность отрезков и каждый отрезок содержит последующий отрезок, то существует точка, принадлежащая всем отрезкам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87800" y="3138480"/>
              <a:ext cx="1828440" cy="33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ва отрезка, равные одному и тому же равны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а каждом луче от его начала можно отложить отрезок, равный данному, и притом только оди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сли точка С лежит внутри АВ, а точка С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– внутри отрезка А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и АС=А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СВ=С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то АВ=А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ля каждых двух отрезков АВ и РО существует отрезок АС, содержащий АВ и составленный из конечного числа отрезков, равных РО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3320" y="3603240"/>
              <a:ext cx="2689200" cy="325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уществует по крайней мере две точки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ля каждых двух точек существует единственный отрезок, концами которого являются данные точки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У каждого отрезка есть два и только два конца, а также существуют и другие принадлежащие ему точки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очка, лежащая внутри отрезка разбивает его на два отрезка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аждый отрезок можно продолжить за каждый из его концов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 двух отрезков, имеющих две общие точки, является отрезком, его концами служат два из концов этих отрезков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2789640"/>
              <a:ext cx="0" cy="81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78760" y="278964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54440" y="278964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30480" y="278964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13800" y="278964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КСИО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57200"/>
            <a:ext cx="82296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, принимаемое без доказательства в качестве исходного, отправного для данной теории, в частности для геометрии, называе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аксиом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ксиома» происходит от греческого и означает «достойное признания» ввиду его очевидности, безусловное. Аксиомы говорят об основных понятиях те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ежащих в основаниях теории, называют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аксиомати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й теории; говорят так же «система аксио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ксиоматике можно относить и </a:t>
            </a:r>
            <a:r>
              <a:rPr b="1" i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сновные понятия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09480"/>
            <a:ext cx="86868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 могут быть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вух тип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дни описывают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ъект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ие как точка, прямая, круг и др., другие описывают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тнош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ов друг к другу, такие как прямые пересекаются, точка лежит внутри к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при изложении геометрии можно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бирать по-разном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трезо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чаще –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яма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качестве аксиом также можно брать разные поло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оматика излагается так, что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начала перечисляются основные понятия, а потом формулируются аксиом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Доказатель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85800"/>
            <a:ext cx="86868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м называется, вообще, убедительное рассуждение. Положение (утверждение) теории, которое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азывается или подлежит доказательств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теорем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рого логическом изложении доказательство должно опиратьс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олько на установленные полож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так как они, в свою очередь, тоже должны на чем-то основываться, то приходим к тому, ч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основе должны лежать некоторые положения, принимаемые без доказательст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аксио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4582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определение состоит в том, что определяемое понятие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азъясняется через друг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но сказать, к ним своди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льзя сводить одни понятия к другим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о бесконечно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должны быть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сходны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ия, которые принимаются без предварительных 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неопределяемы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что от них требуется, высказывается в аксиомах (поэтому говорят, что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ксиомы служат скрытыми определения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х понят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914400"/>
            <a:ext cx="86104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бстракт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шления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достаточ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своения этой формально-логической схемы геометр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 7 классе изложение материала практически во всех современных учебниках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е ведется аксиоматичес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лишь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редставл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 аксиоматическом изложении: роль доказательств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остепенно усили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ения становятся коррект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остроение школьного кур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одходы к пониманию неопределяемых пон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76200"/>
            <a:ext cx="899172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1. Количество измер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мысленно отделяем от тела, которому она принадлежит, лишаем ее толщины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шаем толщины и ширины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змер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2. Возможность являться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аница линии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аница поверхности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аница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3. Порождение движ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ижением своим порождает линию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ижением порождает поверхность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ждает те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4. Практические предст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кол иглой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ить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ена, кры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Другие подх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21932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Формально-лог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тказ от интуи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нятия точка, прямая определяются аксио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Интуитивно-эксперимент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акты устанавливаются путем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эксперимен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огические связи отсутству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щность геомет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133720"/>
            <a:ext cx="7162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Геометрия изучает пространственные свойства предметов (форму и размеры), оставляя в стороне все их остальные признаки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533520"/>
            <a:ext cx="81532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ометрия была открыта египтянами и возникла из измерения земли. Это измерение было им необходимо вследствие разливов Нила, постоянно смывающих границы (участков земли). Нет ничего удивительного в том, что эта наука, как и другие, возникла из потребностей человека. Всякое возникающее знание из несовершенного состояния переходит в совершенное. Зарождаясь путем чувственного восприятия, оно постепенно становится предметом нашего рассмотрения, и наконец, делается достоянием разум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дем Родосский (4 в до н.э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Исторический обз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торический обз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066680"/>
            <a:ext cx="830556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, начиная с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до н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метр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иленно развивалась греческими математиками, сначала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алес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ифагором, Демокритом и Платон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вдоксом, Аполлонием, Эратосфен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рхимед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м разума геометрические знания стали в логической систем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Евкли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Евкли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880"/>
            <a:ext cx="88390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сиоматический мето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первые был применен при изучении геометрии александрийским ученым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Евклид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реческим ученым, жившим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до н.э. Известно, что он родом из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Аф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ыл учеником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латон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глашению Птолеме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тера переехал в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Александрию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ам организовал математическую школ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видетельствует Папп Александрийский, Евклид был человеком мягкого характера, очень скромным и независим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Евкли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066680"/>
            <a:ext cx="4953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царь Птолемей спросил Евклида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«Нет ли в геометрии более короткого пути, чем тот, который предложен Евклидом в его книгах?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 Евклид якобы ответил: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Для царей нет особого пути в геометрии!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Евклид" descr=""/>
          <p:cNvPicPr/>
          <p:nvPr/>
        </p:nvPicPr>
        <p:blipFill>
          <a:blip r:embed="rId1"/>
          <a:stretch/>
        </p:blipFill>
        <p:spPr>
          <a:xfrm>
            <a:off x="5307120" y="838080"/>
            <a:ext cx="3566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58920"/>
            <a:ext cx="88390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ение курса </a:t>
            </a:r>
            <a:r>
              <a:rPr b="1" i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а содержатель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е (материал располагается в систематическом порядке), система определяется трактовками фундаментальных понятий, развертыванием последующих определений и доказательством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истема аксиом не вводи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ойства «читаются из чертежа»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i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едуктивном подход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аксиоматике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водится постепен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епень доказательности постепенно усиливается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i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едуктивной основ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аксиом вводится в начале курса, раскрывается смысл терминов теорема, аксиома, доказательство). По возможности проводятс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разу строг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з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Обзор строения школьной геомет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строение курса геомет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838080"/>
            <a:ext cx="80769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сиоматическ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 – единственная школьная дисциплина, которая строится на дедуктивно-аксиоматической основе и поэтому предъявляет повышенные требования к уровню развития логического мышл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уть аксиоматического метода изложения геомет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066680"/>
            <a:ext cx="8534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некоторое число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сновных (неопределяемых) понят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ни заимствованы их опы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их описываются с помощью некоторого числа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тверждений-акси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понятия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определя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ез основные неопределяемые или ранее введ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утверждения строго (с помощью дедуктивных рассуждений)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док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иде теор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31:56Z</dcterms:created>
  <dc:creator>terminator</dc:creator>
  <dc:description/>
  <dc:language>en-US</dc:language>
  <cp:lastModifiedBy>terminator</cp:lastModifiedBy>
  <dcterms:modified xsi:type="dcterms:W3CDTF">2010-08-31T18:07:29Z</dcterms:modified>
  <cp:revision>19</cp:revision>
  <dc:subject/>
  <dc:title>ЛОГИЧЕСКОЕ СТРОЕНИЕ КУРСА ГЕОМЕТРИИ</dc:title>
</cp:coreProperties>
</file>