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E4D-4892-453F-AB11-113F040B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2A8-390A-4083-9ECB-BD373EA6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8FD-DF40-4A4A-8F7D-053EDBC2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135-75C4-40BA-9989-BBF7728C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5CF-334D-4E0A-B2CC-FC5BDBC5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A3E-03A8-43FA-8794-32C06C0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402-6FEE-407D-AE5C-E04F3D3F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499-7312-49C6-A9BB-8F28B1DD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8C1-25CF-42F4-9E81-FE793E10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B2B-4E1C-4234-830F-DB611CB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978-7619-46A0-89F5-B6B234F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9F0-3609-471C-A4BB-3976EEB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19D3-B7A2-4BED-8C3A-804DB54D8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Лекция №2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Теорема Эйл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Свойство пропор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60680" y="903240"/>
                <a:ext cx="33400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1523880" y="2762280"/>
          <a:ext cx="5302440" cy="269856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5520"/>
                <a:gridCol w="13255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648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Формулиро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98720" y="1109520"/>
            <a:ext cx="74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три чевиан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X, BY, CZ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еугольника АВС конкурентны, т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BX|:|XC| * |CY|:|YA| * |AZ|:|ZB|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39920" y="2835360"/>
            <a:ext cx="5908680" cy="3567960"/>
            <a:chOff x="1339920" y="2835360"/>
            <a:chExt cx="5908680" cy="3567960"/>
          </a:xfrm>
        </p:grpSpPr>
        <p:sp>
          <p:nvSpPr>
            <p:cNvPr id="78" name=""/>
            <p:cNvSpPr/>
            <p:nvPr/>
          </p:nvSpPr>
          <p:spPr>
            <a:xfrm>
              <a:off x="4748040" y="5943600"/>
              <a:ext cx="4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339920" y="2835360"/>
              <a:ext cx="5908680" cy="3183840"/>
              <a:chOff x="1339920" y="2835360"/>
              <a:chExt cx="5908680" cy="3183840"/>
            </a:xfrm>
          </p:grpSpPr>
          <p:sp>
            <p:nvSpPr>
              <p:cNvPr id="80" name=""/>
              <p:cNvSpPr/>
              <p:nvPr/>
            </p:nvSpPr>
            <p:spPr>
              <a:xfrm>
                <a:off x="1768320" y="3108240"/>
                <a:ext cx="5145120" cy="2816280"/>
              </a:xfrm>
              <a:prstGeom prst="triangle">
                <a:avLst>
                  <a:gd name="adj" fmla="val 3153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89400" y="3121200"/>
                <a:ext cx="1547640" cy="279216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1768320" y="4949640"/>
                <a:ext cx="3937320" cy="97452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2498400" y="4632480"/>
                <a:ext cx="4389480" cy="12808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39920" y="555948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06640" y="2835360"/>
                <a:ext cx="43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08680" y="5479920"/>
                <a:ext cx="43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90880" y="434664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26080" y="4481640"/>
                <a:ext cx="43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54640" y="474804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Поиск ре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609480"/>
            <a:ext cx="8643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тнесем аналитическую запись и черте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став каких фигур входят отрезки, составляющие отношения? Например, ВХ и ХС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м являются эти отрезки в треугольник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чем особенность этих пар треугольник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отношением каких величин связано отношение оснований треугольников с равными высот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разим отношения через площади треугольников сначала с вершиной А, затем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9000" y="601560"/>
                <a:ext cx="8781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X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X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240" y="2158920"/>
                <a:ext cx="874224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Y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Y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4560" y="3703680"/>
                <a:ext cx="28162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8760" y="5291280"/>
            <a:ext cx="81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Перемножим выражение отношений отрезков через площади треуголь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09480"/>
            <a:ext cx="6705720" cy="5334120"/>
          </a:xfrm>
          <a:prstGeom prst="triangle">
            <a:avLst>
              <a:gd name="adj" fmla="val 1923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74200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3320" y="2937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16680" y="54007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143000" y="609480"/>
            <a:ext cx="6705720" cy="5334120"/>
            <a:chOff x="1143000" y="609480"/>
            <a:chExt cx="6705720" cy="5334120"/>
          </a:xfrm>
        </p:grpSpPr>
        <p:sp>
          <p:nvSpPr>
            <p:cNvPr id="103" name=""/>
            <p:cNvSpPr/>
            <p:nvPr/>
          </p:nvSpPr>
          <p:spPr>
            <a:xfrm>
              <a:off x="1143000" y="609480"/>
              <a:ext cx="6705720" cy="5334120"/>
            </a:xfrm>
            <a:prstGeom prst="triangle">
              <a:avLst>
                <a:gd name="adj" fmla="val 19231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609480"/>
              <a:ext cx="0" cy="533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143000" y="2514240"/>
              <a:ext cx="3200400" cy="3429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057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3320" y="2937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74200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16680" y="54007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58920" y="596124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68800" y="19764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608800"/>
            <a:ext cx="35424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790600">
            <a:off x="4200840" y="2566800"/>
            <a:ext cx="353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143000" y="609120"/>
            <a:ext cx="6705720" cy="5334480"/>
            <a:chOff x="1143000" y="609120"/>
            <a:chExt cx="6705720" cy="5334480"/>
          </a:xfrm>
        </p:grpSpPr>
        <p:sp>
          <p:nvSpPr>
            <p:cNvPr id="116" name=""/>
            <p:cNvSpPr/>
            <p:nvPr/>
          </p:nvSpPr>
          <p:spPr>
            <a:xfrm>
              <a:off x="1143000" y="609480"/>
              <a:ext cx="6705720" cy="5334120"/>
            </a:xfrm>
            <a:prstGeom prst="triangle">
              <a:avLst>
                <a:gd name="adj" fmla="val 19231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609480"/>
              <a:ext cx="0" cy="533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143000" y="2514240"/>
              <a:ext cx="3200400" cy="3429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437920" y="609120"/>
              <a:ext cx="2057400" cy="53341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143000" y="3200400"/>
              <a:ext cx="3962520" cy="27432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40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3320" y="2937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74200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6680" y="54007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58920" y="596124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68800" y="19764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8400" y="2876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3200" y="597384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5608800"/>
            <a:ext cx="35424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90600">
            <a:off x="4200840" y="2566800"/>
            <a:ext cx="353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143000" y="609120"/>
            <a:ext cx="6705720" cy="5334480"/>
            <a:chOff x="1143000" y="609120"/>
            <a:chExt cx="6705720" cy="5334480"/>
          </a:xfrm>
        </p:grpSpPr>
        <p:sp>
          <p:nvSpPr>
            <p:cNvPr id="134" name=""/>
            <p:cNvSpPr/>
            <p:nvPr/>
          </p:nvSpPr>
          <p:spPr>
            <a:xfrm>
              <a:off x="1143000" y="609480"/>
              <a:ext cx="6705720" cy="5334120"/>
            </a:xfrm>
            <a:prstGeom prst="triangle">
              <a:avLst>
                <a:gd name="adj" fmla="val 19231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609480"/>
              <a:ext cx="0" cy="533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143000" y="2514240"/>
              <a:ext cx="3200400" cy="3429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437920" y="609120"/>
              <a:ext cx="2057400" cy="53341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000" y="3200400"/>
              <a:ext cx="3962520" cy="27432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4495680" y="1523520"/>
            <a:ext cx="0" cy="44197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689280" y="3200400"/>
            <a:ext cx="1416240" cy="1627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59400" y="369396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3320" y="2937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574200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6680" y="54007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58920" y="596124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68800" y="19764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8400" y="2876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83200" y="597384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790600">
            <a:off x="4200840" y="2566800"/>
            <a:ext cx="353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608800"/>
            <a:ext cx="35424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8000" y="5613480"/>
            <a:ext cx="35388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790600">
            <a:off x="4951080" y="3311640"/>
            <a:ext cx="344520" cy="30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43000" y="609120"/>
            <a:ext cx="6705720" cy="5334480"/>
            <a:chOff x="1143000" y="609120"/>
            <a:chExt cx="6705720" cy="5334480"/>
          </a:xfrm>
        </p:grpSpPr>
        <p:sp>
          <p:nvSpPr>
            <p:cNvPr id="158" name=""/>
            <p:cNvSpPr/>
            <p:nvPr/>
          </p:nvSpPr>
          <p:spPr>
            <a:xfrm>
              <a:off x="1143000" y="609480"/>
              <a:ext cx="6705720" cy="5334120"/>
            </a:xfrm>
            <a:prstGeom prst="triangle">
              <a:avLst>
                <a:gd name="adj" fmla="val 19231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609480"/>
              <a:ext cx="0" cy="533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143000" y="2514240"/>
              <a:ext cx="3200400" cy="3429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437920" y="609120"/>
              <a:ext cx="2057400" cy="53341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43000" y="3200400"/>
              <a:ext cx="3962520" cy="27432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5740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V="1">
            <a:off x="4495680" y="1523520"/>
            <a:ext cx="0" cy="44197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689280" y="3200400"/>
            <a:ext cx="1416240" cy="1627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38280" y="3885840"/>
            <a:ext cx="2057400" cy="646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59400" y="369396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3320" y="2937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74200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6680" y="54007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58920" y="596124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8800" y="19764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8400" y="2876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83200" y="597384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790600">
            <a:off x="4200840" y="2566800"/>
            <a:ext cx="353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608800"/>
            <a:ext cx="35424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18000" y="5613480"/>
            <a:ext cx="35388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790600">
            <a:off x="4951080" y="3311640"/>
            <a:ext cx="344520" cy="30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Гипотеза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960" y="1938240"/>
            <a:ext cx="805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Ортоцентр, центроид и центр описанной окружности произвольного треугольника лежат на одной прям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Опорные зн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42800"/>
            <a:ext cx="876312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Замечательные точки в треугольн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писа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коло треугольника окружности лежит на пересеч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серединных перпендикуляр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 сторонам треуг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вписа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 треугольник окружности лежит на пересечен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биссектри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реуг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чка пересечения высот –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ртоцент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оединяя основания высот получим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ртотреугольни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чка пересечения медиан –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центрои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оединяя середины сторон треугольника получим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серединный треугольни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143000" y="609120"/>
            <a:ext cx="6705720" cy="5334480"/>
            <a:chOff x="1143000" y="609120"/>
            <a:chExt cx="6705720" cy="5334480"/>
          </a:xfrm>
        </p:grpSpPr>
        <p:sp>
          <p:nvSpPr>
            <p:cNvPr id="184" name=""/>
            <p:cNvSpPr/>
            <p:nvPr/>
          </p:nvSpPr>
          <p:spPr>
            <a:xfrm>
              <a:off x="1143000" y="609480"/>
              <a:ext cx="6705720" cy="5334120"/>
            </a:xfrm>
            <a:prstGeom prst="triangle">
              <a:avLst>
                <a:gd name="adj" fmla="val 19231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8280" y="609480"/>
              <a:ext cx="0" cy="533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143000" y="2514240"/>
              <a:ext cx="3200400" cy="3429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437920" y="609120"/>
              <a:ext cx="2057400" cy="53341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143000" y="3200400"/>
              <a:ext cx="3962520" cy="27432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5740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6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4495680" y="1523520"/>
            <a:ext cx="0" cy="44197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89280" y="3200400"/>
            <a:ext cx="1416240" cy="1627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438280" y="3885840"/>
            <a:ext cx="2057400" cy="646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59400" y="369396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51400" y="386388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51200" y="406548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78160" y="44863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3320" y="2937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574200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6680" y="54007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58920" y="596124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68800" y="19764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8400" y="2876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83200" y="597384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790600">
            <a:off x="4200840" y="2566800"/>
            <a:ext cx="353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5608800"/>
            <a:ext cx="35424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18000" y="5613480"/>
            <a:ext cx="35388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790600">
            <a:off x="4951080" y="3311640"/>
            <a:ext cx="344520" cy="30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Гипотеза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9960" y="1938240"/>
            <a:ext cx="80596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Ортоцентр, центроид и центр описанной окружности произвольного треугольника лежат на одной прям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Центроид делит расстояние от ортоцентра до центра описанной окружности в отношении 2: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55640" y="293760"/>
            <a:ext cx="7585200" cy="6139800"/>
            <a:chOff x="755640" y="293760"/>
            <a:chExt cx="7585200" cy="6139800"/>
          </a:xfrm>
        </p:grpSpPr>
        <p:grpSp>
          <p:nvGrpSpPr>
            <p:cNvPr id="215" name=""/>
            <p:cNvGrpSpPr/>
            <p:nvPr/>
          </p:nvGrpSpPr>
          <p:grpSpPr>
            <a:xfrm>
              <a:off x="1143000" y="609120"/>
              <a:ext cx="6705720" cy="5334480"/>
              <a:chOff x="1143000" y="609120"/>
              <a:chExt cx="6705720" cy="5334480"/>
            </a:xfrm>
          </p:grpSpPr>
          <p:sp>
            <p:nvSpPr>
              <p:cNvPr id="216" name=""/>
              <p:cNvSpPr/>
              <p:nvPr/>
            </p:nvSpPr>
            <p:spPr>
              <a:xfrm>
                <a:off x="1143000" y="609480"/>
                <a:ext cx="6705720" cy="5334120"/>
              </a:xfrm>
              <a:prstGeom prst="triangle">
                <a:avLst>
                  <a:gd name="adj" fmla="val 19231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38280" y="609480"/>
                <a:ext cx="0" cy="53341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1143000" y="2514240"/>
                <a:ext cx="3200400" cy="342900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2437920" y="609120"/>
                <a:ext cx="2057400" cy="533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143000" y="3200400"/>
                <a:ext cx="3962520" cy="2743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57400" y="4114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86200" y="3962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4495680" y="1523520"/>
              <a:ext cx="0" cy="44197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689280" y="3200400"/>
              <a:ext cx="1416240" cy="162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438280" y="3885840"/>
              <a:ext cx="2057400" cy="646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59400" y="369396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51400" y="38638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51200" y="40654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78160" y="44863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3320" y="29376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5640" y="5742000"/>
              <a:ext cx="65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16680" y="540072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58920" y="5961240"/>
              <a:ext cx="65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68800" y="1976400"/>
              <a:ext cx="63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8400" y="28764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83200" y="5973840"/>
              <a:ext cx="7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V="1">
            <a:off x="2425680" y="609480"/>
            <a:ext cx="0" cy="3913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62040" y="622440"/>
            <a:ext cx="1354320" cy="352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01920" y="4107960"/>
            <a:ext cx="1401840" cy="427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803760" y="3902040"/>
            <a:ext cx="695160" cy="231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8920" y="3889440"/>
            <a:ext cx="0" cy="2023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3760" y="4121280"/>
            <a:ext cx="69516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790600">
            <a:off x="4200840" y="2566800"/>
            <a:ext cx="353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5608800"/>
            <a:ext cx="35424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18000" y="5613480"/>
            <a:ext cx="35388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790600">
            <a:off x="4951080" y="3311640"/>
            <a:ext cx="344520" cy="30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985160" y="255600"/>
            <a:ext cx="768240" cy="450720"/>
          </a:xfrm>
          <a:prstGeom prst="leftArrow">
            <a:avLst>
              <a:gd name="adj1" fmla="val 50000"/>
              <a:gd name="adj2" fmla="val 426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55640" y="293760"/>
            <a:ext cx="7585200" cy="6139800"/>
            <a:chOff x="755640" y="293760"/>
            <a:chExt cx="7585200" cy="6139800"/>
          </a:xfrm>
        </p:grpSpPr>
        <p:grpSp>
          <p:nvGrpSpPr>
            <p:cNvPr id="249" name=""/>
            <p:cNvGrpSpPr/>
            <p:nvPr/>
          </p:nvGrpSpPr>
          <p:grpSpPr>
            <a:xfrm>
              <a:off x="1143000" y="609120"/>
              <a:ext cx="6705720" cy="5334480"/>
              <a:chOff x="1143000" y="609120"/>
              <a:chExt cx="6705720" cy="5334480"/>
            </a:xfrm>
          </p:grpSpPr>
          <p:sp>
            <p:nvSpPr>
              <p:cNvPr id="250" name=""/>
              <p:cNvSpPr/>
              <p:nvPr/>
            </p:nvSpPr>
            <p:spPr>
              <a:xfrm>
                <a:off x="1143000" y="609480"/>
                <a:ext cx="6705720" cy="5334120"/>
              </a:xfrm>
              <a:prstGeom prst="triangle">
                <a:avLst>
                  <a:gd name="adj" fmla="val 19231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38280" y="609480"/>
                <a:ext cx="0" cy="53341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1143000" y="2514240"/>
                <a:ext cx="3200400" cy="342900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437920" y="609120"/>
                <a:ext cx="2057400" cy="533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143000" y="3200400"/>
                <a:ext cx="3962520" cy="2743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057400" y="4114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86200" y="3962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V="1">
              <a:off x="4495680" y="1523520"/>
              <a:ext cx="0" cy="44197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689280" y="3200400"/>
              <a:ext cx="1416240" cy="162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438280" y="3885840"/>
              <a:ext cx="2057400" cy="646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59400" y="369396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51400" y="38638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51200" y="40654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78160" y="44863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3320" y="29376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5640" y="5742000"/>
              <a:ext cx="65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16680" y="540072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58920" y="5961240"/>
              <a:ext cx="65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68800" y="1976400"/>
              <a:ext cx="63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8400" y="28764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3200" y="5973840"/>
              <a:ext cx="7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V="1">
            <a:off x="2425680" y="609480"/>
            <a:ext cx="0" cy="3913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62040" y="622440"/>
            <a:ext cx="1354320" cy="352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401920" y="4107960"/>
            <a:ext cx="1401840" cy="427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803760" y="3902040"/>
            <a:ext cx="695160" cy="231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8920" y="3889440"/>
            <a:ext cx="0" cy="2023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3760" y="4121280"/>
            <a:ext cx="69516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779120" y="3219480"/>
            <a:ext cx="33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05040" y="3219480"/>
            <a:ext cx="2706480" cy="271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522320" y="3219480"/>
            <a:ext cx="561960" cy="27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60800" y="27669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2790600">
            <a:off x="4200840" y="2566800"/>
            <a:ext cx="353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5608800"/>
            <a:ext cx="35424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8000" y="5613480"/>
            <a:ext cx="35388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790600">
            <a:off x="4951080" y="3311640"/>
            <a:ext cx="344520" cy="30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Исследовательская работа, выдвижение гипотез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95400"/>
            <a:ext cx="86868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произвольный треугольник 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hlinkClick r:id="rId1" action="ppaction://hlinksldjump"/>
              </a:rPr>
              <a:t>АВ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йте в нем 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hlinkClick r:id="rId2" action="ppaction://hlinksldjump"/>
              </a:rPr>
              <a:t>ортоцент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йте 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hlinkClick r:id="rId3" action="ppaction://hlinksldjump"/>
              </a:rPr>
              <a:t>центрои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йте 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hlinkClick r:id="rId4" action="ppaction://hlinksldjump"/>
              </a:rPr>
              <a:t>центр описанной окруж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ите на расположение трех построенных точ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двиньте 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hlinkClick r:id="rId5" action="ppaction://hlinksldjump"/>
              </a:rPr>
              <a:t>гипотез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б их распо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можно предположительно сказать о расстоянии между этими точ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очните 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hlinkClick r:id="rId6" action="ppaction://hlinksldjump"/>
              </a:rPr>
              <a:t>гипотез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Эвристическая бес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6160" y="609480"/>
            <a:ext cx="88027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ачала рассмотрим отношение длин отрез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математический метод, как правило, используется при обосновании отношений отрезков? В каких теоремах идет речь об отношении отрезк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 подобия. В теоремах о признаках подобия треугольников. О пересечении медиан. О средней линии. О биссектрисе угла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ли кажущиеся подобными треугольники, в которых сходственными сторонами были бы отрез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 Если доказать подобие треугольников, то эти стороны будут пропорциона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доказать подобие треугольников? Надо воспользоваться одним из признаков. Выясним, какие соответствующие  элементы двух треугольников можем найти. Будем отсеивать ненужные вариа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6960" y="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Под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1080" y="474840"/>
            <a:ext cx="875484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рединный треуголь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н соотносится с исходным треугольник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ов коэффициент подоб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реугольнике АВС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реугольнике 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’D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выс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ответствующие отрезки в подобных треугольниках пропорциона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чит высоты исходного и серединного треугольников относятся как 2:1, как и их части АН и 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7720" y="15876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609480"/>
            <a:ext cx="847584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ановить подобие треугольник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HG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’O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воспользовавшись свойством медиан, подобием исходного и серединного треугольника, равенством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 подобия сделать вывод о пропорциональнос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G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азать, что три точки лежат на одной прямой, или инач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и, принадлежащие сторонам угла, составляют развернутый уго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3320" y="18216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Под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200" y="828720"/>
            <a:ext cx="871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казать, что если два угла равны и пара их сторон образует дополнительные лучи, то пара других сторон так же образует дополнительные лучи, то есть развернутый уго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55720" y="2670120"/>
            <a:ext cx="5108760" cy="3730320"/>
            <a:chOff x="1755720" y="2670120"/>
            <a:chExt cx="5108760" cy="3730320"/>
          </a:xfrm>
        </p:grpSpPr>
        <p:grpSp>
          <p:nvGrpSpPr>
            <p:cNvPr id="55" name=""/>
            <p:cNvGrpSpPr/>
            <p:nvPr/>
          </p:nvGrpSpPr>
          <p:grpSpPr>
            <a:xfrm>
              <a:off x="1927080" y="2705040"/>
              <a:ext cx="4743720" cy="3695400"/>
              <a:chOff x="1927080" y="2705040"/>
              <a:chExt cx="4743720" cy="3695400"/>
            </a:xfrm>
          </p:grpSpPr>
          <p:sp>
            <p:nvSpPr>
              <p:cNvPr id="56" name=""/>
              <p:cNvSpPr/>
              <p:nvPr/>
            </p:nvSpPr>
            <p:spPr>
              <a:xfrm>
                <a:off x="1927080" y="3225240"/>
                <a:ext cx="4743720" cy="27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513240" y="2705040"/>
                <a:ext cx="852480" cy="194400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90920" y="4689720"/>
                <a:ext cx="925560" cy="17107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19640" y="3608280"/>
                <a:ext cx="495000" cy="493200"/>
              </a:xfrm>
              <a:custGeom>
                <a:avLst/>
                <a:gdLst/>
                <a:ahLst/>
                <a:rect l="l" t="t" r="r" b="b"/>
                <a:pathLst>
                  <a:path w="312" h="277">
                    <a:moveTo>
                      <a:pt x="5" y="277"/>
                    </a:moveTo>
                    <a:cubicBezTo>
                      <a:pt x="2" y="274"/>
                      <a:pt x="0" y="271"/>
                      <a:pt x="13" y="231"/>
                    </a:cubicBezTo>
                    <a:cubicBezTo>
                      <a:pt x="26" y="191"/>
                      <a:pt x="32" y="77"/>
                      <a:pt x="82" y="39"/>
                    </a:cubicBezTo>
                    <a:cubicBezTo>
                      <a:pt x="132" y="1"/>
                      <a:pt x="222" y="0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975200" y="5251320"/>
                <a:ext cx="433440" cy="505800"/>
              </a:xfrm>
              <a:custGeom>
                <a:avLst/>
                <a:gdLst/>
                <a:ahLst/>
                <a:rect l="l" t="t" r="r" b="b"/>
                <a:pathLst>
                  <a:path w="273" h="284">
                    <a:moveTo>
                      <a:pt x="254" y="0"/>
                    </a:moveTo>
                    <a:cubicBezTo>
                      <a:pt x="263" y="88"/>
                      <a:pt x="273" y="176"/>
                      <a:pt x="231" y="223"/>
                    </a:cubicBezTo>
                    <a:cubicBezTo>
                      <a:pt x="189" y="270"/>
                      <a:pt x="94" y="277"/>
                      <a:pt x="0" y="2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546360" y="3792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44880" y="5127480"/>
              <a:ext cx="5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5720" y="3292560"/>
              <a:ext cx="6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86280" y="4572000"/>
              <a:ext cx="62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1360" y="5338800"/>
              <a:ext cx="57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0200" y="2670120"/>
              <a:ext cx="5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19600" y="582768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Доказательств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680" y="426960"/>
            <a:ext cx="871848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, A’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||A’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как два перпендикуляра к одн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G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’O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крест лежащие углы пр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||A’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секуще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A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:GA’=2:1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ореме о пересечении медиан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С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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B’C’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ретьему признаку подобия, сторон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порциональны средним линиям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=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Тогда пропорциональны высоты и их соответствующие части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:A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: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’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ервому признаку подобия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k=2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:GO=2: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A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GA’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подобия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,G,A’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жат на одной прямой, 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,G,O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жат на одной прямой (см. подзадач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еорема Че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280" y="584280"/>
            <a:ext cx="8802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орные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резок, соединяющий вершину треугольника с некоторой точкой на противоположной стороне, называется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ЧЕВИАН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ямые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конкурентны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, если все они проходят через одну точ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лощади треугольников с равными высот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опорциона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основаниям треугольнико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20:30Z</dcterms:created>
  <dc:creator>terminator</dc:creator>
  <dc:description/>
  <dc:language>en-US</dc:language>
  <cp:lastModifiedBy>ГиМПМ 6</cp:lastModifiedBy>
  <dcterms:modified xsi:type="dcterms:W3CDTF">2010-09-15T07:47:18Z</dcterms:modified>
  <cp:revision>32</cp:revision>
  <dc:subject/>
  <dc:title>Лекция №2 Теорема Эйлера</dc:title>
</cp:coreProperties>
</file>