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A07-18B9-402D-A114-328B34F8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EE0-EC54-4F0F-8F4E-913867ED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E07-BEE8-43A7-9FD2-503F404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60B-888C-4B2F-9BAD-75E4EBA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9B49-EAC2-4892-8648-C0B23E8C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424E-0D16-44C5-959D-42CC681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DB87-2FD6-4934-AA7B-362B3CF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056C-35F5-4EFD-B926-0E4E144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DA5-4853-4689-8F5A-A9A416A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E0D-8CBD-4973-8DB5-E7E3D31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B5EF-4E6D-4EF1-94A1-1158D07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CF8-ADCB-430E-8BBC-E73F4A00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06B-7DE8-4D4C-B116-E2E33B1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E62-A5B5-4782-8F11-CD308D7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E57-BFC9-4B89-914D-A831E10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417C-A6B3-4C12-ACC2-B12E69A1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5A1B-CC53-44A0-87FA-543A0C4C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4C75-B5A5-4340-8B45-5B87465B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23F6-FC8B-41C4-90DC-D3656BE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9185-37AA-4210-B5A1-AA9952A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4424-8015-4898-B8DE-71ECFF3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AD7E-0A1B-405F-B993-93EFE836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55E-4DC2-49E2-9146-052FD580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FFA9-B228-41F4-8CDF-8C2CF193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40D1-E699-48A1-891C-D7D7311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877C-ADC5-49C3-964D-99C81368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23A1-1F68-45AB-AAA6-2178295E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4FBF-4E07-4A68-B777-D416FBF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398C-48F6-4FFB-8A6D-A19242FA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4758-4E9F-47EE-ACD9-028A78FC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5D56-F984-41A1-AC26-D67B2623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646B-DE75-4679-B3DE-8CB5194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D2BA-7600-4B24-95F0-D0A6C3C4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0E5-5EE9-4EB0-8749-B9F852B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E6E4-3301-42BD-97F5-AB0B0DF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6E28-E727-4FF7-8AD8-28EA472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191E-6662-400C-98B7-0730D73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059C-15D7-4FE1-B649-300E8AA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D50A-34B6-4D6C-B063-1C89277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E7FF-FCC0-4772-BC51-4E10600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8C8C-D9A4-45B9-9675-F56501C4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6E73-6247-4E52-B8D6-BC7A60C4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94DD-8A5F-453D-B8FE-FBABAA6E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747-F6AE-4107-B7FB-4F70555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4D2-6221-4E12-929E-4763A19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7FC-7FFC-4B4B-A340-4B0B353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AF4-7C13-438C-9857-3F8FC41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A98-ED63-47FF-A374-1F41D9A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53C-FD3F-445D-8AE4-A765510FC6C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17CE-4AE7-4B2B-AF45-D16E552243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BF2-F114-4389-ADDD-50B476D16B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0727-16B3-4B20-BF81-0723B25B91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http://saitslide.ru/photos/dlya-detey-otkrytiya-v-nauke-matematike-73093-large.jpg"/>
          <p:cNvPicPr/>
          <p:nvPr/>
        </p:nvPicPr>
        <p:blipFill>
          <a:blip r:embed="rId1"/>
          <a:stretch/>
        </p:blipFill>
        <p:spPr>
          <a:xfrm>
            <a:off x="900000" y="907920"/>
            <a:ext cx="7786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404280"/>
            <a:ext cx="842472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-й уровень\средний (типично в 4-5 лет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азат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восхищает или сопровождает вопросами практическое исследование новых предметов («Что это? Для чего?»); обнаруживает осознанное намерение узнать что-то относительно конкретных вещей и явлений («Как это получается? Как бы это сделать? Почему это так?»); высказывает простые предположения о связи действия и возможного эффекта при исследовании новых предметов, стремится достичь определенного эффекта («Если сделать так..., или так...»), не ограничиваясь простым манипулированием; встраивает свои новые представления в сюжеты игры, темы рисования, конструировани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ючевые призна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задает вопросы относительно конкретных вещей и явлений («Что? Как? Зачем?»); высказывает простые предположения, осуществляет вариативные действия по отношению к исследуемому объекту, добиваясь нужного результа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8920" y="404640"/>
            <a:ext cx="87138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-й уровень\высокий (типично в 6-7 лет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азат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ет вопросы, касающиеся предметов и явлений, лежащих за кругом непосредственно данного («Как? Почему? Зачем?»); обнаруживает стремление объяснить связь фактов, использует простое причинное рассуждение («Потому что...»); стремится к упорядочиванию, систематизации конкретных материалов (в виде коллекции); проявляет интерес к познавательной литературе, к символическим языкам; самостоятельно берется делать что-то по графическим схемам (лепить, конструировать), составлять карты, схемы, пиктограммы, записывать истории, наблюдения (осваивает письмо как средство систематизации и коммуникации)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ючевые призна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задает вопросы об отвлеченных вещах; обнаруживает стремление к упорядочиванию фактов и представлений, способен к простому рассуждению; проявляет интерес к символическим языкам (графические схемы, письм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1. Мальчики, девочки играют в конструктор (online-video-cutter.com).mp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1.1. с (online-video-cutter.com) (5).mp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2. Девочки с рюкзачком и телефоном.mp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2.2. Девочки с рюкзачком и телефоном.mp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3. Три девочки.mp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3.3. Три девочки.mp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4. Мальчик с жуком.mp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4. 4..mp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7864560" cy="221328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3" descr="целев ориент.jpg"/>
          <p:cNvPicPr/>
          <p:nvPr/>
        </p:nvPicPr>
        <p:blipFill>
          <a:blip r:embed="rId2"/>
          <a:stretch/>
        </p:blipFill>
        <p:spPr>
          <a:xfrm>
            <a:off x="2195640" y="2708280"/>
            <a:ext cx="4763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посл слай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1121400" y="18900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Желаем творческих успехов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знавательная инициати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любознательность) – включенность в экспериментирование, простую познавательно-исследовательскую деятельность, где развиваются способности устанавливать пространственно-временные, причинно-следственные и родовидовые отнош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ипы объек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alibri"/>
              </a:rPr>
              <a:t>1 ти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https://avatars.mds.yandex.net/get-zen_doc/1589949/pub_5dac92152fda8600b190b584_5dac950bf557d000c443291e/scale_1200"/>
          <p:cNvPicPr/>
          <p:nvPr/>
        </p:nvPicPr>
        <p:blipFill>
          <a:blip r:embed="rId1"/>
          <a:stretch/>
        </p:blipFill>
        <p:spPr>
          <a:xfrm>
            <a:off x="1835280" y="2276640"/>
            <a:ext cx="6049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 тип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глоб.jpg"/>
          <p:cNvPicPr/>
          <p:nvPr/>
        </p:nvPicPr>
        <p:blipFill>
          <a:blip r:embed="rId1"/>
          <a:stretch/>
        </p:blipFill>
        <p:spPr>
          <a:xfrm>
            <a:off x="571680" y="1643040"/>
            <a:ext cx="7786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Дети-с-критическим-мышлением-одобряйте-почемучек.jpg"/>
          <p:cNvPicPr/>
          <p:nvPr/>
        </p:nvPicPr>
        <p:blipFill>
          <a:blip r:embed="rId1"/>
          <a:stretch/>
        </p:blipFill>
        <p:spPr>
          <a:xfrm>
            <a:off x="395280" y="1557360"/>
            <a:ext cx="4081320" cy="2941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715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3 ти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естевозн.jpg"/>
          <p:cNvPicPr/>
          <p:nvPr/>
        </p:nvPicPr>
        <p:blipFill>
          <a:blip r:embed="rId2"/>
          <a:stretch/>
        </p:blipFill>
        <p:spPr>
          <a:xfrm>
            <a:off x="4716360" y="335772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одержимое 5" descr="вопросы задаёт.jpg"/>
          <p:cNvPicPr/>
          <p:nvPr/>
        </p:nvPicPr>
        <p:blipFill>
          <a:blip r:embed="rId1"/>
          <a:stretch/>
        </p:blipFill>
        <p:spPr>
          <a:xfrm>
            <a:off x="0" y="-500040"/>
            <a:ext cx="9144000" cy="83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3" descr="познават.jpg"/>
          <p:cNvPicPr/>
          <p:nvPr/>
        </p:nvPicPr>
        <p:blipFill>
          <a:blip r:embed="rId1"/>
          <a:stretch/>
        </p:blipFill>
        <p:spPr>
          <a:xfrm>
            <a:off x="-357120" y="0"/>
            <a:ext cx="101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alibri"/>
              </a:rPr>
              <a:t>ПОЗНАВАТЕЛЬНАЯ ИНИЦИАТИВА – ЛЮБОЗНАТЕЛЬНОСТЬ (наблюдение за познавательно-исследовательской и продуктивной деятельностью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й уровень\ низкий (типично в 3-4 года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азат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мечает новые предметы в окружении и проявляет интерес к ним; активно обследует вещи, практически обнаруживая их возможности (манипулирует, разбирает-собирает, без попыток достичь точного исходного состояния); многократно повторяет действия, поглощен процесс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ючевые призна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роявляет интерес к новым предметам, манипулирует ими, практически обнаруживая их возможности; многократно воспроизводит действ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20-02-10T18:15:28Z</dcterms:modified>
  <cp:revision>44</cp:revision>
  <dc:subject/>
  <dc:title>Развитие познавательной активности дошкольников</dc:title>
</cp:coreProperties>
</file>