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DF78-55A4-4205-936F-E2AFA126AC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092-4FCE-4E6C-B4CA-FE6F47E6DF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667-11D7-447F-A450-2888A061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6F7-76C3-4F5E-8A5D-1F2E82C4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1BF-0FA2-4655-BD9B-F1A3BE39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009-D3EB-4543-9E76-61C76D71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51CF0-9F18-4AD6-A847-834D5888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45F89-EB21-4C37-836B-991C1DCD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9D9B9-2F5F-4C41-B4B4-D83D0D21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DC0A9-9603-45A5-A8F0-60230517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08A48-6642-4348-8544-48F2B8EA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E9CF7-D586-4047-BDC5-70710F50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8F3C6-D80E-4AD3-89A9-75C12BA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420-4338-437F-9994-49D019DE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573E0-AC3B-46C0-B07E-A4EE7C90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53FC3-14E2-4264-97E7-EF387AAA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9E46C-F6AE-45CE-B5C5-7C9E6D77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04F83-542B-4282-B881-CCCD470B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1A981-D109-44E3-B8DE-5997E14A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3CF-D3ED-401B-A5E2-89959B3F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DD5-A96B-4391-83C5-A61F54D7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ED0-E2D8-4D8A-A58D-C7831E23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B8E-90AE-4DC9-8D0B-1C9C53C5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D8E-6136-4C97-8CEA-F0FA35D1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D67-2B7B-4035-A9DE-DC3F9F84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118-6D41-4583-AA20-1F42A418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05AD-E478-46F2-B66B-0C631A08D3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0A59-382F-458C-83C2-AF55DADE07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Bookman Old Style"/>
              </a:rPr>
              <a:t>Распределение доход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140360" y="4581360"/>
            <a:ext cx="43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ил: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БОУ школы 5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шкин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вашко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Bookman Old Style"/>
              </a:rPr>
              <a:t>2. Причины неравенства доходов </a:t>
            </a:r>
            <a:br>
              <a:rPr sz="3600"/>
            </a:br>
            <a:r>
              <a:rPr b="1" i="1" lang="ru-RU" sz="3600" spc="-1" strike="noStrike">
                <a:solidFill>
                  <a:srgbClr val="215968"/>
                </a:solidFill>
                <a:latin typeface="Bookman Old Style"/>
              </a:rPr>
              <a:t>(</a:t>
            </a:r>
            <a:r>
              <a:rPr b="1" i="1" lang="ru-RU" sz="3600" spc="-1" strike="noStrike">
                <a:solidFill>
                  <a:srgbClr val="0070c0"/>
                </a:solidFill>
                <a:latin typeface="Bookman Old Style"/>
              </a:rPr>
              <a:t>с.142 - 14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840" y="1599840"/>
            <a:ext cx="8572320" cy="49006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разная ценность и объем принадлежащих людям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разная успешность использования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разные жизненные обстоятель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6840" y="571320"/>
            <a:ext cx="657252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Bookman Old Style"/>
              </a:rPr>
              <a:t>Неравенство доход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трелка вниз 4"/>
          <p:cNvSpPr/>
          <p:nvPr/>
        </p:nvSpPr>
        <p:spPr>
          <a:xfrm>
            <a:off x="3643200" y="1714680"/>
            <a:ext cx="1643040" cy="207144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Горизонтальный свиток 5"/>
          <p:cNvSpPr/>
          <p:nvPr/>
        </p:nvSpPr>
        <p:spPr>
          <a:xfrm>
            <a:off x="857160" y="3571920"/>
            <a:ext cx="7786800" cy="250020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это та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цена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, которую обществу приходится платить за ускорение роста общего уровня благосостояния всех граждан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Bookman Old Style"/>
              </a:rPr>
              <a:t>3.Поляризация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3000"/>
          </a:bodyPr>
          <a:p>
            <a:pPr marL="425160" indent="-425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«Если свободное общество не может помочь тем многим, кто беден, оно не сможет спасти тех, кто богат.»</a:t>
            </a:r>
            <a:br>
              <a:rPr sz="3600"/>
            </a:br>
            <a:r>
              <a:rPr b="0" i="1" lang="ru-RU" sz="3600" spc="-1" strike="noStrike">
                <a:solidFill>
                  <a:srgbClr val="0070c0"/>
                </a:solidFill>
                <a:latin typeface="Times New Roman"/>
              </a:rPr>
              <a:t>Джон Ф. Кеннеди, президент США</a:t>
            </a:r>
            <a:br>
              <a:rPr sz="20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6"/>
          <p:cNvSpPr/>
          <p:nvPr/>
        </p:nvSpPr>
        <p:spPr>
          <a:xfrm>
            <a:off x="1071720" y="1214280"/>
            <a:ext cx="7143480" cy="1477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Экономические ме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оциальной поддержки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826920" y="206064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142920" y="4143240"/>
            <a:ext cx="3643200" cy="106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альные вы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5500800" y="3929040"/>
            <a:ext cx="3527280" cy="1068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альное обслу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1571400" y="3000240"/>
            <a:ext cx="1500120" cy="107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6"/>
          <p:cNvSpPr/>
          <p:nvPr/>
        </p:nvSpPr>
        <p:spPr>
          <a:xfrm>
            <a:off x="5429160" y="2857680"/>
            <a:ext cx="2071800" cy="100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19"/>
          <p:cNvCxnSpPr/>
          <p:nvPr/>
        </p:nvCxnSpPr>
        <p:spPr>
          <a:xfrm flipH="1">
            <a:off x="4570200" y="2857320"/>
            <a:ext cx="3600" cy="21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9"/>
          <p:cNvSpPr/>
          <p:nvPr/>
        </p:nvSpPr>
        <p:spPr>
          <a:xfrm>
            <a:off x="3214800" y="5357880"/>
            <a:ext cx="4929120" cy="106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 в увеличении зарабо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ановите соответств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214280"/>
            <a:ext cx="35719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Терм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ребительская корз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14440" y="1213920"/>
            <a:ext cx="5715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преде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сумма денег, необходимая для приобретения человеком минимального набора товаров и услу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 набор товаров и услуг, нужных для удовлетворения первоочередных потреб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общая сумма денег, полученная за определенное время и предназначенная для приобретения благ и услу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99800" y="274320"/>
            <a:ext cx="635796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Задание на до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3880" y="1714680"/>
            <a:ext cx="5715000" cy="4000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00"/>
                </a:solidFill>
                <a:latin typeface="Calibri"/>
              </a:rPr>
              <a:t>Параграф 18, выучить термины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00"/>
                </a:solidFill>
                <a:latin typeface="Calibri"/>
              </a:rPr>
              <a:t>знать схему мер социальной поддержки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Z:\мама\рабочий стол мама\Школа 2008-2011\Матер. по Презинтациям,АНИМАЦИЯ\Анимация для презентаций\школа\69.GIF"/>
          <p:cNvPicPr/>
          <p:nvPr/>
        </p:nvPicPr>
        <p:blipFill>
          <a:blip r:embed="rId1"/>
          <a:stretch/>
        </p:blipFill>
        <p:spPr>
          <a:xfrm>
            <a:off x="6643800" y="178596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7688160"/>
        </p:xfrm>
        <a:graphic>
          <a:graphicData uri="http://schemas.openxmlformats.org/drawingml/2006/table">
            <a:tbl>
              <a:tblPr/>
              <a:tblGrid>
                <a:gridCol w="3286080"/>
                <a:gridCol w="5857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овицы и поговор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ег нет, зато сами золото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лично поработал(-а) на уроке, вынес(-ла) для себя много нового и интересн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ги не голова: наживное дело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л активен(-вна) на уроке, но нужно еще время, чтобы разобраться с понятия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ьми гривен до рубля не хвата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ался (-лась), но не слишком доволен (-льна) результат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ег нету, и дела нету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как не проявил (-а) себя на уроке, просто слушал (-а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Цель урока-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анализировать распредел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ходов в обществ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такое совокупный доход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чины неравенства дох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яризация дох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ль государства в перераспределении дох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3964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Доход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– общая сумма денег, полученная за определенное время и предназначенная для приобретени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лаг и услу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71880" y="214200"/>
            <a:ext cx="5914800" cy="1000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Bookman Old Style"/>
              </a:rPr>
              <a:t>Источники доходов насел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214200" y="1428840"/>
            <a:ext cx="2143080" cy="1500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Оплата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зар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6"/>
          <p:cNvSpPr/>
          <p:nvPr/>
        </p:nvSpPr>
        <p:spPr>
          <a:xfrm>
            <a:off x="142920" y="3143160"/>
            <a:ext cx="2714760" cy="1857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Доход от предприним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8"/>
          <p:cNvSpPr/>
          <p:nvPr/>
        </p:nvSpPr>
        <p:spPr>
          <a:xfrm>
            <a:off x="5929200" y="3214800"/>
            <a:ext cx="2500560" cy="2000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Реализация продуктов личного подсобного 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9"/>
          <p:cNvSpPr/>
          <p:nvPr/>
        </p:nvSpPr>
        <p:spPr>
          <a:xfrm>
            <a:off x="214200" y="5357880"/>
            <a:ext cx="7572600" cy="1285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Поступления из финансовой системы: выигрыши, % по вкладам, страховые вознагра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Z:\мама\рабочий стол мама\Школа 2008-2011\Матер. по Презинтациям,АНИМАЦИЯ\Деньги\money5.gif"/>
          <p:cNvPicPr/>
          <p:nvPr/>
        </p:nvPicPr>
        <p:blipFill>
          <a:blip r:embed="rId1"/>
          <a:stretch/>
        </p:blipFill>
        <p:spPr>
          <a:xfrm>
            <a:off x="714240" y="0"/>
            <a:ext cx="2143440" cy="1071720"/>
          </a:xfrm>
          <a:prstGeom prst="rect">
            <a:avLst/>
          </a:prstGeom>
          <a:ln w="0">
            <a:noFill/>
          </a:ln>
        </p:spPr>
      </p:pic>
      <p:cxnSp>
        <p:nvCxnSpPr>
          <p:cNvPr id="101" name="Прямая со стрелкой 16"/>
          <p:cNvCxnSpPr>
            <a:stCxn id="95" idx="2"/>
            <a:endCxn id="96" idx="3"/>
          </p:cNvCxnSpPr>
          <p:nvPr/>
        </p:nvCxnSpPr>
        <p:spPr>
          <a:xfrm flipH="1">
            <a:off x="2356920" y="1213920"/>
            <a:ext cx="3672720" cy="96444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2" name="Прямая со стрелкой 21"/>
          <p:cNvCxnSpPr>
            <a:stCxn id="95" idx="2"/>
          </p:cNvCxnSpPr>
          <p:nvPr/>
        </p:nvCxnSpPr>
        <p:spPr>
          <a:xfrm flipH="1">
            <a:off x="2142360" y="1213920"/>
            <a:ext cx="3886920" cy="189324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3" name="Прямая со стрелкой 25"/>
          <p:cNvCxnSpPr>
            <a:endCxn id="104" idx="0"/>
          </p:cNvCxnSpPr>
          <p:nvPr/>
        </p:nvCxnSpPr>
        <p:spPr>
          <a:xfrm flipH="1">
            <a:off x="4285800" y="1427760"/>
            <a:ext cx="843840" cy="78660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5" name="Прямая со стрелкой 29"/>
          <p:cNvCxnSpPr/>
          <p:nvPr/>
        </p:nvCxnSpPr>
        <p:spPr>
          <a:xfrm>
            <a:off x="5856840" y="1214280"/>
            <a:ext cx="1151640" cy="185832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6" name="Прямая со стрелкой 33"/>
          <p:cNvCxnSpPr/>
          <p:nvPr/>
        </p:nvCxnSpPr>
        <p:spPr>
          <a:xfrm>
            <a:off x="5285160" y="1356840"/>
            <a:ext cx="543960" cy="407268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7" name="Прямая со стрелкой 13"/>
          <p:cNvCxnSpPr/>
          <p:nvPr/>
        </p:nvCxnSpPr>
        <p:spPr>
          <a:xfrm>
            <a:off x="6143760" y="1285560"/>
            <a:ext cx="1000800" cy="42948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08" name="Скругленный прямоугольник 15"/>
          <p:cNvSpPr/>
          <p:nvPr/>
        </p:nvSpPr>
        <p:spPr>
          <a:xfrm>
            <a:off x="7215120" y="142884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Bookman Old Style"/>
              </a:rPr>
              <a:t>Льг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22"/>
          <p:cNvCxnSpPr/>
          <p:nvPr/>
        </p:nvCxnSpPr>
        <p:spPr>
          <a:xfrm>
            <a:off x="6357960" y="1856880"/>
            <a:ext cx="1000800" cy="42948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10" name="Скругленный прямоугольник 23"/>
          <p:cNvSpPr/>
          <p:nvPr/>
        </p:nvSpPr>
        <p:spPr>
          <a:xfrm>
            <a:off x="7143840" y="2357280"/>
            <a:ext cx="1857240" cy="78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Bookman Old Style"/>
              </a:rPr>
              <a:t>Насл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7"/>
          <p:cNvSpPr/>
          <p:nvPr/>
        </p:nvSpPr>
        <p:spPr>
          <a:xfrm>
            <a:off x="3000240" y="2214720"/>
            <a:ext cx="2571840" cy="3071520"/>
          </a:xfrm>
          <a:custGeom>
            <a:avLst/>
            <a:gdLst>
              <a:gd name="textAreaLeft" fmla="*/ 125280 w 2571840"/>
              <a:gd name="textAreaRight" fmla="*/ 2446560 w 2571840"/>
              <a:gd name="textAreaTop" fmla="*/ 125280 h 3071520"/>
              <a:gd name="textAreaBottom" fmla="*/ 2946240 h 3071520"/>
            </a:gdLst>
            <a:ahLst/>
            <a:rect l="textAreaLeft" t="textAreaTop" r="textAreaRight" b="textAreaBottom"/>
            <a:pathLst>
              <a:path w="21600" h="25796">
                <a:moveTo>
                  <a:pt x="3600" y="0"/>
                </a:moveTo>
                <a:arcTo wR="3600" hR="3600" stAng="16200000" swAng="-5400000"/>
                <a:lnTo>
                  <a:pt x="0" y="22196"/>
                </a:lnTo>
                <a:arcTo wR="3600" hR="3600" stAng="10800000" swAng="-5400000"/>
                <a:lnTo>
                  <a:pt x="18000" y="25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Денежные выплаты социаль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пен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стипе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500040"/>
            <a:ext cx="7772400" cy="1000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Bookman Old Style"/>
              </a:rPr>
              <a:t>1.Доходы граждан (с.14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15200" cy="4643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овокупный  доход –это…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сумма денежных средств и материальных благ, полученных или произведенных домашними хозяйствами за определенный промежуток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Bookman Old Style"/>
              </a:rPr>
              <a:t>Прожиточный миниму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минимальный уровень дохода, который считается необходимым для обеспечения определённого уровня жизни в стра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8" descr="OLDLADY2"/>
          <p:cNvPicPr/>
          <p:nvPr/>
        </p:nvPicPr>
        <p:blipFill>
          <a:blip r:embed="rId1"/>
          <a:stretch/>
        </p:blipFill>
        <p:spPr>
          <a:xfrm flipH="1">
            <a:off x="8071920" y="0"/>
            <a:ext cx="10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Bookman Old Style"/>
              </a:rPr>
              <a:t>Потребительская корз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4200" y="1714680"/>
            <a:ext cx="4138560" cy="3643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- набор товаров и услуг, необходимых для удовлетворения первоочередных потребностей человека за год, в средн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81360" y="1643040"/>
            <a:ext cx="4276800" cy="457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Z:\мама\рабочий стол мама\Школа 2008-2011\Матер. по Презинтациям,АНИМАЦИЯ\Люди\b38.gif"/>
          <p:cNvPicPr/>
          <p:nvPr/>
        </p:nvPicPr>
        <p:blipFill>
          <a:blip r:embed="rId3"/>
          <a:stretch/>
        </p:blipFill>
        <p:spPr>
          <a:xfrm>
            <a:off x="928800" y="5429160"/>
            <a:ext cx="2286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ер потребительской корзины зависит от уровня экономического развития стран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2560" y="2000160"/>
            <a:ext cx="44290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ьская корзина в Германии (Европа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500 $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недел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99800"/>
            <a:ext cx="43527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ьская корзина в Чаде (Африка) – 1, 2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едел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285640" y="1142640"/>
            <a:ext cx="4429080" cy="1500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«Показатели бедности и голод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Narrow"/>
              </a:rPr>
              <a:t>(Из статьи Д. Гордона для ОО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8" descr="OLDLADY2"/>
          <p:cNvPicPr/>
          <p:nvPr/>
        </p:nvPicPr>
        <p:blipFill>
          <a:blip r:embed="rId1"/>
          <a:stretch/>
        </p:blipFill>
        <p:spPr>
          <a:xfrm flipH="1">
            <a:off x="8071920" y="0"/>
            <a:ext cx="1071720" cy="2071800"/>
          </a:xfrm>
          <a:prstGeom prst="rect">
            <a:avLst/>
          </a:prstGeom>
          <a:ln w="0">
            <a:noFill/>
          </a:ln>
        </p:spPr>
      </p:pic>
      <p:sp>
        <p:nvSpPr>
          <p:cNvPr id="126" name="Багетная рамка 8"/>
          <p:cNvSpPr/>
          <p:nvPr/>
        </p:nvSpPr>
        <p:spPr>
          <a:xfrm>
            <a:off x="2357280" y="2786040"/>
            <a:ext cx="4500720" cy="32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ода: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Не должна поступать исключительно из рек и прудов, и должна быть в 15 минутах хода (в одну сторон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агетная рамка 9"/>
          <p:cNvSpPr/>
          <p:nvPr/>
        </p:nvSpPr>
        <p:spPr>
          <a:xfrm>
            <a:off x="2357280" y="2786040"/>
            <a:ext cx="4500720" cy="32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анузел: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Дома или ря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агетная рамка 10"/>
          <p:cNvSpPr/>
          <p:nvPr/>
        </p:nvSpPr>
        <p:spPr>
          <a:xfrm>
            <a:off x="2357280" y="2786040"/>
            <a:ext cx="4500720" cy="32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Лечение: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Должно быть доступно беременным и серьёзно бо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агетная рамка 11"/>
          <p:cNvSpPr/>
          <p:nvPr/>
        </p:nvSpPr>
        <p:spPr>
          <a:xfrm>
            <a:off x="2357280" y="2786040"/>
            <a:ext cx="4500720" cy="32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ров: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Не более 4 человек в одной комнате. Недопустим земляной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агетная рамка 12"/>
          <p:cNvSpPr/>
          <p:nvPr/>
        </p:nvSpPr>
        <p:spPr>
          <a:xfrm>
            <a:off x="2357280" y="2786040"/>
            <a:ext cx="4500720" cy="32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ров: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Не более 4 человек в одной комнате. Недопустим земляной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агетная рамка 15"/>
          <p:cNvSpPr/>
          <p:nvPr/>
        </p:nvSpPr>
        <p:spPr>
          <a:xfrm>
            <a:off x="2357280" y="2786040"/>
            <a:ext cx="4429440" cy="3286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бразование: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Возможность научиться 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агетная рамка 17"/>
          <p:cNvSpPr/>
          <p:nvPr/>
        </p:nvSpPr>
        <p:spPr>
          <a:xfrm>
            <a:off x="2357280" y="2786040"/>
            <a:ext cx="4429440" cy="3286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нформация: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Любое средство связи: радио, телевидение, телефон,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агетная рамка 18"/>
          <p:cNvSpPr/>
          <p:nvPr/>
        </p:nvSpPr>
        <p:spPr>
          <a:xfrm>
            <a:off x="2357280" y="2786040"/>
            <a:ext cx="4500720" cy="3286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читается, что человек, у которого не выполняются два из этих показателей, живёт в абсолютной нищ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28:29Z</dcterms:created>
  <dc:creator>Admin</dc:creator>
  <dc:description/>
  <dc:language>en-US</dc:language>
  <cp:lastModifiedBy>Admin</cp:lastModifiedBy>
  <dcterms:modified xsi:type="dcterms:W3CDTF">2020-07-13T15:59:36Z</dcterms:modified>
  <cp:revision>60</cp:revision>
  <dc:subject/>
  <dc:title>«Распределение. Неравенство доходов. Перераспределение»</dc:title>
</cp:coreProperties>
</file>