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8CB-7A8E-4DDB-88E8-747470A1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669-5E99-4879-BFB0-CD6A0452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2AB-BFEE-4332-9881-60C10648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B19-E91A-4183-89D1-DABEEF5F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7CB-8E29-44DE-8279-EF8D3B02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782-2586-4C5D-95BB-EAC7132E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938-8E32-469A-93F3-33F6DF08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3BB-A0DA-42FE-BC35-89C9120C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F29-E595-4BD6-93ED-F7DA8ED3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F52-135F-4AFC-9F92-AE4864AA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CB6-1A74-4C3F-8A1A-F9DF44A9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546-6649-4C77-933A-BE2B29B8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356D-23C6-475D-8F36-3FB0E8A2A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119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Вороне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195120" y="328680"/>
            <a:ext cx="879012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428760" y="54936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й остров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3640" y="160020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й остров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у перекрес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его найдешь, дружок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й он, в полос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воем лежит пу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перех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ернее не най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пешех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C:\Users\User\Desktop\ПРОЕКТЫ ПО ПДД\картинки Правила дорожного движения\image(30).jpg"/>
          <p:cNvPicPr/>
          <p:nvPr/>
        </p:nvPicPr>
        <p:blipFill>
          <a:blip r:embed="rId2"/>
          <a:stretch/>
        </p:blipFill>
        <p:spPr>
          <a:xfrm>
            <a:off x="4284720" y="1268280"/>
            <a:ext cx="44020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428760" y="54936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безопасный маршрут (для пешехода, автомобилист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C:\Users\User\Desktop\ПРОЕКТЫ ПО ПДД\картинки Правила дорожного движения\2020-06-21-23-33-01.png"/>
          <p:cNvPicPr/>
          <p:nvPr/>
        </p:nvPicPr>
        <p:blipFill>
          <a:blip r:embed="rId2"/>
          <a:stretch/>
        </p:blipFill>
        <p:spPr>
          <a:xfrm>
            <a:off x="1835280" y="1600200"/>
            <a:ext cx="5545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28760" y="54936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82" name="Picture 5" descr="C:\Users\User\Desktop\ПРОЕКТЫ ПО ПДД\картинки Правила дорожного движения\image(36).jpg"/>
          <p:cNvPicPr/>
          <p:nvPr/>
        </p:nvPicPr>
        <p:blipFill>
          <a:blip r:embed="rId2"/>
          <a:stretch/>
        </p:blipFill>
        <p:spPr>
          <a:xfrm>
            <a:off x="2340000" y="476280"/>
            <a:ext cx="6421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2411280" y="1071720"/>
            <a:ext cx="56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95280" y="4149720"/>
            <a:ext cx="7391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точники шабл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drive2.ru/users/nikolyaj/blog/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- дорожные 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gaiperm.ru/help_drive.php?nid=21&amp;page=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alkingblog.ru/36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-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ikt.oblcit.ru/95/LubchenkoOW/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- свето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мка – автор З.В.Александ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все изображения обработаны автором в графическом редактор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11280" y="274680"/>
            <a:ext cx="6275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ние навыков безопасного поведения на улицах  го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детей с понятием улица, ее основными частями: дорога и тротуа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знания о видах пешеходных переходов и дорожных знак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важение к правилам        дорожного движения, желание выполн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безопас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щения  по улицам го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31640" y="404280"/>
            <a:ext cx="6769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 городу и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беду не попад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твердо знаю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я выполня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правила так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 общем-то прост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и будет жизнь прекрас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а и безопасн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2133720"/>
            <a:ext cx="37432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ва ряда дома стоя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, двадца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 подря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ыми глаз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на друга гляд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Users\User\Desktop\ПРОЕКТЫ ПО ПДД\image(15а).JPG"/>
          <p:cNvPicPr/>
          <p:nvPr/>
        </p:nvPicPr>
        <p:blipFill>
          <a:blip r:embed="rId2"/>
          <a:stretch/>
        </p:blipFill>
        <p:spPr>
          <a:xfrm>
            <a:off x="3976560" y="1341360"/>
            <a:ext cx="48006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4103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ту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491920"/>
            <a:ext cx="43308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спекты, и бульвары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ду улицы шумн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 по тротуа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с правой сто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Users\User\Desktop\ПРОЕКТЫ ПО ПДД\image(13).jpg"/>
          <p:cNvPicPr/>
          <p:nvPr/>
        </p:nvPicPr>
        <p:blipFill>
          <a:blip r:embed="rId2"/>
          <a:stretch/>
        </p:blipFill>
        <p:spPr>
          <a:xfrm>
            <a:off x="4788000" y="404640"/>
            <a:ext cx="4032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428760" y="54936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идет мне на подмогу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йти хочу дорог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дорогу перейт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ветофор най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язык прост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т красным глазом – сто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жжет зеленый глаз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пропускает н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:\Users\User\Desktop\ПРОЕКТЫ ПО ПДД\image(2).png"/>
          <p:cNvPicPr/>
          <p:nvPr/>
        </p:nvPicPr>
        <p:blipFill>
          <a:blip r:embed="rId2"/>
          <a:stretch/>
        </p:blipFill>
        <p:spPr>
          <a:xfrm>
            <a:off x="5076720" y="1844640"/>
            <a:ext cx="151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428760" y="54936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б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1600200"/>
            <a:ext cx="46796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дорогу я с мамой пой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уку маму, конечно, держ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м налево, направо гляди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о идем, если нету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C:\Users\User\Desktop\ПРОЕКТЫ ПО ПДД\image(15).jpg"/>
          <p:cNvPicPr/>
          <p:nvPr/>
        </p:nvPicPr>
        <p:blipFill>
          <a:blip r:embed="rId2"/>
          <a:stretch/>
        </p:blipFill>
        <p:spPr>
          <a:xfrm>
            <a:off x="4643280" y="1268280"/>
            <a:ext cx="4259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428760" y="54936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63" name="Picture 2" descr="C:\Users\User\Desktop\ПРОЕКТЫ ПО ПДД\2020-06-08-20-36-52.jpg"/>
          <p:cNvPicPr/>
          <p:nvPr/>
        </p:nvPicPr>
        <p:blipFill>
          <a:blip r:embed="rId2"/>
          <a:stretch/>
        </p:blipFill>
        <p:spPr>
          <a:xfrm>
            <a:off x="468360" y="333360"/>
            <a:ext cx="2298600" cy="329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User\Desktop\ПРОЕКТЫ ПО ПДД\2020-06-08-20-36-28.jpg"/>
          <p:cNvPicPr/>
          <p:nvPr/>
        </p:nvPicPr>
        <p:blipFill>
          <a:blip r:embed="rId3"/>
          <a:stretch/>
        </p:blipFill>
        <p:spPr>
          <a:xfrm>
            <a:off x="3203640" y="3789360"/>
            <a:ext cx="2876400" cy="2760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User\Desktop\ПРОЕКТЫ ПО ПДД\2020-06-08-20-36-17.jpg"/>
          <p:cNvPicPr/>
          <p:nvPr/>
        </p:nvPicPr>
        <p:blipFill>
          <a:blip r:embed="rId4"/>
          <a:stretch/>
        </p:blipFill>
        <p:spPr>
          <a:xfrm>
            <a:off x="6227640" y="3789360"/>
            <a:ext cx="2584440" cy="273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User\Desktop\ПРОЕКТЫ ПО ПДД\image(28).jpg"/>
          <p:cNvPicPr/>
          <p:nvPr/>
        </p:nvPicPr>
        <p:blipFill>
          <a:blip r:embed="rId5"/>
          <a:stretch/>
        </p:blipFill>
        <p:spPr>
          <a:xfrm>
            <a:off x="3370320" y="260280"/>
            <a:ext cx="2427120" cy="347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User\Desktop\ПРОЕКТЫ ПО ПДД\2020-06-09-16-52-13.jpg"/>
          <p:cNvPicPr/>
          <p:nvPr/>
        </p:nvPicPr>
        <p:blipFill>
          <a:blip r:embed="rId6"/>
          <a:stretch/>
        </p:blipFill>
        <p:spPr>
          <a:xfrm>
            <a:off x="250920" y="3789360"/>
            <a:ext cx="2779560" cy="274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:\Users\User\Desktop\ПРОЕКТЫ ПО ПДД\image(29).jpg"/>
          <p:cNvPicPr/>
          <p:nvPr/>
        </p:nvPicPr>
        <p:blipFill>
          <a:blip r:embed="rId7"/>
          <a:stretch/>
        </p:blipFill>
        <p:spPr>
          <a:xfrm>
            <a:off x="5867280" y="692280"/>
            <a:ext cx="29577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428760" y="54936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рест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060280"/>
            <a:ext cx="40384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гуляешь прост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вно вперед гляд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шумный перекрест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прохо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User\Desktop\ПРОЕКТЫ ПО ПДД\image(16).jpg"/>
          <p:cNvPicPr/>
          <p:nvPr/>
        </p:nvPicPr>
        <p:blipFill>
          <a:blip r:embed="rId2"/>
          <a:stretch/>
        </p:blipFill>
        <p:spPr>
          <a:xfrm>
            <a:off x="4648320" y="1700280"/>
            <a:ext cx="4038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07:39:05Z</dcterms:created>
  <dc:creator>User</dc:creator>
  <dc:description/>
  <dc:language>en-US</dc:language>
  <cp:lastModifiedBy>User</cp:lastModifiedBy>
  <dcterms:modified xsi:type="dcterms:W3CDTF">2020-06-23T12:53:21Z</dcterms:modified>
  <cp:revision>63</cp:revision>
  <dc:subject/>
  <dc:title>Слайд 1</dc:title>
</cp:coreProperties>
</file>