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42F9F-5410-40CE-A26E-2F1B7AC3C6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23EAD-DA18-4014-8A37-58D81A3E86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5640A-4D39-459C-B93D-E7E9CF78DF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0267B-1B50-4037-BFDC-7335837ED1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8260D-F51F-427C-93E0-23982EA6E5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A01F4-111C-406F-A53A-C05CD6C3C5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7AA77-374D-4CAB-A399-2A8F338513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AA59F-377D-42BB-931C-08C27964DF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F4021-87AA-4AF7-8E3A-30DBC4C331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E2FA4-FF81-43E1-946B-8868D05759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E3347-66F5-4C18-9B16-0F0C9F212F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4DD8-9691-43CF-BCB6-ADFC07C8AD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3013-C320-4778-BE57-9ACEE121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81E4-0B9F-4BD2-991D-9B5422F1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E204-BAD8-4447-8EFD-50C727F05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8736E-353E-42E8-A599-FBE21D7F7E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77080-280A-4EF5-AEBC-60F04392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63FF7-3042-4ADB-9D20-B0D5F7C0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A0CFE-F7F5-41E9-ACB2-EFFC5E13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43ED6-0ED9-4F33-9EDC-EA1FCFB6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12518-5F6E-45D7-A216-DACC244A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F18D8-E19E-45CC-BD6A-CF694D30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651F-EA6B-4E16-AD89-4B1AB24A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A28A3-2F2A-499E-AD03-191C5D30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89BC2-928B-4872-A8E2-AED02F6A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24737-542D-4955-8C08-A194C358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2E869-E229-483F-A594-148F895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5D618-3033-4B17-89E8-C25CBFDE86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3C21-B82F-460A-BB77-88363557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DE76-233F-42FB-9754-2D041163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4B25C-F45D-4502-9601-B5323672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FB02-F773-4F3E-9B56-272EA355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8B9B-E412-4DC4-B20D-1FEAE8E5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B1A4-1B5D-49BE-84AA-121552F8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535E-C27C-4BD3-A764-1DD9FBC6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2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304AC-BB8E-4C47-BB93-A93C7CC31F5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2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D023E-A4F8-476F-8013-FFC8EB0BA0C3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3.jpeg"/><Relationship Id="rId6" Type="http://schemas.openxmlformats.org/officeDocument/2006/relationships/image" Target="../media/image13.jpeg"/><Relationship Id="rId7" Type="http://schemas.openxmlformats.org/officeDocument/2006/relationships/image" Target="../media/image5.jpeg"/><Relationship Id="rId8" Type="http://schemas.openxmlformats.org/officeDocument/2006/relationships/image" Target="../media/image7.jpeg"/><Relationship Id="rId9" Type="http://schemas.openxmlformats.org/officeDocument/2006/relationships/image" Target="../media/image4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5643720" y="5214960"/>
            <a:ext cx="1928520" cy="164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3929040" y="5214960"/>
            <a:ext cx="1785960" cy="1643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62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9cb86e"/>
              </a:gs>
            </a:gsLst>
            <a:lin ang="5400000"/>
          </a:gradFill>
          <a:ln w="9360">
            <a:solidFill>
              <a:srgbClr val="c1d1ec"/>
            </a:solidFill>
            <a:round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Животные Дальнего Востока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685800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23760" y="5214960"/>
            <a:ext cx="1976400" cy="16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5"/>
          <a:stretch/>
        </p:blipFill>
        <p:spPr>
          <a:xfrm>
            <a:off x="2000160" y="521496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6"/>
          <a:stretch/>
        </p:blipFill>
        <p:spPr>
          <a:xfrm>
            <a:off x="5715000" y="5214960"/>
            <a:ext cx="1857240" cy="164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7"/>
          <a:stretch/>
        </p:blipFill>
        <p:spPr>
          <a:xfrm>
            <a:off x="7500960" y="5214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8"/>
          <a:stretch/>
        </p:blipFill>
        <p:spPr>
          <a:xfrm>
            <a:off x="3800520" y="5208480"/>
            <a:ext cx="220032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9cb8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5748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сурийский  тиг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9cb86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ималайский медве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974880"/>
            <a:ext cx="9144000" cy="5883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6715080" y="4643280"/>
            <a:ext cx="2428920" cy="221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6715080" y="1000080"/>
            <a:ext cx="242892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9cb8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льневосточный к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5786280" y="5214960"/>
            <a:ext cx="1643400" cy="164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3500280"/>
            <a:ext cx="1928880" cy="164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143840" y="34290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0" y="3643200"/>
            <a:ext cx="1976400" cy="1643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43280" y="0"/>
            <a:ext cx="9286920" cy="5214960"/>
          </a:xfrm>
          <a:prstGeom prst="rect">
            <a:avLst/>
          </a:prstGeom>
          <a:gradFill rotWithShape="0">
            <a:gsLst>
              <a:gs pos="0">
                <a:srgbClr val="558ed5"/>
              </a:gs>
              <a:gs pos="100000">
                <a:srgbClr val="9cb86e"/>
              </a:gs>
            </a:gsLst>
            <a:lin ang="5400000"/>
          </a:gradFill>
          <a:ln w="9360">
            <a:solidFill>
              <a:srgbClr val="c1d1ec"/>
            </a:solidFill>
            <a:round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тицы </a:t>
            </a: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Дальнего Восто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7109280"/>
            <a:ext cx="640080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5"/>
          <a:stretch/>
        </p:blipFill>
        <p:spPr>
          <a:xfrm>
            <a:off x="-142920" y="521496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6"/>
          <a:stretch/>
        </p:blipFill>
        <p:spPr>
          <a:xfrm>
            <a:off x="7215120" y="521496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7"/>
          <a:stretch/>
        </p:blipFill>
        <p:spPr>
          <a:xfrm>
            <a:off x="5429160" y="5214960"/>
            <a:ext cx="1898640" cy="1643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8"/>
          <a:stretch/>
        </p:blipFill>
        <p:spPr>
          <a:xfrm>
            <a:off x="3500280" y="5214960"/>
            <a:ext cx="2095560" cy="1643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9"/>
          <a:stretch/>
        </p:blipFill>
        <p:spPr>
          <a:xfrm>
            <a:off x="1643040" y="5214960"/>
            <a:ext cx="20955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лубая со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6349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886440" y="5286240"/>
            <a:ext cx="225756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8ed5"/>
            </a:gs>
            <a:gs pos="100000">
              <a:srgbClr val="9cb8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ка мандар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671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7286760" y="5000760"/>
            <a:ext cx="18572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7215120" y="521496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5429160" y="5214960"/>
            <a:ext cx="1898640" cy="164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3500280" y="5214960"/>
            <a:ext cx="2095560" cy="1643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4"/>
          <a:stretch/>
        </p:blipFill>
        <p:spPr>
          <a:xfrm>
            <a:off x="1643040" y="5214960"/>
            <a:ext cx="2095560" cy="164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5"/>
          <a:stretch/>
        </p:blipFill>
        <p:spPr>
          <a:xfrm>
            <a:off x="-142920" y="521496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6"/>
          <a:stretch/>
        </p:blipFill>
        <p:spPr>
          <a:xfrm>
            <a:off x="5786280" y="5214960"/>
            <a:ext cx="1643400" cy="1643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7"/>
          <a:stretch/>
        </p:blipFill>
        <p:spPr>
          <a:xfrm>
            <a:off x="0" y="3500280"/>
            <a:ext cx="1928880" cy="1643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8"/>
          <a:stretch/>
        </p:blipFill>
        <p:spPr>
          <a:xfrm>
            <a:off x="7143840" y="34290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9"/>
          <a:stretch/>
        </p:blipFill>
        <p:spPr>
          <a:xfrm>
            <a:off x="0" y="3643200"/>
            <a:ext cx="1976400" cy="1643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43280" y="0"/>
            <a:ext cx="9286920" cy="5214960"/>
          </a:xfrm>
          <a:prstGeom prst="rect">
            <a:avLst/>
          </a:prstGeom>
          <a:gradFill rotWithShape="0">
            <a:gsLst>
              <a:gs pos="0">
                <a:srgbClr val="558ed5"/>
              </a:gs>
              <a:gs pos="100000">
                <a:srgbClr val="9cb86e"/>
              </a:gs>
            </a:gsLst>
            <a:lin ang="5400000"/>
          </a:gradFill>
          <a:ln w="9360">
            <a:solidFill>
              <a:srgbClr val="c1d1ec"/>
            </a:solidFill>
            <a:round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Растения</a:t>
            </a: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Дальнего Восто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7109280"/>
            <a:ext cx="640080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10"/>
          <a:stretch/>
        </p:blipFill>
        <p:spPr>
          <a:xfrm>
            <a:off x="-142920" y="5214960"/>
            <a:ext cx="2428920" cy="1738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11"/>
          <a:stretch/>
        </p:blipFill>
        <p:spPr>
          <a:xfrm>
            <a:off x="2286000" y="5214960"/>
            <a:ext cx="2500200" cy="1785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12"/>
          <a:stretch/>
        </p:blipFill>
        <p:spPr>
          <a:xfrm>
            <a:off x="4786200" y="5214960"/>
            <a:ext cx="1847880" cy="1785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13"/>
          <a:stretch/>
        </p:blipFill>
        <p:spPr>
          <a:xfrm>
            <a:off x="6648480" y="521496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9cb8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ньше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6500880" cy="556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5:40:39Z</dcterms:created>
  <dc:creator>WiZaRd</dc:creator>
  <dc:description/>
  <cp:keywords/>
  <dc:language>en-US</dc:language>
  <cp:lastModifiedBy>татьяна</cp:lastModifiedBy>
  <dcterms:modified xsi:type="dcterms:W3CDTF">2020-07-14T06:08:38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9</vt:r8>
  </property>
</Properties>
</file>