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D2B-969D-438F-860C-5F9F3AAE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2647-E5B3-4F42-B8D8-34B328F9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1C90-885C-4410-88C3-0B510424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CC00-A10C-4729-B4E1-402F0D2F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0233-1B9A-4A20-BF62-373B8097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006F-A75F-49A3-BA4A-C06B50F4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69D8-FBC5-4765-885D-4A3E81BA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A1A8-7C0B-46DA-BBAB-E33AD2AA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4EFB-4B41-4224-8414-F041EC77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4F12-48AF-4109-98D0-FDED134E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DD51-8744-448C-BE17-0087FE89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53D2-2912-4884-B0FE-6D33F63A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9487-858B-41A5-B8DD-B40306D3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FF7A-DEFB-46CF-A460-6DC4D753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824F-241D-42EF-9BC8-44C94F1C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FAEC-B255-4B86-ACC5-4794C24A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5750-ECD7-4174-9B5A-BE214EAC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D25CA-4BA9-48ED-A543-DF07AC10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8E86D-F863-4A47-9356-A22625C0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B153D-B786-43E2-823C-1F4D0E4B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5208C-E787-4676-84FA-3BB5E8F3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63C24-D144-450B-B8FA-6B72F269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FC78-0F77-480E-8CEE-0DC83B40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910A1-8830-4A3D-A65D-F5139E42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F9C27-6B34-4D08-B214-589DD51B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BDA99-B5C1-477F-86E1-C919B2B6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71EF8-35D1-4C2D-A448-2CF533B1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6B132-5C82-4179-A8FA-88EAE19F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97379-2904-4207-9816-9D505C2A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D543B-A055-4230-B85A-54FDDB0B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8B2D6-D6E3-4233-9473-004137D3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BA4F4-E0BF-4ADB-A116-7869E01C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0A9E2-0819-4006-9C4A-486AB10E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2E4D-27D5-4953-B3D9-D5B66C76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3040F-8498-4545-84E1-774A69B2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6A864-4ACE-45D8-ADA6-6F20CE1C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8B265-D7E1-4E0E-B01B-3715DDB1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B35EE-F8BE-4517-8FFD-48D470B1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BC3DD-5AEE-4924-92F4-41796B36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B3DE7-968A-494A-AF99-22F32820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72B8A-E5EC-46A7-ABAE-B53CCB7E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6C493-5820-496E-8A48-98CBAC60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E4703-E6B6-4E69-A400-AE12E433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A55CB-0232-4DC6-90E2-7F378F0C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472E-7E31-41C2-9DE2-BD0E02DB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B8398-261C-4145-8086-4E97B4F1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0A4B9-39FD-4403-96A2-F0E86B56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4EA4F-A517-4059-8614-D2795A5B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AE220-69CA-4C86-9D6C-413A01FD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4A18C-6D06-4BF5-A095-A5BD829F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8B7B2-5952-4492-A3D5-82CD6819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33A1F-A7D3-454E-80CB-F7C09334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1123B-8468-470A-9D9E-4339D8AF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6481C-98C0-4CD6-B30B-CD1E3FDF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5DBCC-181E-4778-BCDD-CA47654A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883-1A27-46EB-8E59-796961AB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2E152-7935-4CD3-85C5-891EEB79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F9DB2-0C66-4082-B9E5-6BDC4160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3A222-33D0-4277-BF77-63C4A1ED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FDBE0-CBE4-420E-B8C4-144570D1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A27FF-F0C0-4938-802E-568903BB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32A87-69FD-4D0D-94F6-0DF88E57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3C200-E8C3-419B-BAE2-E1F9B80B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0F850-804E-4343-8D3D-4D7285F6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CE955-6E7E-4F63-8EA7-F8C05C0C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FE73D-E6CD-44B6-892D-890BC79D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DB8-7D49-4F3C-9290-DA90E319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4DE6F-D4C6-4320-8F43-68C47FD9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935D6-CCD2-4CA0-939F-3C224747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F63B3-00C6-45E7-8021-C7B63851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9FBA9-EE99-4B55-9846-6EAA1B6A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C28D7-EAA9-4111-A848-D13F04FB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989C4-AD82-4D7C-B178-9C835D92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F58AE-AEF9-4352-BDA2-20D2F48D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D4C72-34BE-4176-B743-0F00CF18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859F5-EF94-4233-BAED-F3DC01BE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6B189-15F7-41A0-B930-C042FCC8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A987-1465-4587-B44E-BF60E63A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61694-8B6E-472E-BE1C-F5955961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91AD4-2DD6-404F-AF0D-B1C98761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C0850-CB4F-4EE7-806E-109DA9BC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D8B0F-D0CD-44F4-8DC6-67B4172E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AFF77-1829-4F50-8D7B-95237E52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D30-6A77-4744-A5ED-F33548D0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FDB9-7C7F-44BC-9060-0A04C498E87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856A-697A-424C-9BEE-4623D91F19E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5313-A472-4E0F-B6AE-DF2B7881F28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B5E6-8AD1-4E94-819D-5FCBB88D17A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EAC4-9678-4FE4-9BF0-D0C9FFC4F0C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8E8F-2142-41BA-8F2C-7183B0A3C5A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C5D2-82C5-42BA-9D4B-160C2EEC915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480" y="214200"/>
            <a:ext cx="75056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Тема урока: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Между традиционализмом и новаторством: Россия в </a:t>
            </a: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XVII</a:t>
            </a: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 веке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428760" y="-428760"/>
            <a:ext cx="91440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4"/>
          <p:cNvSpPr/>
          <p:nvPr/>
        </p:nvSpPr>
        <p:spPr>
          <a:xfrm>
            <a:off x="1908000" y="4221000"/>
            <a:ext cx="70567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и: учитель высшей категории Завьялова Александра Арефь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, кандидат исторических на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ьялова Светлана Владимировн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271c"/>
                </a:solidFill>
                <a:latin typeface="Corbel"/>
              </a:rPr>
              <a:t>Основные положения политики Алексея Михайлович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356840" y="17143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) на смену Земским старостам приходят воеводы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) проводится политика, направленная на централизацию вла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) укрепление самодержав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) создание «Соборного уложения» 1649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) увеличение числа чиновников (бюрократов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271c"/>
                </a:solidFill>
                <a:latin typeface="Corbel"/>
              </a:rPr>
              <a:t>Политический строй при </a:t>
            </a:r>
            <a:br>
              <a:rPr sz="3600"/>
            </a:br>
            <a:r>
              <a:rPr b="1" lang="ru-RU" sz="3600" spc="-1" strike="noStrike">
                <a:solidFill>
                  <a:srgbClr val="4f271c"/>
                </a:solidFill>
                <a:latin typeface="Corbel"/>
              </a:rPr>
              <a:t>Фёдоре Алексеевиче</a:t>
            </a:r>
            <a:br>
              <a:rPr sz="3600"/>
            </a:br>
            <a:r>
              <a:rPr b="1" lang="ru-RU" sz="3600" spc="-1" strike="noStrike">
                <a:solidFill>
                  <a:srgbClr val="4f271c"/>
                </a:solidFill>
                <a:latin typeface="Corbel"/>
              </a:rPr>
              <a:t>(1676 – 1682)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071960" y="2071800"/>
            <a:ext cx="4788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. Г. Миллер так описывал царствование Фёдора Алексеевича: «На историю Фёдора можно смотреть как на переход от великих деяний Алексея Михайловича к преобразованиям, совершённым Петром Великим».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4" descr="Фёдор Алексеевич"/>
          <p:cNvPicPr/>
          <p:nvPr/>
        </p:nvPicPr>
        <p:blipFill>
          <a:blip r:embed="rId1"/>
          <a:stretch/>
        </p:blipFill>
        <p:spPr>
          <a:xfrm>
            <a:off x="428760" y="2500200"/>
            <a:ext cx="34574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271c"/>
                </a:solidFill>
                <a:latin typeface="Corbel"/>
              </a:rPr>
              <a:t>Основные положения политики Фёдора Алексеевич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28480" y="15714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) 1682 уничтожение местничеств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) 1679 разработка проекта первого в России университет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) 1681 г. унификация чинов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) 1681 г. указ о введении европейского плать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) планы по разграничению власте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ние 8 военных округ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14280" y="5713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271c"/>
                </a:solidFill>
                <a:latin typeface="Corbel"/>
              </a:rPr>
              <a:t>Политика Софьи Алексеевны (регентши)</a:t>
            </a:r>
            <a:br>
              <a:rPr sz="3600"/>
            </a:br>
            <a:r>
              <a:rPr b="1" lang="ru-RU" sz="3600" spc="-1" strike="noStrike">
                <a:solidFill>
                  <a:srgbClr val="4f271c"/>
                </a:solidFill>
                <a:latin typeface="Corbel"/>
              </a:rPr>
              <a:t>(1682 – 1689)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499920" y="2647440"/>
            <a:ext cx="543564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о словам современника, это была «дева великого ума и самых нежных проницательств…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4" descr="Софья"/>
          <p:cNvPicPr/>
          <p:nvPr/>
        </p:nvPicPr>
        <p:blipFill>
          <a:blip r:embed="rId1"/>
          <a:stretch/>
        </p:blipFill>
        <p:spPr>
          <a:xfrm>
            <a:off x="285840" y="2286000"/>
            <a:ext cx="3233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4f271c"/>
                </a:solidFill>
                <a:latin typeface="Corbel"/>
              </a:rPr>
              <a:t>Основные положения политики Софьи Алексеевны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56840" y="17143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) открытие Славяно-греко-латинской академии в 1687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) первая русская женщина, которая самостоятельно вела политическую борьб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) укрепление самодержавной вла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) при ней произведена революция положения женщины в обществ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4300" spc="-1" strike="noStrike">
                <a:solidFill>
                  <a:srgbClr val="4f271c"/>
                </a:solidFill>
                <a:latin typeface="Corbel"/>
              </a:rPr>
              <a:t>Вывод: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084720" y="1628640"/>
            <a:ext cx="305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Таким образом на протяжении всего 17 века Россия  шла по пути к абсолютизм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74" name="Group 4"/>
          <p:cNvGrpSpPr/>
          <p:nvPr/>
        </p:nvGrpSpPr>
        <p:grpSpPr>
          <a:xfrm>
            <a:off x="1785960" y="1143000"/>
            <a:ext cx="6843240" cy="5452920"/>
            <a:chOff x="1785960" y="1143000"/>
            <a:chExt cx="6843240" cy="5452920"/>
          </a:xfrm>
        </p:grpSpPr>
        <p:grpSp>
          <p:nvGrpSpPr>
            <p:cNvPr id="375" name="AutoShape 5"/>
            <p:cNvGrpSpPr/>
            <p:nvPr/>
          </p:nvGrpSpPr>
          <p:grpSpPr>
            <a:xfrm>
              <a:off x="1852560" y="1143000"/>
              <a:ext cx="6776640" cy="5452920"/>
              <a:chOff x="1852560" y="1143000"/>
              <a:chExt cx="6776640" cy="5452920"/>
            </a:xfrm>
          </p:grpSpPr>
          <p:pic>
            <p:nvPicPr>
              <p:cNvPr id="376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852560" y="1143000"/>
                <a:ext cx="6776640" cy="545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1859400" y="1145880"/>
                <a:ext cx="6761160" cy="54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AutoShape 6"/>
            <p:cNvSpPr/>
            <p:nvPr/>
          </p:nvSpPr>
          <p:spPr>
            <a:xfrm>
              <a:off x="3713040" y="1277640"/>
              <a:ext cx="3112560" cy="1864440"/>
            </a:xfrm>
            <a:prstGeom prst="triangle">
              <a:avLst>
                <a:gd name="adj" fmla="val 492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оссия в начал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7 ве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7"/>
            <p:cNvSpPr/>
            <p:nvPr/>
          </p:nvSpPr>
          <p:spPr>
            <a:xfrm flipH="1">
              <a:off x="2007720" y="1145520"/>
              <a:ext cx="3066840" cy="42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>
              <a:off x="5353920" y="1145520"/>
              <a:ext cx="3144600" cy="42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>
              <a:off x="2140200" y="5490360"/>
              <a:ext cx="6211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10"/>
            <p:cNvSpPr/>
            <p:nvPr/>
          </p:nvSpPr>
          <p:spPr>
            <a:xfrm>
              <a:off x="1785960" y="3641760"/>
              <a:ext cx="3853440" cy="1854720"/>
            </a:xfrm>
            <a:prstGeom prst="triangle">
              <a:avLst>
                <a:gd name="adj" fmla="val 4946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ословно-представительная монарх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11"/>
            <p:cNvSpPr/>
            <p:nvPr/>
          </p:nvSpPr>
          <p:spPr>
            <a:xfrm>
              <a:off x="5565960" y="3499200"/>
              <a:ext cx="3038400" cy="1991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Абсолютиз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12"/>
            <p:cNvSpPr/>
            <p:nvPr/>
          </p:nvSpPr>
          <p:spPr>
            <a:xfrm flipV="1">
              <a:off x="4676400" y="3212640"/>
              <a:ext cx="1358280" cy="2085480"/>
            </a:xfrm>
            <a:custGeom>
              <a:avLst/>
              <a:gdLst>
                <a:gd name="textAreaLeft" fmla="*/ 781200 w 1358280"/>
                <a:gd name="textAreaRight" fmla="*/ 1146240 w 1358280"/>
                <a:gd name="textAreaTop" fmla="*/ 281160 h 2085480"/>
                <a:gd name="textAreaBottom" fmla="*/ 892800 h 20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2857680" y="285840"/>
            <a:ext cx="3728880" cy="720720"/>
          </a:xfrm>
          <a:prstGeom prst="rect">
            <a:avLst/>
          </a:prstGeom>
          <a:solidFill>
            <a:srgbClr val="e7dec9"/>
          </a:solidFill>
          <a:ln w="9360">
            <a:solidFill>
              <a:srgbClr val="e7d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я в конце 17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468360" y="1341360"/>
            <a:ext cx="2590920" cy="719280"/>
          </a:xfrm>
          <a:prstGeom prst="rect">
            <a:avLst/>
          </a:prstGeom>
          <a:solidFill>
            <a:srgbClr val="e7d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ато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5867280" y="1341360"/>
            <a:ext cx="2592360" cy="576360"/>
          </a:xfrm>
          <a:prstGeom prst="rect">
            <a:avLst/>
          </a:prstGeom>
          <a:solidFill>
            <a:srgbClr val="e7d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ди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5"/>
          <p:cNvSpPr/>
          <p:nvPr/>
        </p:nvSpPr>
        <p:spPr>
          <a:xfrm>
            <a:off x="2771640" y="981000"/>
            <a:ext cx="0" cy="36036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6"/>
          <p:cNvSpPr/>
          <p:nvPr/>
        </p:nvSpPr>
        <p:spPr>
          <a:xfrm>
            <a:off x="6227640" y="981000"/>
            <a:ext cx="0" cy="36036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2332080"/>
            <a:ext cx="3924360" cy="452592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) создание регулярной армии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) уничтожение местничества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) революция в положении женщины в обществе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) снижение роли знатных людей на политической арен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5219640" y="2332080"/>
            <a:ext cx="3924360" cy="452592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постное пра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репление самодержавной власти царя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0"/>
          <p:cNvSpPr/>
          <p:nvPr/>
        </p:nvSpPr>
        <p:spPr>
          <a:xfrm>
            <a:off x="214200" y="765000"/>
            <a:ext cx="185760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стройка армии на европейский л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4"/>
          <p:cNvSpPr/>
          <p:nvPr/>
        </p:nvSpPr>
        <p:spPr>
          <a:xfrm>
            <a:off x="395280" y="-14760"/>
            <a:ext cx="84978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: Между традиционализмом и новаторством: Россия в 17 ве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1"/>
          <p:cNvSpPr/>
          <p:nvPr/>
        </p:nvSpPr>
        <p:spPr>
          <a:xfrm>
            <a:off x="577800" y="26946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5"/>
          <p:cNvSpPr/>
          <p:nvPr/>
        </p:nvSpPr>
        <p:spPr>
          <a:xfrm>
            <a:off x="179280" y="2492280"/>
            <a:ext cx="1944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квидация местни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6"/>
          <p:cNvSpPr/>
          <p:nvPr/>
        </p:nvSpPr>
        <p:spPr>
          <a:xfrm>
            <a:off x="7164360" y="2276640"/>
            <a:ext cx="1800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рождение буржуазных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7"/>
          <p:cNvSpPr/>
          <p:nvPr/>
        </p:nvSpPr>
        <p:spPr>
          <a:xfrm>
            <a:off x="1357200" y="3500280"/>
            <a:ext cx="2143080" cy="15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попытка эмансипации женщин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8"/>
          <p:cNvSpPr/>
          <p:nvPr/>
        </p:nvSpPr>
        <p:spPr>
          <a:xfrm>
            <a:off x="5643720" y="3429000"/>
            <a:ext cx="238428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ывание всероссийского рынка и преодоление замкнутости натурального хозя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9"/>
          <p:cNvSpPr/>
          <p:nvPr/>
        </p:nvSpPr>
        <p:spPr>
          <a:xfrm>
            <a:off x="3564000" y="5013360"/>
            <a:ext cx="19368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ховенство светской власти над церко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0"/>
          <p:cNvSpPr/>
          <p:nvPr/>
        </p:nvSpPr>
        <p:spPr>
          <a:xfrm>
            <a:off x="7093080" y="692280"/>
            <a:ext cx="20509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куляризация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1"/>
          <p:cNvSpPr/>
          <p:nvPr/>
        </p:nvSpPr>
        <p:spPr>
          <a:xfrm>
            <a:off x="2987640" y="1484280"/>
            <a:ext cx="33829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является новаторств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62"/>
          <p:cNvSpPr/>
          <p:nvPr/>
        </p:nvSpPr>
        <p:spPr>
          <a:xfrm flipH="1" flipV="1">
            <a:off x="1979640" y="126792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63"/>
          <p:cNvSpPr/>
          <p:nvPr/>
        </p:nvSpPr>
        <p:spPr>
          <a:xfrm>
            <a:off x="4500720" y="220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4"/>
          <p:cNvSpPr/>
          <p:nvPr/>
        </p:nvSpPr>
        <p:spPr>
          <a:xfrm flipV="1">
            <a:off x="6372360" y="112536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65"/>
          <p:cNvSpPr/>
          <p:nvPr/>
        </p:nvSpPr>
        <p:spPr>
          <a:xfrm flipH="1">
            <a:off x="2627280" y="2205000"/>
            <a:ext cx="1224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66"/>
          <p:cNvSpPr/>
          <p:nvPr/>
        </p:nvSpPr>
        <p:spPr>
          <a:xfrm>
            <a:off x="5364000" y="2205000"/>
            <a:ext cx="1368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67"/>
          <p:cNvSpPr/>
          <p:nvPr/>
        </p:nvSpPr>
        <p:spPr>
          <a:xfrm flipH="1">
            <a:off x="2123640" y="220500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68"/>
          <p:cNvSpPr/>
          <p:nvPr/>
        </p:nvSpPr>
        <p:spPr>
          <a:xfrm>
            <a:off x="6372360" y="22050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3"/>
          <p:cNvSpPr/>
          <p:nvPr/>
        </p:nvSpPr>
        <p:spPr>
          <a:xfrm>
            <a:off x="2928960" y="1428840"/>
            <a:ext cx="410508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сдерживало развитие стра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1000080" y="2565360"/>
            <a:ext cx="20592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крепление самодержа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2357280" y="3857760"/>
            <a:ext cx="1521000" cy="17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сутствие диалога между властью и обще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4214880" y="3857760"/>
            <a:ext cx="171432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онодательное оформление крепостн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6143760" y="3500280"/>
            <a:ext cx="181296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еодальная экономика, феодальные поря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6929280" y="2286000"/>
            <a:ext cx="2051280" cy="107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хранение средневековых нра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9"/>
          <p:cNvSpPr/>
          <p:nvPr/>
        </p:nvSpPr>
        <p:spPr>
          <a:xfrm flipH="1">
            <a:off x="2214720" y="1857240"/>
            <a:ext cx="1584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0"/>
          <p:cNvSpPr/>
          <p:nvPr/>
        </p:nvSpPr>
        <p:spPr>
          <a:xfrm flipH="1">
            <a:off x="3214800" y="2000160"/>
            <a:ext cx="72072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"/>
          <p:cNvSpPr/>
          <p:nvPr/>
        </p:nvSpPr>
        <p:spPr>
          <a:xfrm>
            <a:off x="5072040" y="20001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6143760" y="1857240"/>
            <a:ext cx="72072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572160" y="1785960"/>
            <a:ext cx="1727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577800" y="26946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                    </a:t>
            </a: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Вывод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1. Русское общество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XVII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века – переходное от традиционализма к модернизаци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2. Новаторские тенденции коснулись всех сфер жизни обществ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3. Модернизация сдерживалась сохранением самодержавия и утверждением крепостного прав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Цель</a:t>
            </a: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: 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определение факторов, сдерживающих развитие страны и факторов, способствующих движению России вперед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72314"/>
                </a:solidFill>
                <a:latin typeface="Corbel"/>
              </a:rPr>
              <a:t>Спасибо за урок!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1214280" y="242280"/>
            <a:ext cx="7572600" cy="59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271c"/>
                </a:solidFill>
                <a:latin typeface="Corbel"/>
                <a:ea typeface="Times New Roman"/>
              </a:rPr>
              <a:t>Задачи уро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идактическ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беспечить в ходе урока усвоение фактор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держивающих развитие страны и факторов, способствующих движению России вперед;</a:t>
            </a:r>
            <a:r>
              <a:rPr b="0" lang="ru-RU" sz="2400" spc="-1" strike="noStrike">
                <a:solidFill>
                  <a:srgbClr val="572314"/>
                </a:solidFill>
                <a:latin typeface="Arial"/>
              </a:rPr>
              <a:t> определить, что было нового и что оставалось неизменным  в экономике,в политике,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Arial"/>
              </a:rPr>
              <a:t>в духовной сф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вающ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олжать развивать умение работать с текстами  учебника и документов, в соответствии  с проблематикой урока анализировать и систематизировать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итывающ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оспитывать взаимопомощь, сотрудничество в группах, коммуникабе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92360" y="1700280"/>
            <a:ext cx="5976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271c"/>
                </a:solidFill>
                <a:latin typeface="Corbel"/>
              </a:rPr>
              <a:t>Политическое устройство России в </a:t>
            </a:r>
            <a:r>
              <a:rPr b="1" lang="en-US" sz="3600" spc="-1" strike="noStrike">
                <a:solidFill>
                  <a:srgbClr val="4f271c"/>
                </a:solidFill>
                <a:latin typeface="Gill Sans MT"/>
              </a:rPr>
              <a:t>VII</a:t>
            </a:r>
            <a:r>
              <a:rPr b="1" lang="ru-RU" sz="3600" spc="-1" strike="noStrike">
                <a:solidFill>
                  <a:srgbClr val="4f271c"/>
                </a:solidFill>
                <a:latin typeface="Corbel"/>
              </a:rPr>
              <a:t> веке. Традиционализм и новаторство.   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Corbel"/>
              </a:rPr>
              <a:t>Политический строй при </a:t>
            </a:r>
            <a:br>
              <a:rPr sz="2800"/>
            </a:br>
            <a:r>
              <a:rPr b="1" lang="ru-RU" sz="2800" spc="-1" strike="noStrike">
                <a:solidFill>
                  <a:srgbClr val="4f271c"/>
                </a:solidFill>
                <a:latin typeface="Corbel"/>
              </a:rPr>
              <a:t>Михаиле Фёдоровиче Романове</a:t>
            </a:r>
            <a:br>
              <a:rPr sz="2800"/>
            </a:br>
            <a:r>
              <a:rPr b="1" lang="ru-RU" sz="2800" spc="-1" strike="noStrike">
                <a:solidFill>
                  <a:srgbClr val="4f271c"/>
                </a:solidFill>
                <a:latin typeface="Corbel"/>
              </a:rPr>
              <a:t>(1613 – 1645)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348000" y="1600200"/>
            <a:ext cx="5796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сле освобождения Москвы в 1612 году ополчением Минина и Пожарского на престол вступил Михаил Фёдорович Романов. В. Б. Кобрин пишет по этому поводу так: «Романовы устроили всех. Таково свойство посредственности». «Сам Михаил был от природы доброго, но, кажется, меланхоличного нрава, но не лишён ума;  зато не получил никакого воспитания…»- писал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. И. Костомаров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4" descr="Михаил Романов"/>
          <p:cNvPicPr/>
          <p:nvPr/>
        </p:nvPicPr>
        <p:blipFill>
          <a:blip r:embed="rId1"/>
          <a:stretch/>
        </p:blipFill>
        <p:spPr>
          <a:xfrm>
            <a:off x="285840" y="2643120"/>
            <a:ext cx="3348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181080" y="95400"/>
            <a:ext cx="9506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271c"/>
                </a:solidFill>
                <a:latin typeface="Corbel"/>
              </a:rPr>
              <a:t>Политический строй  </a:t>
            </a:r>
            <a:r>
              <a:rPr b="1" lang="ru-RU" sz="4300" spc="-1" strike="noStrike">
                <a:solidFill>
                  <a:srgbClr val="4f271c"/>
                </a:solidFill>
                <a:latin typeface="Corbel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651280" y="1412640"/>
            <a:ext cx="33130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В правление Михаила Фёдоровича форма государства определялась как Сословно-представительная Монархи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30" name="Group 3"/>
          <p:cNvGrpSpPr/>
          <p:nvPr/>
        </p:nvGrpSpPr>
        <p:grpSpPr>
          <a:xfrm>
            <a:off x="2000160" y="907920"/>
            <a:ext cx="6085080" cy="5735880"/>
            <a:chOff x="2000160" y="907920"/>
            <a:chExt cx="6085080" cy="5735880"/>
          </a:xfrm>
        </p:grpSpPr>
        <p:grpSp>
          <p:nvGrpSpPr>
            <p:cNvPr id="331" name="AutoShape 4"/>
            <p:cNvGrpSpPr/>
            <p:nvPr/>
          </p:nvGrpSpPr>
          <p:grpSpPr>
            <a:xfrm>
              <a:off x="2000160" y="907920"/>
              <a:ext cx="6085080" cy="5735880"/>
              <a:chOff x="2000160" y="907920"/>
              <a:chExt cx="6085080" cy="5735880"/>
            </a:xfrm>
          </p:grpSpPr>
          <p:pic>
            <p:nvPicPr>
              <p:cNvPr id="332" name="AutoShap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000160" y="907920"/>
                <a:ext cx="6085080" cy="573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"/>
              <p:cNvSpPr/>
              <p:nvPr/>
            </p:nvSpPr>
            <p:spPr>
              <a:xfrm>
                <a:off x="2007000" y="913680"/>
                <a:ext cx="6074280" cy="57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Line 5"/>
            <p:cNvSpPr/>
            <p:nvPr/>
          </p:nvSpPr>
          <p:spPr>
            <a:xfrm>
              <a:off x="4436280" y="1909440"/>
              <a:ext cx="72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6"/>
            <p:cNvSpPr/>
            <p:nvPr/>
          </p:nvSpPr>
          <p:spPr>
            <a:xfrm>
              <a:off x="4913280" y="2158560"/>
              <a:ext cx="72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7"/>
            <p:cNvSpPr/>
            <p:nvPr/>
          </p:nvSpPr>
          <p:spPr>
            <a:xfrm>
              <a:off x="3841560" y="2530800"/>
              <a:ext cx="190476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Земский Соб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Играл большую роль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8"/>
            <p:cNvSpPr/>
            <p:nvPr/>
          </p:nvSpPr>
          <p:spPr>
            <a:xfrm>
              <a:off x="5508720" y="1660320"/>
              <a:ext cx="226152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9"/>
            <p:cNvSpPr/>
            <p:nvPr/>
          </p:nvSpPr>
          <p:spPr>
            <a:xfrm>
              <a:off x="5508720" y="2021040"/>
              <a:ext cx="356760" cy="51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0"/>
            <p:cNvSpPr/>
            <p:nvPr/>
          </p:nvSpPr>
          <p:spPr>
            <a:xfrm>
              <a:off x="6000480" y="2502360"/>
              <a:ext cx="1906560" cy="82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Боярская Ду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Играла важную роль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1"/>
            <p:cNvSpPr/>
            <p:nvPr/>
          </p:nvSpPr>
          <p:spPr>
            <a:xfrm>
              <a:off x="2078280" y="2431800"/>
              <a:ext cx="1643400" cy="88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П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Помощь Филарет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2"/>
            <p:cNvSpPr/>
            <p:nvPr/>
          </p:nvSpPr>
          <p:spPr>
            <a:xfrm flipH="1">
              <a:off x="2053440" y="1660320"/>
              <a:ext cx="1787400" cy="74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3"/>
            <p:cNvSpPr/>
            <p:nvPr/>
          </p:nvSpPr>
          <p:spPr>
            <a:xfrm flipH="1">
              <a:off x="3721680" y="2021040"/>
              <a:ext cx="114480" cy="38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4"/>
            <p:cNvSpPr/>
            <p:nvPr/>
          </p:nvSpPr>
          <p:spPr>
            <a:xfrm>
              <a:off x="3931920" y="3786480"/>
              <a:ext cx="19047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иказ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7"/>
            <p:cNvSpPr/>
            <p:nvPr/>
          </p:nvSpPr>
          <p:spPr>
            <a:xfrm>
              <a:off x="2173680" y="4521960"/>
              <a:ext cx="1548000" cy="49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азрядный прика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8"/>
            <p:cNvSpPr/>
            <p:nvPr/>
          </p:nvSpPr>
          <p:spPr>
            <a:xfrm>
              <a:off x="4079520" y="4521960"/>
              <a:ext cx="1310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Ямской прика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9"/>
            <p:cNvSpPr/>
            <p:nvPr/>
          </p:nvSpPr>
          <p:spPr>
            <a:xfrm flipH="1">
              <a:off x="3007440" y="4024800"/>
              <a:ext cx="83520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0"/>
            <p:cNvSpPr/>
            <p:nvPr/>
          </p:nvSpPr>
          <p:spPr>
            <a:xfrm>
              <a:off x="4716360" y="4284720"/>
              <a:ext cx="720" cy="2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1"/>
            <p:cNvSpPr/>
            <p:nvPr/>
          </p:nvSpPr>
          <p:spPr>
            <a:xfrm>
              <a:off x="5865480" y="4521960"/>
              <a:ext cx="1667880" cy="49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 т. д. (около 80шт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2"/>
            <p:cNvSpPr/>
            <p:nvPr/>
          </p:nvSpPr>
          <p:spPr>
            <a:xfrm>
              <a:off x="5928840" y="4071240"/>
              <a:ext cx="95220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3"/>
            <p:cNvSpPr/>
            <p:nvPr/>
          </p:nvSpPr>
          <p:spPr>
            <a:xfrm>
              <a:off x="2791440" y="5354280"/>
              <a:ext cx="3809880" cy="79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ЕМСКИЕ СТАРОС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выборные люди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4"/>
            <p:cNvSpPr/>
            <p:nvPr/>
          </p:nvSpPr>
          <p:spPr>
            <a:xfrm>
              <a:off x="3840840" y="1505160"/>
              <a:ext cx="1730880" cy="65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Цар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9144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1) большая зависимость от Боярской Думы, Земского Собора, отца (патриарха Филарета)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2) создание полков нового строя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3) политика по восстановлению страны после Смуты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4) укрепление  единоличной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ласти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цар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Прямоугольник 3"/>
          <p:cNvSpPr/>
          <p:nvPr/>
        </p:nvSpPr>
        <p:spPr>
          <a:xfrm>
            <a:off x="1285920" y="285840"/>
            <a:ext cx="742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Corbel"/>
              </a:rPr>
              <a:t>Основные положения политики Михаила Фёдорови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56840" y="3567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271c"/>
                </a:solidFill>
                <a:latin typeface="Corbel"/>
              </a:rPr>
              <a:t>Политический строй при Алексее Михайловиче Романове</a:t>
            </a:r>
            <a:br>
              <a:rPr sz="3600"/>
            </a:br>
            <a:r>
              <a:rPr b="1" lang="ru-RU" sz="3600" spc="-1" strike="noStrike">
                <a:solidFill>
                  <a:srgbClr val="4f271c"/>
                </a:solidFill>
                <a:latin typeface="Corbel"/>
              </a:rPr>
              <a:t>(1645 – 1676)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419280" y="2214720"/>
            <a:ext cx="5724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«Царь Алексей Михайлович был добрейший человек, славная русская душа… Царь Алексей Михайлович принял в преобразовательном движении позу, соответствующую такому взгляду на дело: одной ногой он ещё крепко упирался в родную православную старину, а другую уже занёс было за её черту,»- писал о нём В.О. Ключевский.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4" descr="Алексей Михайлович "/>
          <p:cNvPicPr/>
          <p:nvPr/>
        </p:nvPicPr>
        <p:blipFill>
          <a:blip r:embed="rId1"/>
          <a:stretch/>
        </p:blipFill>
        <p:spPr>
          <a:xfrm>
            <a:off x="285840" y="2286000"/>
            <a:ext cx="32479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-360"/>
            <a:ext cx="8640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Corbel"/>
              </a:rPr>
              <a:t>Политический строй в правление </a:t>
            </a:r>
            <a:br>
              <a:rPr sz="3200"/>
            </a:br>
            <a:r>
              <a:rPr b="1" lang="ru-RU" sz="3200" spc="-1" strike="noStrike">
                <a:solidFill>
                  <a:srgbClr val="4f271c"/>
                </a:solidFill>
                <a:latin typeface="Corbel"/>
              </a:rPr>
              <a:t>Алексея Михайловича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580000" y="3212640"/>
            <a:ext cx="356400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При Алексее Романове наблюдалась тенденция к абсолютизму.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Group 3" descr=""/>
          <p:cNvPicPr/>
          <p:nvPr/>
        </p:nvPicPr>
        <p:blipFill>
          <a:blip r:embed="rId1"/>
          <a:stretch/>
        </p:blipFill>
        <p:spPr>
          <a:xfrm>
            <a:off x="1792440" y="1238400"/>
            <a:ext cx="71388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9:30:32Z</dcterms:created>
  <dc:creator>1</dc:creator>
  <dc:description/>
  <dc:language>en-US</dc:language>
  <cp:lastModifiedBy>ASrock</cp:lastModifiedBy>
  <dcterms:modified xsi:type="dcterms:W3CDTF">2020-07-14T17:08:48Z</dcterms:modified>
  <cp:revision>41</cp:revision>
  <dc:subject/>
  <dc:title>Тема: Между традиционализмом и новаторством: Россия в XVII веке.</dc:title>
</cp:coreProperties>
</file>