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F002-723D-4D7E-8126-1DE11BFA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713C-9F34-4508-8F69-BD299F7AF4E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0ECE-A74E-4497-9DD1-E3F0D1AA7458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86EE-EB47-4F95-93C2-5FB2851DE829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39049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049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39049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16761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6761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39049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39049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39049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7520" y="333360"/>
            <a:ext cx="83059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39049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39049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520" y="2037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16761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9049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520" y="333360"/>
            <a:ext cx="83059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292929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292929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924000" y="3645000"/>
            <a:ext cx="49021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анян Ануш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ца 2 «В» класс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денко Валентина Михайловна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662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</a:rPr>
              <a:t>«Влияние занятий на скрипке на общее развитие школьника»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</a:rPr>
              <a:t> 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669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907920"/>
            <a:ext cx="73152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 на  скрипке  развивает  творческие  способности,  мышление,  дарит        богатое     воображение,  гибкий  ум  и  чуткую  интуицию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 на  скрипке  способствует  концентрации    внимания  и  усидчивости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рипка  была  и  остается  популярным  музыкальным  инструментом.           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7520" y="333360"/>
            <a:ext cx="830592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исследования: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ения  влияния  занятий скрипкой на  школьника.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  исследования: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. Изучить историю  возникновения  скрипки,  ее  устройство.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.  Узнать какое влияние оказывает на школьника  занятия  скрипкой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.  Провести   социальный  опрос  по теме  исследования.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.  Отрепетировать  музыкальное  произведение  для  исполнения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7520" y="333360"/>
            <a:ext cx="830592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ект   исследования: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музыкальный  инструмент – скрипка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скрипки на  развитие  школьника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 исследования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предположила,  что занятия  на  скрипке  оказывают     положительное  влияние  на  развитие  школьника,  его  успеваемости.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ранной  темы: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бедить  сверстников,  что  скрипка была  и остается  популярным музыкальным  инструментом.    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анкетирования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0" name="Объект 4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3760"/>
            <a:ext cx="7381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95640" y="1100160"/>
            <a:ext cx="460836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5029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возникновения скрипки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4" name="Picture 5" descr="http://www.ethnicmusicalinstruments.com/assets/images/mid-east/spkf.jpg"/>
          <p:cNvPicPr/>
          <p:nvPr/>
        </p:nvPicPr>
        <p:blipFill>
          <a:blip r:embed="rId2"/>
          <a:stretch/>
        </p:blipFill>
        <p:spPr>
          <a:xfrm>
            <a:off x="1979640" y="1635120"/>
            <a:ext cx="236052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vesubiales.free.fr/Les%20instruments_fichiers/crwt.gif"/>
          <p:cNvPicPr/>
          <p:nvPr/>
        </p:nvPicPr>
        <p:blipFill>
          <a:blip r:embed="rId3"/>
          <a:stretch/>
        </p:blipFill>
        <p:spPr>
          <a:xfrm>
            <a:off x="4605480" y="1592280"/>
            <a:ext cx="2447640" cy="284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s://ukrainianpeople.us/wp-content/uploads/2017/05/10595585_800.jpg"/>
          <p:cNvPicPr/>
          <p:nvPr/>
        </p:nvPicPr>
        <p:blipFill>
          <a:blip r:embed="rId4"/>
          <a:stretch/>
        </p:blipFill>
        <p:spPr>
          <a:xfrm>
            <a:off x="4716360" y="4438800"/>
            <a:ext cx="38163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520" y="333360"/>
            <a:ext cx="8305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спаро Бертолотти. 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8" name="Picture 2" descr="C:\Users\admin\Desktop\gasparo-spontini-1774-1851-granger.jpg"/>
          <p:cNvPicPr/>
          <p:nvPr/>
        </p:nvPicPr>
        <p:blipFill>
          <a:blip r:embed="rId1"/>
          <a:stretch/>
        </p:blipFill>
        <p:spPr>
          <a:xfrm>
            <a:off x="1049400" y="1171440"/>
            <a:ext cx="460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42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онио Страдивар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5817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  занятий скрипкой  на  школьни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62" name="Picture 2" descr="C:\Users\admin\Desktop\Depositphotos_57368199_original.jpg"/>
          <p:cNvPicPr/>
          <p:nvPr/>
        </p:nvPicPr>
        <p:blipFill>
          <a:blip r:embed="rId1"/>
          <a:stretch/>
        </p:blipFill>
        <p:spPr>
          <a:xfrm>
            <a:off x="6334200" y="907920"/>
            <a:ext cx="2584440" cy="208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55680" y="1197000"/>
            <a:ext cx="5843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3:41:32Z</dcterms:created>
  <dc:creator>Юра</dc:creator>
  <dc:description/>
  <dc:language>en-US</dc:language>
  <cp:lastModifiedBy>admin</cp:lastModifiedBy>
  <dcterms:modified xsi:type="dcterms:W3CDTF">2019-03-17T15:48:23Z</dcterms:modified>
  <cp:revision>15</cp:revision>
  <dc:subject/>
  <dc:title>Name of presentation</dc:title>
</cp:coreProperties>
</file>