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38D6-9CFE-4074-A038-8F0BF6AA2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243-F185-4FE3-99D0-790EED837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ACF-F0A1-453A-879B-5F762C795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996B-D5A2-4B9C-A678-68F54F7F7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D62D-D32E-4976-BFAD-351623EB7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BA7-1C6E-4821-B126-102C6E50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C64-27D5-4CD0-8D41-22C6119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35D-A492-4140-B100-7FFBED40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A54-FF11-4CEC-93AC-17E7DB98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380-12B5-4360-86A2-BF205D7B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16F-6674-4A31-96A6-44C0B889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D30-13FD-40C2-B888-0656B00B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287-3CA2-4834-962D-38C279E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028-2586-4C38-8788-B33C62AF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B59-0726-4912-87A0-F855959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08D-FE62-405A-90A6-DD962EB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479-F3FB-4B6E-9311-DC1E91B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7730-F910-4AB7-99FA-BC0D81B7F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hyperlink" Target="file:///&#1043;&#1088;&#1072;&#1084;&#1086;&#1090;&#1099;%20&#1080;%20&#1076;&#1080;&#1087;&#1083;&#1086;&#1084;&#1099;%20&#1079;&#1072;%20&#1086;&#1083;&#1080;&#1084;&#1087;&#1080;&#1072;&#1076;&#1099;" TargetMode="External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60;&#1086;&#1090;&#1086;%20&#1082;%20&#1087;&#1088;&#1077;&#1079;&#1077;&#1085;&#1090;&#1072;&#1094;&#1080;&#1080;/&#1048;&#1088;&#1080;&#1085;&#1072;%20&#1089;%20&#1082;&#1086;&#1084;&#1084;&#1077;&#1085;&#1090;&#1080;&#1088;&#1091;&#1077;&#1090;%20&#1089;&#1093;&#1077;&#1084;&#1099;.JPG" TargetMode="External"/><Relationship Id="rId2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2;&#1072;&#1089;&#1090;&#1077;&#1088;%20-%20&#1082;&#1083;&#1072;&#1089;&#1089;&#1099;" TargetMode="External"/><Relationship Id="rId3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4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5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6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7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8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9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10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11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5;&#1088;&#1072;&#1082;&#1090;&#1080;&#1095;&#1077;&#1089;&#1082;&#1080;&#1081;%20&#1091;&#1088;&#1086;&#1074;&#1077;&#1085;&#1100;/&#1050;&#1086;&#1087;&#1080;&#1080;%20&#1089;&#1077;&#1088;&#1090;&#1080;&#1092;&#1080;&#1082;&#1072;&#1090;&#1086;&#1074;%20%202015&#1075;.-%202014%20&#1075;.&#1075;" TargetMode="External"/><Relationship Id="rId12" Type="http://schemas.openxmlformats.org/officeDocument/2006/relationships/hyperlink" Target="http://znaina5.ru/" TargetMode="External"/><Relationship Id="rId13" Type="http://schemas.openxmlformats.org/officeDocument/2006/relationships/hyperlink" Target="http://znaina5.ru/" TargetMode="External"/><Relationship Id="rId14" Type="http://schemas.openxmlformats.org/officeDocument/2006/relationships/hyperlink" Target="http://znaina5.ru/" TargetMode="External"/><Relationship Id="rId15" Type="http://schemas.openxmlformats.org/officeDocument/2006/relationships/hyperlink" Target="http://znaina5.ru/masterclass/pedagogicheskie-zhemchuzhiny/prezentatsii/prezentatsii_191.html" TargetMode="External"/><Relationship Id="rId16" Type="http://schemas.openxmlformats.org/officeDocument/2006/relationships/hyperlink" Target="http://znaina5.ru/masterclass/pedagogicheskie-zhemchuzhiny/prezentatsii/prezentatsii_191.html" TargetMode="External"/><Relationship Id="rId17" Type="http://schemas.openxmlformats.org/officeDocument/2006/relationships/hyperlink" Target="http://znaina5.ru/masterclass/pedagogicheskie-zhemchuzhiny/prezentatsii/prezentatsii_191.html" TargetMode="External"/><Relationship Id="rId18" Type="http://schemas.openxmlformats.org/officeDocument/2006/relationships/hyperlink" Target="http://znaina5.ru/masterclass/pedagogicheskie-zhemchuzhiny/prezentatsii/prezentatsii_191.html" TargetMode="External"/><Relationship Id="rId19" Type="http://schemas.openxmlformats.org/officeDocument/2006/relationships/hyperlink" Target="http://znaina5.ru/masterclass/pedagogicheskie-zhemchuzhiny/prezentatsii/prezentatsii_191.html" TargetMode="External"/><Relationship Id="rId20" Type="http://schemas.openxmlformats.org/officeDocument/2006/relationships/hyperlink" Target="http://znaina5.ru/" TargetMode="External"/><Relationship Id="rId21" Type="http://schemas.openxmlformats.org/officeDocument/2006/relationships/hyperlink" Target="http://znaina5.ru/" TargetMode="External"/><Relationship Id="rId22" Type="http://schemas.openxmlformats.org/officeDocument/2006/relationships/hyperlink" Target="http://znaina5.ru/" TargetMode="External"/><Relationship Id="rId23" Type="http://schemas.openxmlformats.org/officeDocument/2006/relationships/hyperlink" Target="http://znaina5.ru/masterclass/pedagogicheskie-zhemchuzhiny/prezentatsii/prezentatsii_191.html" TargetMode="External"/><Relationship Id="rId24" Type="http://schemas.openxmlformats.org/officeDocument/2006/relationships/hyperlink" Target="http://znaina5.ru/masterclass/pedagogicheskie-zhemchuzhiny/prezentatsii/prezentatsii_191.html" TargetMode="External"/><Relationship Id="rId25" Type="http://schemas.openxmlformats.org/officeDocument/2006/relationships/hyperlink" Target="http://znaina5.ru/masterclass/pedagogicheskie-zhemchuzhiny/prezentatsii/prezentatsii_191.html" TargetMode="External"/><Relationship Id="rId26" Type="http://schemas.openxmlformats.org/officeDocument/2006/relationships/hyperlink" Target="http://znaina5.ru/masterclass/pedagogicheskie-zhemchuzhiny/prezentatsii/prezentatsii_191.html" TargetMode="External"/><Relationship Id="rId27" Type="http://schemas.openxmlformats.org/officeDocument/2006/relationships/hyperlink" Target="http://znaina5.ru/masterclass/pedagogicheskie-zhemchuzhiny/prezentatsii/prezentatsii_191.html" TargetMode="External"/><Relationship Id="rId28" Type="http://schemas.openxmlformats.org/officeDocument/2006/relationships/hyperlink" Target="http://znaina5.ru/" TargetMode="External"/><Relationship Id="rId29" Type="http://schemas.openxmlformats.org/officeDocument/2006/relationships/hyperlink" Target="http://znaina5.ru/" TargetMode="External"/><Relationship Id="rId30" Type="http://schemas.openxmlformats.org/officeDocument/2006/relationships/hyperlink" Target="http://znaina5.ru/" TargetMode="External"/><Relationship Id="rId31" Type="http://schemas.openxmlformats.org/officeDocument/2006/relationships/hyperlink" Target="http://znaina5.ru/masterclass/pedagogicheskie-zhemchuzhiny/prezentatsii/prezentatsii_191.html" TargetMode="External"/><Relationship Id="rId32" Type="http://schemas.openxmlformats.org/officeDocument/2006/relationships/hyperlink" Target="http://znaina5.ru/masterclass/pedagogicheskie-zhemchuzhiny/prezentatsii/prezentatsii_191.html" TargetMode="External"/><Relationship Id="rId33" Type="http://schemas.openxmlformats.org/officeDocument/2006/relationships/hyperlink" Target="http://znaina5.ru/masterclass/pedagogicheskie-zhemchuzhiny/prezentatsii/prezentatsii_191.html" TargetMode="External"/><Relationship Id="rId34" Type="http://schemas.openxmlformats.org/officeDocument/2006/relationships/hyperlink" Target="http://znaina5.ru/masterclass/pedagogicheskie-zhemchuzhiny/prezentatsii/prezentatsii_191.html" TargetMode="External"/><Relationship Id="rId35" Type="http://schemas.openxmlformats.org/officeDocument/2006/relationships/hyperlink" Target="http://znaina5.ru/masterclass/pedagogicheskie-zhemchuzhiny/prezentatsii/prezentatsii_191.html" TargetMode="External"/><Relationship Id="rId36" Type="http://schemas.openxmlformats.org/officeDocument/2006/relationships/hyperlink" Target="file:///&#1058;&#1088;&#1072;&#1085;&#1089;&#1083;&#1080;&#1088;&#1091;&#1077;&#1084;&#1086;&#1089;&#1090;&#1100;%20&#1087;&#1088;&#1072;&#1082;&#1090;&#1080;&#1095;&#1077;&#1089;&#1082;&#1080;&#1093;%20&#1076;&#1086;&#1089;&#1090;&#1080;&#1078;&#1077;&#1085;&#1080;&#1081;%20&#1087;&#1088;&#1086;&#1092;&#1077;&#1089;&#1089;&#1080;&#1086;&#1085;&#1072;&#1083;&#1100;&#1085;&#1086;&#1081;%20&#1076;&#1077;&#1103;&#1090;&#1077;&#1083;&#1100;&#1085;&#1086;&#1089;&#1090;&#1080;%20&#1087;&#1077;&#1076;&#1072;&#1075;&#1086;&#1075;&#1080;&#1095;&#1077;&#1089;&#1082;&#1086;&#1075;&#1086;%20&#1088;&#1072;&#1073;&#1086;&#1090;&#1085;&#1080;&#1082;&#1072;/&#1052;&#1077;&#1090;&#1086;&#1076;&#1080;&#1095;&#1077;&#1089;&#1082;&#1080;&#1081;%20&#1091;&#1088;&#1086;&#1074;&#1077;&#1085;&#1100;/Screen%20-%20shot%20&#1069;&#1085;&#1094;&#1080;&#1082;&#1083;&#1086;&#1087;&#1077;&#1076;&#1080;&#1089;&#1090;.docx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80;&#1095;&#1077;&#1089;&#1082;&#1080;&#1077;%20&#1091;&#1089;&#1083;&#1086;&#1074;&#1080;&#1103;/&#1044;&#1080;&#1087;&#1083;&#1086;&#1084;%202%20&#1089;&#1090;&#1077;&#1087;&#1077;&#1085;&#1080;%20&#1055;&#1048;&#1064;.jpg" TargetMode="External"/><Relationship Id="rId2" Type="http://schemas.openxmlformats.org/officeDocument/2006/relationships/hyperlink" Target="file:///&#1052;&#1077;&#1090;&#1086;&#1076;&#1080;&#1095;&#1077;&#1089;&#1082;&#1080;&#1077;%20&#1091;&#1089;&#1083;&#1086;&#1074;&#1080;&#1103;/&#1044;&#1080;&#1087;&#1083;&#1086;&#1084;%20&#1079;&#1072;%20&#1087;&#1077;&#1088;&#1074;&#1086;&#1077;%20&#1084;&#1077;&#1089;&#1090;&#1086;%20&#1074;%20&#1082;&#1086;&#1085;&#1082;&#1091;&#1088;&#1089;&#1077;.pdf" TargetMode="External"/><Relationship Id="rId3" Type="http://schemas.openxmlformats.org/officeDocument/2006/relationships/hyperlink" Target="file:///&#1052;&#1077;&#1090;&#1086;&#1076;&#1080;&#1095;&#1077;&#1089;&#1082;&#1080;&#1077;%20&#1091;&#1089;&#1083;&#1086;&#1074;&#1080;&#1103;/&#1044;&#1080;&#1087;&#1083;&#1086;&#1084;%20&#1087;&#1086;&#1073;&#1077;&#1076;&#1080;&#1090;&#1077;&#1083;&#1103;%20&#1042;&#1089;&#1077;&#1088;&#1086;&#1089;&#1089;&#1080;&#1081;&#1089;&#1082;&#1086;&#1075;&#1086;%20&#1082;&#1086;&#1085;&#1082;&#1091;&#1088;&#1089;&#1072;%2020-30%20&#1085;&#1086;&#1103;&#1073;&#1088;&#1103;%202015%20&#1075;..pdf" TargetMode="External"/><Relationship Id="rId4" Type="http://schemas.openxmlformats.org/officeDocument/2006/relationships/hyperlink" Target="file:///&#1052;&#1077;&#1090;&#1086;&#1076;&#1080;&#1095;&#1077;&#1089;&#1082;&#1080;&#1077;%20&#1091;&#1089;&#1083;&#1086;&#1074;&#1080;&#1103;/&#1042;&#1089;&#1077;&#1088;&#1086;&#1089;&#1089;&#1080;&#1081;&#1089;&#1082;&#1072;&#1103;%20&#1082;&#1086;&#1085;&#1092;&#1077;&#1088;&#1077;&#1085;&#1094;&#1080;&#1103;" TargetMode="External"/><Relationship Id="rId5" Type="http://schemas.openxmlformats.org/officeDocument/2006/relationships/hyperlink" Target="file:///&#1052;&#1077;&#1090;&#1086;&#1076;&#1080;&#1095;&#1077;&#1089;&#1082;&#1080;&#1077;%20&#1091;&#1089;&#1083;&#1086;&#1074;&#1080;&#1103;/&#1042;&#1089;&#1077;&#1088;&#1086;&#1089;&#1089;&#1080;&#1081;&#1089;&#1082;&#1072;&#1103;%20&#1082;&#1086;&#1085;&#1092;&#1077;&#1088;&#1077;&#1085;&#1094;&#1080;&#1103;" TargetMode="External"/><Relationship Id="rId6" Type="http://schemas.openxmlformats.org/officeDocument/2006/relationships/hyperlink" Target="file:///&#1052;&#1077;&#1090;&#1086;&#1076;&#1080;&#1095;&#1077;&#1089;&#1082;&#1080;&#1077;%20&#1091;&#1089;&#1083;&#1086;&#1074;&#1080;&#1103;/&#1055;&#1077;&#1076;&#1072;&#1075;&#1086;&#1075;&#1080;&#1095;&#1077;&#1089;&#1082;&#1080;&#1077;%20&#1095;&#1090;&#1077;&#1085;&#1080;&#1103;/&#1055;&#1077;&#1076;.%20&#1095;&#1090;&#1077;&#1085;&#1080;&#1103;.&#1044;&#1077;&#1103;&#1090;&#1077;&#1083;&#1100;&#1085;&#1086;&#1089;&#1090;&#1085;&#1099;&#1081;%20&#1087;&#1086;&#1076;&#1093;&#1086;&#1076;%20&#1074;%20&#1086;&#1073;&#1091;&#1095;&#1077;&#1085;&#1080;&#1080;%20&#1080;&#1089;&#1090;&#1086;&#1088;&#1080;&#1080;%20(&#1089;&#1090;&#1072;&#1090;&#1100;&#1103;).jpg" TargetMode="External"/><Relationship Id="rId7" Type="http://schemas.openxmlformats.org/officeDocument/2006/relationships/hyperlink" Target="file:///&#1052;&#1077;&#1090;&#1086;&#1076;&#1080;&#1095;&#1077;&#1089;&#1082;&#1080;&#1077;%20&#1091;&#1089;&#1083;&#1086;&#1074;&#1080;&#1103;/XII%20-%20XIII%20&#1088;&#1077;&#1075;&#1080;&#1086;&#1085;&#1072;&#1083;&#1100;&#1085;&#1099;&#1077;%20&#1082;&#1086;&#1085;&#1092;&#1077;&#1088;&#1077;&#1085;&#1094;&#1080;&#1080;" TargetMode="External"/><Relationship Id="rId8" Type="http://schemas.openxmlformats.org/officeDocument/2006/relationships/hyperlink" Target="file:///&#1052;&#1077;&#1090;&#1086;&#1076;&#1080;&#1095;&#1077;&#1089;&#1082;&#1080;&#1077;%20&#1091;&#1089;&#1083;&#1086;&#1074;&#1080;&#1103;/XII%20-%20XIII%20&#1088;&#1077;&#1075;&#1080;&#1086;&#1085;&#1072;&#1083;&#1100;&#1085;&#1099;&#1077;%20&#1082;&#1086;&#1085;&#1092;&#1077;&#1088;&#1077;&#1085;&#1094;&#1080;&#1080;" TargetMode="External"/><Relationship Id="rId9" Type="http://schemas.openxmlformats.org/officeDocument/2006/relationships/hyperlink" Target="file:///&#1052;&#1077;&#1090;&#1086;&#1076;&#1080;&#1095;&#1077;&#1089;&#1082;&#1080;&#1077;%20&#1091;&#1089;&#1083;&#1086;&#1074;&#1080;&#1103;/XII%20-%20XIII%20&#1088;&#1077;&#1075;&#1080;&#1086;&#1085;&#1072;&#1083;&#1100;&#1085;&#1099;&#1077;%20&#1082;&#1086;&#1085;&#1092;&#1077;&#1088;&#1077;&#1085;&#1094;&#1080;&#1080;" TargetMode="External"/><Relationship Id="rId10" Type="http://schemas.openxmlformats.org/officeDocument/2006/relationships/hyperlink" Target="file:///&#1052;&#1077;&#1090;&#1086;&#1076;&#1080;&#1095;&#1077;&#1089;&#1082;&#1080;&#1077;%20&#1091;&#1089;&#1083;&#1086;&#1074;&#1080;&#1103;/XII%20-%20XIII%20&#1088;&#1077;&#1075;&#1080;&#1086;&#1085;&#1072;&#1083;&#1100;&#1085;&#1099;&#1077;%20&#1082;&#1086;&#1085;&#1092;&#1077;&#1088;&#1077;&#1085;&#1094;&#1080;&#1080;" TargetMode="External"/><Relationship Id="rId11" Type="http://schemas.openxmlformats.org/officeDocument/2006/relationships/hyperlink" Target="file:///&#1052;&#1077;&#1090;&#1086;&#1076;&#1080;&#1095;&#1077;&#1089;&#1082;&#1080;&#1077;%20&#1091;&#1089;&#1083;&#1086;&#1074;&#1080;&#1103;/XII%20-%20XIII%20&#1088;&#1077;&#1075;&#1080;&#1086;&#1085;&#1072;&#1083;&#1100;&#1085;&#1099;&#1077;%20&#1082;&#1086;&#1085;&#1092;&#1077;&#1088;&#1077;&#1085;&#1094;&#1080;&#1080;" TargetMode="External"/><Relationship Id="rId12" Type="http://schemas.openxmlformats.org/officeDocument/2006/relationships/hyperlink" Target="file:///&#1052;&#1077;&#1090;&#1086;&#1076;&#1080;&#1095;&#1077;&#1089;&#1082;&#1080;&#1077;%20&#1091;&#1089;&#1083;&#1086;&#1074;&#1080;&#1103;/XII%20-%20XIII%20&#1088;&#1077;&#1075;&#1080;&#1086;&#1085;&#1072;&#1083;&#1100;&#1085;&#1099;&#1077;%20&#1082;&#1086;&#1085;&#1092;&#1077;&#1088;&#1077;&#1085;&#1094;&#1080;&#1080;/&#1050;&#1086;&#1085;&#1092;&#1077;&#1088;&#1077;&#1085;&#1094;&#1080;&#1103;%20&#1089;&#1077;&#1088;&#1090;&#1080;&#1092;&#1080;&#1082;&#1072;&#1090;.JPG" TargetMode="External"/><Relationship Id="rId13" Type="http://schemas.openxmlformats.org/officeDocument/2006/relationships/hyperlink" Target="file:///&#1052;&#1077;&#1090;&#1086;&#1076;&#1080;&#1095;&#1077;&#1089;&#1082;&#1080;&#1077;%20&#1091;&#1089;&#1083;&#1086;&#1074;&#1080;&#1103;/&#1059;&#1076;&#1086;&#1089;&#1090;&#1086;&#1074;&#1077;&#1088;&#1077;&#1085;&#1080;&#1103;%20&#1086;%20&#1087;&#1086;&#1074;&#1099;&#1096;&#1077;&#1085;&#1080;&#1080;%20&#1082;&#1074;&#1072;&#1083;&#1080;&#1092;&#1080;&#1082;&#1072;&#1094;&#1080;&#1080;" TargetMode="External"/><Relationship Id="rId14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/&#1040;&#1087;&#1088;&#1086;&#1073;&#1072;&#1094;&#1080;&#1103;%20&#1059;&#1052;&#1050;.JPG" TargetMode="External"/><Relationship Id="rId15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/&#1040;&#1087;&#1088;&#1086;&#1073;&#1072;&#1094;&#1080;&#1103;%20&#1059;&#1052;&#1050;.JPG" TargetMode="External"/><Relationship Id="rId16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" TargetMode="External"/><Relationship Id="rId17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/&#1042;&#1099;&#1087;&#1080;&#1089;&#1082;&#1072;%20&#1080;&#1079;%20&#1087;&#1088;&#1086;&#1090;&#1086;&#1082;&#1086;&#1083;&#1072;%20&#1079;&#1072;&#1089;&#1077;&#1076;&#1072;&#1085;&#1080;&#1103;%20&#1064;&#1052;&#1054;%20&#1086;%20&#1074;&#1099;&#1089;&#1090;&#1091;&#1087;&#1083;&#1077;&#1085;&#1080;&#1080;%20&#1087;&#1077;&#1076;&#1072;&#1075;&#1086;&#1075;&#1072;" TargetMode="External"/><Relationship Id="rId18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/&#1050;&#1086;&#1087;&#1080;&#1080;%20&#1087;&#1088;&#1086;&#1090;&#1086;&#1082;&#1086;&#1083;&#1086;&#1074;%20&#1052;&#1052;&#1054;,%20&#1084;&#1072;&#1089;&#1090;&#1077;&#1088;%20-%20&#1082;&#1083;&#1072;&#1089;&#1089;&#1086;&#1074;/&#1050;&#1086;&#1087;&#1080;&#1103;%20&#1087;&#1088;&#1086;&#1090;&#1086;&#1082;&#1086;&#1083;&#1072;%20(&#1074;&#1099;&#1089;&#1090;&#1091;&#1087;&#1083;&#1077;&#1085;&#1080;&#1077;%20&#1085;&#1072;%20&#1079;&#1072;&#1089;&#1077;&#1076;&#1072;&#1085;&#1080;&#1080;%20&#1052;&#1052;&#1054;%201).jpg" TargetMode="External"/><Relationship Id="rId19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/&#1050;&#1086;&#1085;&#1092;&#1077;&#1088;&#1077;&#1085;&#1094;&#1080;&#1103;%20&#1089;&#1077;&#1088;&#1090;&#1080;&#1092;&#1080;&#1082;&#1072;&#1090;.JPG" TargetMode="External"/><Relationship Id="rId20" Type="http://schemas.openxmlformats.org/officeDocument/2006/relationships/hyperlink" Target="file:///&#1054;&#1088;&#1075;&#1072;&#1085;&#1080;&#1079;&#1072;&#1094;&#1080;&#1086;&#1085;&#1085;&#1086;%20-%20&#1087;&#1077;&#1076;&#1072;&#1075;&#1086;&#1075;&#1080;&#1095;&#1077;&#1089;&#1082;&#1080;&#1077;%20&#1091;&#1089;&#1083;&#1086;&#1074;&#1080;&#1103;/&#1059;&#1095;&#1072;&#1089;&#1090;&#1080;&#1077;%20&#1074;%20&#1088;&#1072;&#1073;&#1086;&#1090;&#1077;%20&#1089;&#1077;&#1090;&#1077;&#1074;&#1099;&#1093;%20&#1087;&#1088;&#1086;&#1092;&#1077;&#1089;&#1089;&#1080;&#1086;&#1085;&#1072;&#1083;&#1100;&#1085;&#1099;&#1093;%20&#1086;&#1073;&#1097;&#1077;&#1089;&#1090;&#1074;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7;&#1080;&#1089;&#1090;&#1077;&#1084;&#1072;%20&#1059;&#1047;%20&#1087;&#1086;%20&#1080;&#1089;&#1090;&#1086;&#1088;&#1080;&#1080;%20&#1056;&#1086;&#1089;&#1089;&#1080;&#1080;.doc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9;&#1095;&#1077;&#1073;&#1085;&#1099;&#1077;%20&#1076;&#1077;&#1081;&#1089;&#1090;&#1074;&#1080;&#1103;/&#1058;&#1077;&#1084;&#1072;,%20&#1048;&#1055;,%20&#1059;&#1047;.docx" TargetMode="External"/><Relationship Id="rId2" Type="http://schemas.openxmlformats.org/officeDocument/2006/relationships/hyperlink" Target="file:///&#1059;&#1095;&#1077;&#1073;&#1085;&#1099;&#1077;%20&#1076;&#1077;&#1081;&#1089;&#1090;&#1074;&#1080;&#1103;/&#1057;&#1072;&#1084;&#1086;&#1089;&#1090;&#1086;&#1103;&#1090;&#1077;&#1083;&#1100;&#1085;&#1072;&#1103;%20&#1088;&#1072;&#1073;&#1086;&#1090;&#1072;%20&#1091;&#1095;&#1072;&#1097;&#1080;&#1093;&#1089;&#1103;%20&#1074;%20&#1075;&#1088;&#1091;&#1087;&#1087;&#1072;&#1093;.docx" TargetMode="External"/><Relationship Id="rId3" Type="http://schemas.openxmlformats.org/officeDocument/2006/relationships/hyperlink" Target="file:///&#1043;&#1088;&#1072;&#1092;&#1099;%20&#1076;&#1077;&#1085;&#1086;&#1090;&#1072;&#1090;&#1085;&#1099;&#1077;" TargetMode="External"/><Relationship Id="rId4" Type="http://schemas.openxmlformats.org/officeDocument/2006/relationships/hyperlink" Target="file:///&#1052;&#1077;&#1090;&#1086;&#1076;&#1080;&#1095;&#1077;&#1089;&#1082;&#1072;&#1103;%20&#1088;&#1072;&#1079;&#1088;&#1072;&#1073;&#1086;&#1090;&#1082;&#1072;%20&#1091;&#1088;&#1086;&#1082;&#1072;%20%20&#1074;%20&#1082;&#1086;&#1085;&#1090;&#1077;&#1082;&#1089;&#1090;&#1077;%20&#1060;&#1043;&#1054;&#1057;%20&#1080;%20&#1090;&#1088;&#1077;&#1073;&#1086;&#1074;&#1072;&#1085;&#1080;&#1081;%20&#1048;&#1050;&#1057;%20&#1053;&#1086;&#1074;&#1072;&#1090;&#1086;&#1088;&#1089;&#1090;&#1074;&#1086;%20&#1080;%20&#1090;&#1088;&#1072;&#1076;&#1080;&#1094;&#1080;&#1080;%2017%20&#1074;&#1077;&#1082;.docx" TargetMode="External"/><Relationship Id="rId5" Type="http://schemas.openxmlformats.org/officeDocument/2006/relationships/hyperlink" Target="file:///&#1052;&#1077;&#1090;&#1086;&#1076;&#1080;&#1095;&#1077;&#1089;&#1082;&#1072;&#1103;%20&#1088;&#1072;&#1079;&#1088;&#1072;&#1073;&#1086;&#1090;&#1082;&#1072;%20&#1091;&#1088;&#1086;&#1082;&#1072;%20%20&#1074;%20&#1082;&#1086;&#1085;&#1090;&#1077;&#1082;&#1089;&#1090;&#1077;%20&#1060;&#1043;&#1054;&#1057;%20&#1080;%20&#1090;&#1088;&#1077;&#1073;&#1086;&#1074;&#1072;&#1085;&#1080;&#1081;%20&#1048;&#1050;&#1057;%20&#1053;&#1086;&#1074;&#1072;&#1090;&#1086;&#1088;&#1089;&#1090;&#1074;&#1086;%20&#1080;%20&#1090;&#1088;&#1072;&#1076;&#1080;&#1094;&#1080;&#1080;%2017%20&#1074;&#1077;&#1082;.docx" TargetMode="External"/><Relationship Id="rId6" Type="http://schemas.openxmlformats.org/officeDocument/2006/relationships/hyperlink" Target="file:///&#1052;&#1077;&#1090;&#1086;&#1076;&#1080;&#1095;&#1077;&#1089;&#1082;&#1072;&#1103;%20&#1088;&#1072;&#1079;&#1088;&#1072;&#1073;&#1086;&#1090;&#1082;&#1072;%20&#1091;&#1088;&#1086;&#1082;&#1072;%20%20&#1074;%20&#1082;&#1086;&#1085;&#1090;&#1077;&#1082;&#1089;&#1090;&#1077;%20&#1060;&#1043;&#1054;&#1057;%20&#1080;%20&#1090;&#1088;&#1077;&#1073;&#1086;&#1074;&#1072;&#1085;&#1080;&#1081;%20&#1048;&#1050;&#1057;%20&#1053;&#1086;&#1074;&#1072;&#1090;&#1086;&#1088;&#1089;&#1090;&#1074;&#1086;%20&#1080;%20&#1090;&#1088;&#1072;&#1076;&#1080;&#1094;&#1080;&#1080;%2017%20&#1074;&#1077;&#1082;.docx" TargetMode="External"/><Relationship Id="rId7" Type="http://schemas.openxmlformats.org/officeDocument/2006/relationships/hyperlink" Target="file:///&#1052;&#1077;&#1090;&#1086;&#1076;&#1080;&#1095;&#1077;&#1089;&#1082;&#1072;&#1103;%20&#1088;&#1072;&#1079;&#1088;&#1072;&#1073;&#1086;&#1090;&#1082;&#1072;%20&#1091;&#1088;&#1086;&#1082;&#1072;%20%20&#1074;%20&#1082;&#1086;&#1085;&#1090;&#1077;&#1082;&#1089;&#1090;&#1077;%20&#1060;&#1043;&#1054;&#1057;%20&#1080;%20&#1090;&#1088;&#1077;&#1073;&#1086;&#1074;&#1072;&#1085;&#1080;&#1081;%20&#1048;&#1050;&#1057;%20&#1053;&#1086;&#1074;&#1072;&#1090;&#1086;&#1088;&#1089;&#1090;&#1074;&#1086;%20&#1080;%20&#1090;&#1088;&#1072;&#1076;&#1080;&#1094;&#1080;&#1080;%2017%20&#1074;&#1077;&#1082;.docx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&#1052;&#1077;&#1090;&#1086;&#1076;&#1080;&#1095;&#1077;&#1089;&#1082;&#1072;&#1103;%20&#1088;&#1072;&#1079;&#1088;&#1072;&#1073;&#1086;&#1090;&#1082;&#1072;%20&#1091;&#1088;&#1086;&#1082;&#1072;%20%20&#1074;%20&#1082;&#1086;&#1085;&#1090;&#1077;&#1082;&#1089;&#1090;&#1077;%20&#1060;&#1043;&#1054;&#1057;%20&#1080;%20&#1090;&#1088;&#1077;&#1073;&#1086;&#1074;&#1072;&#1085;&#1080;&#1081;%20&#1048;&#1050;&#1057;.docx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&#1052;&#1077;&#1090;&#1086;&#1076;&#1080;&#1095;&#1077;&#1089;&#1082;&#1072;&#1103;%20&#1088;&#1072;&#1079;&#1088;&#1072;&#1073;&#1086;&#1090;&#1082;&#1072;%20&#1091;&#1088;&#1086;&#1082;&#1072;%20%20&#1074;%20&#1082;&#1086;&#1085;&#1090;&#1077;&#1082;&#1089;&#1090;&#1077;%20&#1060;&#1043;&#1054;&#1057;%20&#1080;%20&#1090;&#1088;&#1077;&#1073;&#1086;&#1074;&#1072;&#1085;&#1080;&#1081;%20&#1048;&#1050;&#1057;%20&#1053;&#1086;&#1074;&#1072;&#1090;&#1086;&#1088;&#1089;&#1090;&#1074;&#1086;%20&#1080;%20&#1090;&#1088;&#1072;&#1076;&#1080;&#1094;&#1080;&#1080;%2017%20&#1074;&#1077;&#1082;.docx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&#1047;&#1072;&#1076;&#1072;&#1085;&#1080;&#1103;%20%20&#1085;&#1072;%20&#1074;&#1099;&#1103;&#1074;&#1083;&#1077;&#1085;&#1080;&#1077;%20&#1088;&#1072;&#1079;&#1085;&#1099;&#1093;%20&#1091;&#1088;&#1086;&#1074;&#1085;&#1077;&#1081;" TargetMode="Externa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5092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24000" y="6597720"/>
            <a:ext cx="856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 flipH="1" flipV="1">
            <a:off x="8892720" y="259920"/>
            <a:ext cx="7164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250920" y="18900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95280" y="26028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68360" y="6453360"/>
            <a:ext cx="842472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H="1" flipV="1">
            <a:off x="8819640" y="40464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95280" y="26028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68360" y="54450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фессиональное кред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мы учим - мы учимся сам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40328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332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C:\Users\ASrock\Desktop\аттестация 2015- 16 - копия\Завьялова А А 2015.jpg"/>
          <p:cNvPicPr/>
          <p:nvPr/>
        </p:nvPicPr>
        <p:blipFill>
          <a:blip r:embed="rId1"/>
          <a:stretch/>
        </p:blipFill>
        <p:spPr>
          <a:xfrm>
            <a:off x="1332000" y="2060640"/>
            <a:ext cx="148572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3419640" y="1484280"/>
            <a:ext cx="54003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вьялова Александра Ареф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читель истории  и  обществ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офессиональный стат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«Почетный работник образования РФ» (201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 науки РФ (2009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Департа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 науки 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городской области (1996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разование: высш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Квалификационная категория: высш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7920" y="1025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468360" y="335880"/>
            <a:ext cx="835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МИНИСТРАЦИЯ ГОРОДА НИЖНЕГО НОВ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ниципальное бюджетное общеобразовательное учрежд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«Школа № 60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2"/>
          <p:cNvSpPr/>
          <p:nvPr/>
        </p:nvSpPr>
        <p:spPr>
          <a:xfrm>
            <a:off x="7020000" y="0"/>
            <a:ext cx="180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012000" y="40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 flipH="1">
            <a:off x="5796000" y="4292640"/>
            <a:ext cx="71280" cy="73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 flipH="1" flipV="1">
            <a:off x="4426920" y="5515920"/>
            <a:ext cx="73080" cy="73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6"/>
          <p:cNvSpPr/>
          <p:nvPr/>
        </p:nvSpPr>
        <p:spPr>
          <a:xfrm flipV="1">
            <a:off x="5003640" y="3715560"/>
            <a:ext cx="73080" cy="73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191400" y="4437000"/>
            <a:ext cx="266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 flipH="1" flipV="1">
            <a:off x="4355280" y="4220280"/>
            <a:ext cx="71640" cy="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2"/>
          <p:cNvSpPr/>
          <p:nvPr/>
        </p:nvSpPr>
        <p:spPr>
          <a:xfrm flipH="1" flipV="1">
            <a:off x="6732720" y="4941000"/>
            <a:ext cx="71280" cy="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6"/>
          <p:cNvSpPr/>
          <p:nvPr/>
        </p:nvSpPr>
        <p:spPr>
          <a:xfrm>
            <a:off x="3851280" y="981000"/>
            <a:ext cx="360360" cy="36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9"/>
          <p:cNvSpPr/>
          <p:nvPr/>
        </p:nvSpPr>
        <p:spPr>
          <a:xfrm>
            <a:off x="8748720" y="5950080"/>
            <a:ext cx="395280" cy="338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0"/>
          <p:cNvSpPr/>
          <p:nvPr/>
        </p:nvSpPr>
        <p:spPr>
          <a:xfrm>
            <a:off x="4716360" y="6381720"/>
            <a:ext cx="395280" cy="338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1"/>
          <p:cNvSpPr/>
          <p:nvPr/>
        </p:nvSpPr>
        <p:spPr>
          <a:xfrm>
            <a:off x="324000" y="6381720"/>
            <a:ext cx="323640" cy="338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8"/>
          <p:cNvSpPr/>
          <p:nvPr/>
        </p:nvSpPr>
        <p:spPr>
          <a:xfrm flipH="1" flipV="1">
            <a:off x="3564000" y="3933000"/>
            <a:ext cx="71280" cy="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1"/>
          <p:cNvSpPr/>
          <p:nvPr/>
        </p:nvSpPr>
        <p:spPr>
          <a:xfrm flipH="1">
            <a:off x="3994920" y="3645000"/>
            <a:ext cx="71640" cy="71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1"/>
          <p:cNvSpPr/>
          <p:nvPr/>
        </p:nvSpPr>
        <p:spPr>
          <a:xfrm>
            <a:off x="468360" y="1268280"/>
            <a:ext cx="2951280" cy="865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5"/>
          <p:cNvSpPr/>
          <p:nvPr/>
        </p:nvSpPr>
        <p:spPr>
          <a:xfrm>
            <a:off x="4572000" y="2492280"/>
            <a:ext cx="244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к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59"/>
          <p:cNvCxnSpPr/>
          <p:nvPr/>
        </p:nvCxnSpPr>
        <p:spPr>
          <a:xfrm flipV="1">
            <a:off x="4427280" y="980640"/>
            <a:ext cx="1080" cy="266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Овал 73"/>
          <p:cNvSpPr/>
          <p:nvPr/>
        </p:nvSpPr>
        <p:spPr>
          <a:xfrm flipH="1">
            <a:off x="4426920" y="1844640"/>
            <a:ext cx="73080" cy="7164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77"/>
          <p:cNvSpPr/>
          <p:nvPr/>
        </p:nvSpPr>
        <p:spPr>
          <a:xfrm>
            <a:off x="4427640" y="2276640"/>
            <a:ext cx="73080" cy="7272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79"/>
          <p:cNvSpPr/>
          <p:nvPr/>
        </p:nvSpPr>
        <p:spPr>
          <a:xfrm flipV="1">
            <a:off x="4427640" y="2637000"/>
            <a:ext cx="73080" cy="71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5"/>
          <p:cNvSpPr/>
          <p:nvPr/>
        </p:nvSpPr>
        <p:spPr>
          <a:xfrm>
            <a:off x="4572000" y="1557360"/>
            <a:ext cx="227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гл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4572000" y="2060640"/>
            <a:ext cx="187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е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24000" y="115920"/>
            <a:ext cx="8137440" cy="79056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ный аспект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96"/>
          <p:cNvCxnSpPr/>
          <p:nvPr/>
        </p:nvCxnSpPr>
        <p:spPr>
          <a:xfrm>
            <a:off x="4427280" y="3573360"/>
            <a:ext cx="1080" cy="3285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97"/>
          <p:cNvCxnSpPr/>
          <p:nvPr/>
        </p:nvCxnSpPr>
        <p:spPr>
          <a:xfrm flipH="1">
            <a:off x="-720" y="3428640"/>
            <a:ext cx="4428360" cy="3025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98"/>
          <p:cNvCxnSpPr/>
          <p:nvPr/>
        </p:nvCxnSpPr>
        <p:spPr>
          <a:xfrm>
            <a:off x="4427640" y="3428640"/>
            <a:ext cx="4466160" cy="309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Rectangle 13"/>
          <p:cNvSpPr/>
          <p:nvPr/>
        </p:nvSpPr>
        <p:spPr>
          <a:xfrm>
            <a:off x="5219640" y="3357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6875640" y="458136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8"/>
          <p:cNvSpPr/>
          <p:nvPr/>
        </p:nvSpPr>
        <p:spPr>
          <a:xfrm flipH="1" flipV="1">
            <a:off x="3059280" y="4291920"/>
            <a:ext cx="72720" cy="73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8"/>
          <p:cNvSpPr/>
          <p:nvPr/>
        </p:nvSpPr>
        <p:spPr>
          <a:xfrm flipH="1" flipV="1">
            <a:off x="2340000" y="4796640"/>
            <a:ext cx="71280" cy="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8"/>
          <p:cNvSpPr/>
          <p:nvPr/>
        </p:nvSpPr>
        <p:spPr>
          <a:xfrm flipH="1">
            <a:off x="1762920" y="5157720"/>
            <a:ext cx="71640" cy="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5"/>
          <p:cNvSpPr/>
          <p:nvPr/>
        </p:nvSpPr>
        <p:spPr>
          <a:xfrm>
            <a:off x="1332000" y="2997360"/>
            <a:ext cx="2448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84280" y="3149640"/>
            <a:ext cx="2448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5"/>
          <p:cNvSpPr/>
          <p:nvPr/>
        </p:nvSpPr>
        <p:spPr>
          <a:xfrm>
            <a:off x="971640" y="2637000"/>
            <a:ext cx="324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яснительно - иллю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755640" y="335772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про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5"/>
          <p:cNvSpPr/>
          <p:nvPr/>
        </p:nvSpPr>
        <p:spPr>
          <a:xfrm>
            <a:off x="395280" y="4292640"/>
            <a:ext cx="22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бл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5"/>
          <p:cNvSpPr/>
          <p:nvPr/>
        </p:nvSpPr>
        <p:spPr>
          <a:xfrm>
            <a:off x="0" y="4724280"/>
            <a:ext cx="194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ис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0" y="3860640"/>
            <a:ext cx="334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 flipH="1">
            <a:off x="4355280" y="4941720"/>
            <a:ext cx="71640" cy="7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5"/>
          <p:cNvSpPr/>
          <p:nvPr/>
        </p:nvSpPr>
        <p:spPr>
          <a:xfrm flipH="1" flipV="1">
            <a:off x="4355280" y="5950080"/>
            <a:ext cx="71640" cy="71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5"/>
          <p:cNvSpPr/>
          <p:nvPr/>
        </p:nvSpPr>
        <p:spPr>
          <a:xfrm>
            <a:off x="2411280" y="4797360"/>
            <a:ext cx="194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5"/>
          <p:cNvSpPr/>
          <p:nvPr/>
        </p:nvSpPr>
        <p:spPr>
          <a:xfrm>
            <a:off x="1476360" y="5877000"/>
            <a:ext cx="287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5"/>
          <p:cNvSpPr/>
          <p:nvPr/>
        </p:nvSpPr>
        <p:spPr>
          <a:xfrm>
            <a:off x="4572000" y="5445000"/>
            <a:ext cx="201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5"/>
          <p:cNvSpPr/>
          <p:nvPr/>
        </p:nvSpPr>
        <p:spPr>
          <a:xfrm>
            <a:off x="4500720" y="4437000"/>
            <a:ext cx="172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719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пазон личного вклада педагога в развитие образования и степень его новиз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ая соединительная линия 3"/>
          <p:cNvGrpSpPr/>
          <p:nvPr/>
        </p:nvGrpSpPr>
        <p:grpSpPr>
          <a:xfrm>
            <a:off x="2359080" y="3913200"/>
            <a:ext cx="55440" cy="665280"/>
            <a:chOff x="2359080" y="3913200"/>
            <a:chExt cx="55440" cy="665280"/>
          </a:xfrm>
        </p:grpSpPr>
        <p:pic>
          <p:nvPicPr>
            <p:cNvPr id="279" name="Прямая соединительная линия 3" descr=""/>
            <p:cNvPicPr/>
            <p:nvPr/>
          </p:nvPicPr>
          <p:blipFill>
            <a:blip r:embed="rId1"/>
            <a:stretch/>
          </p:blipFill>
          <p:spPr>
            <a:xfrm>
              <a:off x="2359080" y="3913200"/>
              <a:ext cx="55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16200000">
              <a:off x="2376360" y="3931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Прямая соединительная линия 4"/>
          <p:cNvGrpSpPr/>
          <p:nvPr/>
        </p:nvGrpSpPr>
        <p:grpSpPr>
          <a:xfrm>
            <a:off x="4108320" y="3554280"/>
            <a:ext cx="1457280" cy="1011240"/>
            <a:chOff x="4108320" y="3554280"/>
            <a:chExt cx="1457280" cy="1011240"/>
          </a:xfrm>
        </p:grpSpPr>
        <p:pic>
          <p:nvPicPr>
            <p:cNvPr id="282" name="Прямая соединительная линия 4" descr=""/>
            <p:cNvPicPr/>
            <p:nvPr/>
          </p:nvPicPr>
          <p:blipFill>
            <a:blip r:embed="rId2"/>
            <a:stretch/>
          </p:blipFill>
          <p:spPr>
            <a:xfrm>
              <a:off x="4108320" y="3554280"/>
              <a:ext cx="14572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 rot="2051400">
              <a:off x="4140000" y="35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Прямая соединительная линия 5"/>
          <p:cNvGrpSpPr/>
          <p:nvPr/>
        </p:nvGrpSpPr>
        <p:grpSpPr>
          <a:xfrm>
            <a:off x="4267080" y="2651040"/>
            <a:ext cx="1328760" cy="641520"/>
            <a:chOff x="4267080" y="2651040"/>
            <a:chExt cx="1328760" cy="641520"/>
          </a:xfrm>
        </p:grpSpPr>
        <p:pic>
          <p:nvPicPr>
            <p:cNvPr id="285" name="Прямая соединительная линия 5" descr=""/>
            <p:cNvPicPr/>
            <p:nvPr/>
          </p:nvPicPr>
          <p:blipFill>
            <a:blip r:embed="rId3"/>
            <a:stretch/>
          </p:blipFill>
          <p:spPr>
            <a:xfrm>
              <a:off x="4267080" y="2651040"/>
              <a:ext cx="132876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 rot="9335400">
              <a:off x="4296600" y="3281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Прямая соединительная линия 6"/>
          <p:cNvSpPr/>
          <p:nvPr/>
        </p:nvSpPr>
        <p:spPr>
          <a:xfrm flipV="1" rot="19345800">
            <a:off x="3917520" y="2101680"/>
            <a:ext cx="1622520" cy="335160"/>
          </a:xfrm>
          <a:custGeom>
            <a:avLst/>
            <a:gdLst>
              <a:gd name="textAreaLeft" fmla="*/ 0 w 1622520"/>
              <a:gd name="textAreaRight" fmla="*/ 1622880 w 1622520"/>
              <a:gd name="textAreaTop" fmla="*/ -360 h 335160"/>
              <a:gd name="textAreaBottom" fmla="*/ 335160 h 335160"/>
            </a:gdLst>
            <a:ahLst/>
            <a:rect l="textAreaLeft" t="textAreaTop" r="textAreaRight" b="textAreaBottom"/>
            <a:pathLst>
              <a:path w="1622425" h="334963">
                <a:moveTo>
                  <a:pt x="0" y="13645"/>
                </a:moveTo>
                <a:lnTo>
                  <a:pt x="1505134" y="13645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Прямая соединительная линия 7"/>
          <p:cNvGrpSpPr/>
          <p:nvPr/>
        </p:nvGrpSpPr>
        <p:grpSpPr>
          <a:xfrm>
            <a:off x="3084480" y="2152800"/>
            <a:ext cx="201600" cy="560160"/>
            <a:chOff x="3084480" y="2152800"/>
            <a:chExt cx="201600" cy="560160"/>
          </a:xfrm>
        </p:grpSpPr>
        <p:pic>
          <p:nvPicPr>
            <p:cNvPr id="289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3084480" y="2152800"/>
              <a:ext cx="20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6295800">
              <a:off x="3129840" y="2701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9"/>
          <p:cNvGrpSpPr/>
          <p:nvPr/>
        </p:nvGrpSpPr>
        <p:grpSpPr>
          <a:xfrm>
            <a:off x="542880" y="2597040"/>
            <a:ext cx="3767040" cy="1273320"/>
            <a:chOff x="542880" y="2597040"/>
            <a:chExt cx="3767040" cy="1273320"/>
          </a:xfrm>
        </p:grpSpPr>
        <p:pic>
          <p:nvPicPr>
            <p:cNvPr id="292" name="Овал 19" descr=""/>
            <p:cNvPicPr/>
            <p:nvPr/>
          </p:nvPicPr>
          <p:blipFill>
            <a:blip r:embed="rId5"/>
            <a:stretch/>
          </p:blipFill>
          <p:spPr>
            <a:xfrm>
              <a:off x="542880" y="2597040"/>
              <a:ext cx="376704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44440" y="2806560"/>
              <a:ext cx="2571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00"/>
                  </a:solidFill>
                  <a:latin typeface="Arial"/>
                </a:rPr>
                <a:t>Деятельностный подх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Группа 20" descr=""/>
          <p:cNvPicPr/>
          <p:nvPr/>
        </p:nvPicPr>
        <p:blipFill>
          <a:blip r:embed="rId6"/>
          <a:stretch/>
        </p:blipFill>
        <p:spPr>
          <a:xfrm>
            <a:off x="4359240" y="1225440"/>
            <a:ext cx="2863800" cy="871560"/>
          </a:xfrm>
          <a:prstGeom prst="rect">
            <a:avLst/>
          </a:prstGeom>
          <a:ln w="0">
            <a:noFill/>
          </a:ln>
        </p:spPr>
      </p:pic>
      <p:pic>
        <p:nvPicPr>
          <p:cNvPr id="295" name="Группа 21" descr=""/>
          <p:cNvPicPr/>
          <p:nvPr/>
        </p:nvPicPr>
        <p:blipFill>
          <a:blip r:embed="rId7"/>
          <a:stretch/>
        </p:blipFill>
        <p:spPr>
          <a:xfrm>
            <a:off x="5157720" y="2090880"/>
            <a:ext cx="3370320" cy="901440"/>
          </a:xfrm>
          <a:prstGeom prst="rect">
            <a:avLst/>
          </a:prstGeom>
          <a:ln w="0">
            <a:noFill/>
          </a:ln>
        </p:spPr>
      </p:pic>
      <p:pic>
        <p:nvPicPr>
          <p:cNvPr id="296" name="Группа 22" descr=""/>
          <p:cNvPicPr/>
          <p:nvPr/>
        </p:nvPicPr>
        <p:blipFill>
          <a:blip r:embed="rId8"/>
          <a:stretch/>
        </p:blipFill>
        <p:spPr>
          <a:xfrm>
            <a:off x="5297400" y="4248000"/>
            <a:ext cx="2676600" cy="939960"/>
          </a:xfrm>
          <a:prstGeom prst="rect">
            <a:avLst/>
          </a:prstGeom>
          <a:ln w="0">
            <a:noFill/>
          </a:ln>
        </p:spPr>
      </p:pic>
      <p:pic>
        <p:nvPicPr>
          <p:cNvPr id="297" name="Группа 23" descr=""/>
          <p:cNvPicPr/>
          <p:nvPr/>
        </p:nvPicPr>
        <p:blipFill>
          <a:blip r:embed="rId9"/>
          <a:stretch/>
        </p:blipFill>
        <p:spPr>
          <a:xfrm>
            <a:off x="255600" y="4395960"/>
            <a:ext cx="3305160" cy="1272960"/>
          </a:xfrm>
          <a:prstGeom prst="rect">
            <a:avLst/>
          </a:prstGeom>
          <a:ln w="0">
            <a:noFill/>
          </a:ln>
        </p:spPr>
      </p:pic>
      <p:pic>
        <p:nvPicPr>
          <p:cNvPr id="298" name="Группа 32" descr=""/>
          <p:cNvPicPr/>
          <p:nvPr/>
        </p:nvPicPr>
        <p:blipFill>
          <a:blip r:embed="rId10"/>
          <a:stretch/>
        </p:blipFill>
        <p:spPr>
          <a:xfrm>
            <a:off x="1627200" y="1298520"/>
            <a:ext cx="2762280" cy="871560"/>
          </a:xfrm>
          <a:prstGeom prst="rect">
            <a:avLst/>
          </a:prstGeom>
          <a:ln w="0">
            <a:noFill/>
          </a:ln>
        </p:spPr>
      </p:pic>
      <p:sp>
        <p:nvSpPr>
          <p:cNvPr id="299" name="Line 4"/>
          <p:cNvSpPr/>
          <p:nvPr/>
        </p:nvSpPr>
        <p:spPr>
          <a:xfrm>
            <a:off x="17928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250920" y="11592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95280" y="6669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>
            <a:off x="395280" y="659772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 flipH="1" flipV="1">
            <a:off x="8964720" y="1155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Группа 22" descr=""/>
          <p:cNvPicPr/>
          <p:nvPr/>
        </p:nvPicPr>
        <p:blipFill>
          <a:blip r:embed="rId11"/>
          <a:stretch/>
        </p:blipFill>
        <p:spPr>
          <a:xfrm>
            <a:off x="3352680" y="4973760"/>
            <a:ext cx="2676600" cy="93348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ая соединительная линия 6"/>
          <p:cNvSpPr/>
          <p:nvPr/>
        </p:nvSpPr>
        <p:spPr>
          <a:xfrm flipH="1" rot="14018400">
            <a:off x="3438000" y="3881160"/>
            <a:ext cx="1200240" cy="453960"/>
          </a:xfrm>
          <a:custGeom>
            <a:avLst/>
            <a:gdLst>
              <a:gd name="textAreaLeft" fmla="*/ 360 w 1200240"/>
              <a:gd name="textAreaRight" fmla="*/ 1200960 w 12002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00150" h="454025">
                <a:moveTo>
                  <a:pt x="0" y="13645"/>
                </a:moveTo>
                <a:lnTo>
                  <a:pt x="1505134" y="13645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Группа 21" descr=""/>
          <p:cNvPicPr/>
          <p:nvPr/>
        </p:nvPicPr>
        <p:blipFill>
          <a:blip r:embed="rId12"/>
          <a:stretch/>
        </p:blipFill>
        <p:spPr>
          <a:xfrm>
            <a:off x="5443560" y="3029040"/>
            <a:ext cx="3505320" cy="988920"/>
          </a:xfrm>
          <a:prstGeom prst="rect">
            <a:avLst/>
          </a:prstGeom>
          <a:ln w="0">
            <a:noFill/>
          </a:ln>
        </p:spPr>
      </p:pic>
      <p:grpSp>
        <p:nvGrpSpPr>
          <p:cNvPr id="310" name="Прямая соединительная линия 5"/>
          <p:cNvGrpSpPr/>
          <p:nvPr/>
        </p:nvGrpSpPr>
        <p:grpSpPr>
          <a:xfrm>
            <a:off x="4121280" y="3382920"/>
            <a:ext cx="1444320" cy="55440"/>
            <a:chOff x="4121280" y="3382920"/>
            <a:chExt cx="1444320" cy="55440"/>
          </a:xfrm>
        </p:grpSpPr>
        <p:pic>
          <p:nvPicPr>
            <p:cNvPr id="311" name="Прямая соединительная линия 5" descr=""/>
            <p:cNvPicPr/>
            <p:nvPr/>
          </p:nvPicPr>
          <p:blipFill>
            <a:blip r:embed="rId13"/>
            <a:stretch/>
          </p:blipFill>
          <p:spPr>
            <a:xfrm>
              <a:off x="4121280" y="3382920"/>
              <a:ext cx="1444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10800000">
              <a:off x="4140000" y="3427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ивность профессиональной педагогической деятельности и достигнутые эфф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68360" y="1484280"/>
            <a:ext cx="3959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чество освоения обучающимися образовательных программ в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Диаграмма 17"/>
          <p:cNvGraphicFramePr/>
          <p:nvPr/>
        </p:nvGraphicFramePr>
        <p:xfrm>
          <a:off x="276120" y="2295360"/>
          <a:ext cx="4457880" cy="32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Диаграмма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295360"/>
                    <a:ext cx="445788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2"/>
          <p:cNvSpPr/>
          <p:nvPr/>
        </p:nvSpPr>
        <p:spPr>
          <a:xfrm>
            <a:off x="4716360" y="1484280"/>
            <a:ext cx="39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оличество победителей  и призеров школьных, муниципальных и всероссийских дистанционных олимпиад  по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Диаграмма 23"/>
          <p:cNvGraphicFramePr/>
          <p:nvPr/>
        </p:nvGraphicFramePr>
        <p:xfrm>
          <a:off x="4859280" y="2924280"/>
          <a:ext cx="4122720" cy="3314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20" name="Диаграмма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2924280"/>
                    <a:ext cx="41227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Line 4"/>
          <p:cNvSpPr/>
          <p:nvPr/>
        </p:nvSpPr>
        <p:spPr>
          <a:xfrm>
            <a:off x="17928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250920" y="11592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 flipH="1" flipV="1">
            <a:off x="8964720" y="1155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395280" y="659772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95280" y="6669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17928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250920" y="11592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503280" y="659772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"/>
          <p:cNvSpPr/>
          <p:nvPr/>
        </p:nvSpPr>
        <p:spPr>
          <a:xfrm flipH="1" flipV="1">
            <a:off x="8964720" y="1155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395280" y="1628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вень учебной мотив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ршеклас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013/14 уч.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200160" y="2873520"/>
            <a:ext cx="4638600" cy="35589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4932360" y="1628640"/>
            <a:ext cx="40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вень учебной мотив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рше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014/15 уч.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539640" y="260280"/>
            <a:ext cx="820908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ивность профессиональной педагогической деятельности и достигнутые эфф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643280" y="2852640"/>
          <a:ext cx="4500720" cy="352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852640"/>
                    <a:ext cx="45007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52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ируемость практических достижений профессиональной деятельности педагогического рабо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108000" y="11592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H="1" flipV="1">
            <a:off x="9072720" y="-3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395280" y="6858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68360" y="674208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11"/>
          <p:cNvSpPr/>
          <p:nvPr/>
        </p:nvSpPr>
        <p:spPr>
          <a:xfrm>
            <a:off x="6227640" y="1413000"/>
            <a:ext cx="2737080" cy="5327640"/>
          </a:xfrm>
          <a:custGeom>
            <a:avLst/>
            <a:gdLst>
              <a:gd name="textAreaLeft" fmla="*/ 133560 w 2737080"/>
              <a:gd name="textAreaRight" fmla="*/ 2603520 w 2737080"/>
              <a:gd name="textAreaTop" fmla="*/ 133560 h 5327640"/>
              <a:gd name="textAreaBottom" fmla="*/ 5194080 h 5327640"/>
            </a:gdLst>
            <a:ahLst/>
            <a:rect l="textAreaLeft" t="textAreaTop" r="textAreaRight" b="textAreaBottom"/>
            <a:pathLst>
              <a:path w="21600" h="42041">
                <a:moveTo>
                  <a:pt x="3600" y="0"/>
                </a:moveTo>
                <a:arcTo wR="3600" hR="3600" stAng="16200000" swAng="-5400000"/>
                <a:lnTo>
                  <a:pt x="0" y="38441"/>
                </a:lnTo>
                <a:arcTo wR="3600" hR="3600" stAng="10800000" swAng="-5400000"/>
                <a:lnTo>
                  <a:pt x="18000" y="4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12"/>
          <p:cNvSpPr/>
          <p:nvPr/>
        </p:nvSpPr>
        <p:spPr>
          <a:xfrm>
            <a:off x="2484360" y="1341360"/>
            <a:ext cx="3600360" cy="540072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5400720"/>
              <a:gd name="textAreaBottom" fmla="*/ 5225040 h 540072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вьялова А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Внешня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ССР накану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ликой Отече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йны»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урок в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лассе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 Жур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ПИШ» № 9 – 2014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13"/>
          <p:cNvSpPr/>
          <p:nvPr/>
        </p:nvSpPr>
        <p:spPr>
          <a:xfrm>
            <a:off x="179280" y="1341360"/>
            <a:ext cx="2160720" cy="5327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5327640"/>
              <a:gd name="textAreaBottom" fmla="*/ 5222160 h 5327640"/>
            </a:gdLst>
            <a:ahLst/>
            <a:rect l="textAreaLeft" t="textAreaTop" r="textAreaRight" b="textAreaBottom"/>
            <a:pathLst>
              <a:path w="21600" h="53253">
                <a:moveTo>
                  <a:pt x="3600" y="0"/>
                </a:moveTo>
                <a:arcTo wR="3600" hR="3600" stAng="16200000" swAng="-5400000"/>
                <a:lnTo>
                  <a:pt x="0" y="49653"/>
                </a:lnTo>
                <a:arcTo wR="3600" hR="3600" stAng="10800000" swAng="-5400000"/>
                <a:lnTo>
                  <a:pt x="18000" y="532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ий урове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крытые уро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Б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 №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еминары-практику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ыступления 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X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XII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региональных науч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р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конференц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(НН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-157646160" y="207000"/>
            <a:ext cx="12331080" cy="5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7520" rIns="0" tIns="-633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«ЭНЦИКЛОПЕДИСТ» — </a:t>
            </a:r>
            <a:r>
              <a:rPr b="1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Использование</a:t>
            </a: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дидактической</a:t>
            </a: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2"/>
              </a:rPr>
              <a:t>znaina5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3"/>
              </a:rPr>
              <a:t>.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4"/>
              </a:rPr>
              <a:t>ru</a:t>
            </a:r>
            <a:r>
              <a:rPr b="0" lang="ru-RU" sz="1000" spc="-1" strike="noStrike">
                <a:solidFill>
                  <a:srgbClr val="007700"/>
                </a:solidFill>
                <a:latin typeface="Arial"/>
                <a:ea typeface="Arial"/>
              </a:rPr>
              <a:t>›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5"/>
              </a:rPr>
              <a:t>…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6"/>
              </a:rPr>
              <a:t>pedagogicheskie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7"/>
              </a:rPr>
              <a:t>-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8"/>
              </a:rPr>
              <a:t>zhemchuzhiny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9"/>
              </a:rPr>
              <a:t>…191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Использование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дидактической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многомерной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технологии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(ДМТ) для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отработки знаний при подготовке к итоговой аттестации. Автор работы: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Завьялова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Александра Арефьевна, учитель истории и обществозн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-157646160" y="207000"/>
            <a:ext cx="12331080" cy="5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7520" rIns="0" tIns="-633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«ЭНЦИКЛОПЕДИСТ» — </a:t>
            </a:r>
            <a:r>
              <a:rPr b="1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Использование</a:t>
            </a: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дидактической</a:t>
            </a: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0"/>
              </a:rPr>
              <a:t>znaina5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1"/>
              </a:rPr>
              <a:t>.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2"/>
              </a:rPr>
              <a:t>ru</a:t>
            </a:r>
            <a:r>
              <a:rPr b="0" lang="ru-RU" sz="1000" spc="-1" strike="noStrike">
                <a:solidFill>
                  <a:srgbClr val="007700"/>
                </a:solidFill>
                <a:latin typeface="Arial"/>
                <a:ea typeface="Arial"/>
              </a:rPr>
              <a:t>›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3"/>
              </a:rPr>
              <a:t>…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4"/>
              </a:rPr>
              <a:t>pedagogicheskie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5"/>
              </a:rPr>
              <a:t>-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6"/>
              </a:rPr>
              <a:t>zhemchuzhiny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7"/>
              </a:rPr>
              <a:t>…191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Использование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дидактической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многомерной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технологии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(ДМТ) для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отработки знаний при подготовке к итоговой аттестации. Автор работы: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Завьялова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Александра Арефьевна, учитель истории и обществозн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-157646160" y="207000"/>
            <a:ext cx="12331080" cy="5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7520" rIns="0" tIns="-633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«ЭНЦИКЛОПЕДИСТ» — </a:t>
            </a:r>
            <a:r>
              <a:rPr b="1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Использование</a:t>
            </a: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дидактической</a:t>
            </a:r>
            <a:r>
              <a:rPr b="0" lang="ru-RU" sz="900" spc="-1" strike="noStrike">
                <a:solidFill>
                  <a:srgbClr val="551a8b"/>
                </a:solidFill>
                <a:latin typeface="Arial"/>
                <a:ea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8"/>
              </a:rPr>
              <a:t>znaina5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9"/>
              </a:rPr>
              <a:t>.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0"/>
              </a:rPr>
              <a:t>ru</a:t>
            </a:r>
            <a:r>
              <a:rPr b="0" lang="ru-RU" sz="1000" spc="-1" strike="noStrike">
                <a:solidFill>
                  <a:srgbClr val="007700"/>
                </a:solidFill>
                <a:latin typeface="Arial"/>
                <a:ea typeface="Arial"/>
              </a:rPr>
              <a:t>›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1"/>
              </a:rPr>
              <a:t>…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2"/>
              </a:rPr>
              <a:t>pedagogicheskie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3"/>
              </a:rPr>
              <a:t>-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4"/>
              </a:rPr>
              <a:t>zhemchuzhiny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5"/>
              </a:rPr>
              <a:t>…191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Использование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дидактической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многомерной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технологии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(ДМТ) для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отработки знаний при подготовке к итоговой аттестации. Автор работы: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Завьялова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var(--font-regular)"/>
                <a:ea typeface="Arial"/>
              </a:rPr>
              <a:t>Александра Арефьевна, учитель истории и обществозн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0"/>
          <p:cNvSpPr/>
          <p:nvPr/>
        </p:nvSpPr>
        <p:spPr>
          <a:xfrm>
            <a:off x="2556000" y="2421000"/>
            <a:ext cx="3456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тодические разрабо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-Использование дидактической многомерной технологии (ДМТ) при подготовке к итоговой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6227640" y="3012480"/>
            <a:ext cx="266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Завьялова  А.А.. Исторические справки как источник для воссоздания истории деревень // Вопросы архивоведения и источниковедения в высшей школе: сб. материалов XIII Региональной науч.-практ. конф., 2015 г. / Арзамас: 201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2771640" y="1413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й урове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дагогические чт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НГУ, 2015год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5"/>
          <p:cNvSpPr/>
          <p:nvPr/>
        </p:nvSpPr>
        <p:spPr>
          <a:xfrm>
            <a:off x="6337440" y="1413000"/>
            <a:ext cx="280656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учный уровень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блик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авьялова А.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0"/>
          <p:cNvSpPr/>
          <p:nvPr/>
        </p:nvSpPr>
        <p:spPr>
          <a:xfrm>
            <a:off x="2484360" y="4221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ая карта урока «Нижегородская архитек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начала 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5"/>
          <p:cNvSpPr/>
          <p:nvPr/>
        </p:nvSpPr>
        <p:spPr>
          <a:xfrm>
            <a:off x="2556000" y="5373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ьялова А.А.  «Вне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а     СССР накан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В (урок в 11классе)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ИШ» № 9 – 2014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4"/>
          <p:cNvSpPr/>
          <p:nvPr/>
        </p:nvSpPr>
        <p:spPr>
          <a:xfrm>
            <a:off x="539640" y="1341360"/>
            <a:ext cx="806472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Абдулаев Э.Н., Морозов А.Ю. Реализация деятельностного подхода в преподавании: практический аспект. // Преподавание истории в школе. №.6, 2015 г. С.9-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Аствацатуров. Технология целеполагания урока. В.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яземский Е.Е.,О.Ю. Стрелова. Уроки истории: думаем, спорим, размышляем. М., Просвещение, 2012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Гальперин П.Я.Психология мышления и учение о поэтапном формировании умственных действий. М., Наука, 1966 г, с.259-2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Ривкин Е.Ю. Профессиональная деятельность учителя в период перехода на ФГОС основного общего образования. Теория и технологии. В.,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елевко Г.К.  Педагогические технологии на основе активизации, интенсификации и эффективного управления УВП. М.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Формирование универсальных учебных действий в основной школе: от действия к мысли. Система заданий: пособие для учителя/; под ред. А.Г.Асмолова. М.: Просвещение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"/>
          <p:cNvSpPr/>
          <p:nvPr/>
        </p:nvSpPr>
        <p:spPr>
          <a:xfrm>
            <a:off x="17928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250920" y="11592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503280" y="659772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 flipH="1" flipV="1">
            <a:off x="8964720" y="1155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0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учебных задач как фактор активизации познавательной деятельности учащихся на уроках истор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1258920" y="2060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мках развивающего обучения историческое содержание должно быть преобразовано так, чтобы активизировать познавательную деятельность  учащихся, нацелить их на решение определенных проблем (учебных зада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.Н.Абдулаев, А.Ю.Моро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400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5092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95280" y="26028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539640" y="6453360"/>
            <a:ext cx="828036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395280" y="6597720"/>
            <a:ext cx="8569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 flipV="1">
            <a:off x="8892720" y="259920"/>
            <a:ext cx="7164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 flipV="1">
            <a:off x="8819640" y="40464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8840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Условия формирования личного вклада педагога в развитие образования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2556000" y="907920"/>
            <a:ext cx="3168360" cy="5689800"/>
          </a:xfrm>
          <a:custGeom>
            <a:avLst/>
            <a:gdLst>
              <a:gd name="textAreaLeft" fmla="*/ 154440 w 3168360"/>
              <a:gd name="textAreaRight" fmla="*/ 3013920 w 3168360"/>
              <a:gd name="textAreaTop" fmla="*/ 154440 h 5689800"/>
              <a:gd name="textAreaBottom" fmla="*/ 5535360 h 5689800"/>
            </a:gdLst>
            <a:ahLst/>
            <a:rect l="textAreaLeft" t="textAreaTop" r="textAreaRight" b="textAreaBottom"/>
            <a:pathLst>
              <a:path w="21600" h="38788">
                <a:moveTo>
                  <a:pt x="3600" y="0"/>
                </a:moveTo>
                <a:arcTo wR="3600" hR="3600" stAng="16200000" swAng="-5400000"/>
                <a:lnTo>
                  <a:pt x="0" y="35188"/>
                </a:lnTo>
                <a:arcTo wR="3600" hR="3600" stAng="10800000" swAng="-5400000"/>
                <a:lnTo>
                  <a:pt x="18000" y="38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одические условия: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участие во Всероссийских конкурс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«Современный урок»;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омпетентность. Творчество.Успех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е всероссийской конференци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«Актуальные вопросы методик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бучения истории»,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дагогических чтениях ННГУ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 работе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XII-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XII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региональной научно–практической конференции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;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повышение квалификации на курсах ГБОУ ДПО НИ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7"/>
          <p:cNvSpPr/>
          <p:nvPr/>
        </p:nvSpPr>
        <p:spPr>
          <a:xfrm>
            <a:off x="5796000" y="981000"/>
            <a:ext cx="3024000" cy="5616720"/>
          </a:xfrm>
          <a:custGeom>
            <a:avLst/>
            <a:gdLst>
              <a:gd name="textAreaLeft" fmla="*/ 147600 w 3024000"/>
              <a:gd name="textAreaRight" fmla="*/ 2876400 w 3024000"/>
              <a:gd name="textAreaTop" fmla="*/ 147600 h 5616720"/>
              <a:gd name="textAreaBottom" fmla="*/ 5469120 h 5616720"/>
            </a:gdLst>
            <a:ahLst/>
            <a:rect l="textAreaLeft" t="textAreaTop" r="textAreaRight" b="textAreaBottom"/>
            <a:pathLst>
              <a:path w="21600" h="40117">
                <a:moveTo>
                  <a:pt x="3600" y="0"/>
                </a:moveTo>
                <a:arcTo wR="3600" hR="3600" stAng="16200000" swAng="-5400000"/>
                <a:lnTo>
                  <a:pt x="0" y="36517"/>
                </a:lnTo>
                <a:arcTo wR="3600" hR="3600" stAng="10800000" swAng="-5400000"/>
                <a:lnTo>
                  <a:pt x="18000" y="401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онно – педагогическ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участие в работе областной инновационной площадки  по апробации УМК  по краеведению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организация работы мастер –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выступления на Ш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М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конферен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экспертом при проверке работ ГИА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работа в рамках профессионально-педагогических сообще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8"/>
          <p:cNvSpPr/>
          <p:nvPr/>
        </p:nvSpPr>
        <p:spPr>
          <a:xfrm>
            <a:off x="324000" y="981000"/>
            <a:ext cx="2160360" cy="5543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5543640"/>
              <a:gd name="textAreaBottom" fmla="*/ 5438520 h 5543640"/>
            </a:gdLst>
            <a:ahLst/>
            <a:rect l="textAreaLeft" t="textAreaTop" r="textAreaRight" b="textAreaBottom"/>
            <a:pathLst>
              <a:path w="21600" h="55422">
                <a:moveTo>
                  <a:pt x="3600" y="0"/>
                </a:moveTo>
                <a:arcTo wR="3600" hR="3600" stAng="16200000" swAng="-5400000"/>
                <a:lnTo>
                  <a:pt x="0" y="51822"/>
                </a:lnTo>
                <a:arcTo wR="3600" hR="3600" stAng="10800000" swAng="-5400000"/>
                <a:lnTo>
                  <a:pt x="18000" y="55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учно-исследовательск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теоретических положений  СДП в трудах  психологов Л.С.Выготского, Д.Б.Эльконина, А.Н.Леонтьева; факторов и условий развития УУД – в трудах П,Я.Гальп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50920" y="0"/>
            <a:ext cx="0" cy="666900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324000" y="0"/>
            <a:ext cx="856908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24000" y="115920"/>
            <a:ext cx="842472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H="1" flipV="1">
            <a:off x="8892720" y="40464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H="1" flipV="1">
            <a:off x="8964720" y="25992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324000" y="666900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250920" y="6742080"/>
            <a:ext cx="84978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2821320" y="3198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39640" y="189000"/>
            <a:ext cx="813600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250920" y="26028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95280" y="40464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2400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395280" y="6669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395280" y="659772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H="1" flipV="1">
            <a:off x="8819640" y="40464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H="1" flipV="1">
            <a:off x="8892720" y="259920"/>
            <a:ext cx="7164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3"/>
          <p:cNvSpPr/>
          <p:nvPr/>
        </p:nvSpPr>
        <p:spPr>
          <a:xfrm>
            <a:off x="5580000" y="981000"/>
            <a:ext cx="3024360" cy="3888000"/>
          </a:xfrm>
          <a:custGeom>
            <a:avLst/>
            <a:gdLst>
              <a:gd name="textAreaLeft" fmla="*/ 147600 w 3024360"/>
              <a:gd name="textAreaRight" fmla="*/ 2876760 w 3024360"/>
              <a:gd name="textAreaTop" fmla="*/ 147600 h 3888000"/>
              <a:gd name="textAreaBottom" fmla="*/ 3740400 h 3888000"/>
            </a:gdLst>
            <a:ahLst/>
            <a:rect l="textAreaLeft" t="textAreaTop" r="textAreaRight" b="textAreaBottom"/>
            <a:pathLst>
              <a:path w="21600" h="27767">
                <a:moveTo>
                  <a:pt x="3600" y="0"/>
                </a:moveTo>
                <a:arcTo wR="3600" hR="3600" stAng="16200000" swAng="-5400000"/>
                <a:lnTo>
                  <a:pt x="0" y="24167"/>
                </a:lnTo>
                <a:arcTo wR="3600" hR="3600" stAng="10800000" swAng="-5400000"/>
                <a:lnTo>
                  <a:pt x="18000" y="277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высокого уровня знаний и умений при низкой  мотивации к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громное информационное пространство, проблема ориентации в нем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4"/>
          <p:cNvSpPr/>
          <p:nvPr/>
        </p:nvSpPr>
        <p:spPr>
          <a:xfrm>
            <a:off x="900000" y="981000"/>
            <a:ext cx="3311640" cy="3888000"/>
          </a:xfrm>
          <a:custGeom>
            <a:avLst/>
            <a:gdLst>
              <a:gd name="textAreaLeft" fmla="*/ 161640 w 3311640"/>
              <a:gd name="textAreaRight" fmla="*/ 3150000 w 3311640"/>
              <a:gd name="textAreaTop" fmla="*/ 161640 h 3888000"/>
              <a:gd name="textAreaBottom" fmla="*/ 3726360 h 3888000"/>
            </a:gdLst>
            <a:ahLst/>
            <a:rect l="textAreaLeft" t="textAreaTop" r="textAreaRight" b="textAreaBottom"/>
            <a:pathLst>
              <a:path w="21600" h="25359">
                <a:moveTo>
                  <a:pt x="3600" y="0"/>
                </a:moveTo>
                <a:arcTo wR="3600" hR="3600" stAng="16200000" swAng="-5400000"/>
                <a:lnTo>
                  <a:pt x="0" y="21759"/>
                </a:lnTo>
                <a:arcTo wR="3600" hR="3600" stAng="10800000" swAng="-5400000"/>
                <a:lnTo>
                  <a:pt x="18000" y="25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 ФГОС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ь формирова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УД для развития личности, требования И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отребность общества в активной, свободной, самоопределяющейся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5"/>
          <p:cNvSpPr/>
          <p:nvPr/>
        </p:nvSpPr>
        <p:spPr>
          <a:xfrm rot="5400000">
            <a:off x="4103640" y="1736640"/>
            <a:ext cx="1224000" cy="820872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8208720"/>
              <a:gd name="textAreaBottom" fmla="*/ 8148960 h 8208720"/>
            </a:gdLst>
            <a:ahLst/>
            <a:rect l="textAreaLeft" t="textAreaTop" r="textAreaRight" b="textAreaBottom"/>
            <a:pathLst>
              <a:path w="21600" h="144824">
                <a:moveTo>
                  <a:pt x="3600" y="0"/>
                </a:moveTo>
                <a:arcTo wR="3600" hR="3600" stAng="16200000" swAng="-5400000"/>
                <a:lnTo>
                  <a:pt x="0" y="141224"/>
                </a:lnTo>
                <a:arcTo wR="3600" hR="3600" stAng="10800000" swAng="-5400000"/>
                <a:lnTo>
                  <a:pt x="18000" y="144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6"/>
          <p:cNvSpPr/>
          <p:nvPr/>
        </p:nvSpPr>
        <p:spPr>
          <a:xfrm>
            <a:off x="755640" y="5300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содержа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ы исторического образования. Применение эффективных образовательных технологий и методических при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войная стрелка вверх/вниз 23"/>
          <p:cNvSpPr/>
          <p:nvPr/>
        </p:nvSpPr>
        <p:spPr>
          <a:xfrm rot="5400000">
            <a:off x="4654440" y="1690560"/>
            <a:ext cx="484200" cy="122400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Двойная стрелка вверх/вниз 24"/>
          <p:cNvSpPr/>
          <p:nvPr/>
        </p:nvSpPr>
        <p:spPr>
          <a:xfrm rot="5400000">
            <a:off x="4654440" y="3274920"/>
            <a:ext cx="484200" cy="122400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36"/>
          <p:cNvSpPr/>
          <p:nvPr/>
        </p:nvSpPr>
        <p:spPr>
          <a:xfrm>
            <a:off x="2411280" y="4869000"/>
            <a:ext cx="41292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37"/>
          <p:cNvSpPr/>
          <p:nvPr/>
        </p:nvSpPr>
        <p:spPr>
          <a:xfrm>
            <a:off x="6875640" y="4869000"/>
            <a:ext cx="41256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792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тическое обоснование личного вклада педагога в развитие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1"/>
          <p:cNvSpPr/>
          <p:nvPr/>
        </p:nvSpPr>
        <p:spPr>
          <a:xfrm>
            <a:off x="468360" y="1125360"/>
            <a:ext cx="8424720" cy="540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9640" y="353232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основе усвоения системы научных понятий, определяющих развитие теоретического мышления и прогресс познавательного развития учащихся, лежит организация системы учебн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А.Г.Асм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250920" y="26028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95280" y="40464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2400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95280" y="6669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395280" y="659772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H="1" flipV="1">
            <a:off x="8892720" y="40464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 flipH="1" flipV="1">
            <a:off x="8964720" y="25992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7"/>
          <p:cNvSpPr/>
          <p:nvPr/>
        </p:nvSpPr>
        <p:spPr>
          <a:xfrm>
            <a:off x="468360" y="508464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Эффективное обучение предполагает формирование мотивации к познанию, умения учиться, формирование отношений, объединяющих учеников на основе позитив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.Е.Вязе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7"/>
          <p:cNvSpPr/>
          <p:nvPr/>
        </p:nvSpPr>
        <p:spPr>
          <a:xfrm>
            <a:off x="826920" y="1413000"/>
            <a:ext cx="770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Шкала поэтапного формирования умственных действий  намечает последовательные уровни…, начиная с ориентировочной основы, через  материальную или материализованную форму, затем в громкой речи без предметов, во «внешней речи про себя» и, наконец, в собственно «внутренней реч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.Я.Гальп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Скругленный прямоугольник 20"/>
          <p:cNvSpPr/>
          <p:nvPr/>
        </p:nvSpPr>
        <p:spPr>
          <a:xfrm>
            <a:off x="395280" y="907920"/>
            <a:ext cx="835200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Развитие познавательной активности и формирование предметных результатов через использование системы учебн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3"/>
          <p:cNvSpPr/>
          <p:nvPr/>
        </p:nvSpPr>
        <p:spPr>
          <a:xfrm>
            <a:off x="3564000" y="1844640"/>
            <a:ext cx="172872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539640" y="189000"/>
            <a:ext cx="8352000" cy="57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и задачи педагог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1619280" y="42926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0800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50920" y="18900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395280" y="659772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395280" y="6669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 flipV="1">
            <a:off x="9070560" y="33336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 flipV="1">
            <a:off x="9072720" y="18864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395280" y="2492280"/>
            <a:ext cx="842472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вивать общеучебные и предметные  учебные действия познавательной направленности , личностные, коммуникативные и регулятивные УУД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способность самостоятельно ставить учебную задачу (У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 умения формулировать алгоритм решения 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 навыкам контролировать процесс поиска ответа и решения проблемы и  оценивать полученны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ять  способы мотивирования учащихся к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ущая педагогическ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4"/>
          <p:cNvSpPr/>
          <p:nvPr/>
        </p:nvSpPr>
        <p:spPr>
          <a:xfrm>
            <a:off x="611280" y="1052640"/>
            <a:ext cx="7921440" cy="43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спользование системы учебных задач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овится эффективным, когда учителю удаётся перевести собственную цел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научить ребёнка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бственную цель ученика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научитьс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5292720" y="551664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50920" y="26028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324000" y="18900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95280" y="666900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395280" y="659772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 flipV="1">
            <a:off x="8964720" y="1155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5"/>
          <p:cNvSpPr/>
          <p:nvPr/>
        </p:nvSpPr>
        <p:spPr>
          <a:xfrm>
            <a:off x="1332000" y="2205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179280" y="189000"/>
            <a:ext cx="0" cy="640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50920" y="115920"/>
            <a:ext cx="0" cy="619128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503280" y="6597720"/>
            <a:ext cx="8640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50920" y="115920"/>
            <a:ext cx="85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95280" y="189000"/>
            <a:ext cx="8424720" cy="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 flipV="1">
            <a:off x="8892720" y="260280"/>
            <a:ext cx="73080" cy="612144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 flipH="1" flipV="1">
            <a:off x="8964720" y="115560"/>
            <a:ext cx="71280" cy="63356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68360" y="260280"/>
            <a:ext cx="820908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ный аспект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324000" y="1125360"/>
            <a:ext cx="8680320" cy="4897440"/>
            <a:chOff x="324000" y="1125360"/>
            <a:chExt cx="8680320" cy="4897440"/>
          </a:xfrm>
        </p:grpSpPr>
        <p:sp>
          <p:nvSpPr>
            <p:cNvPr id="156" name="AutoShape 15"/>
            <p:cNvSpPr/>
            <p:nvPr/>
          </p:nvSpPr>
          <p:spPr>
            <a:xfrm>
              <a:off x="467280" y="1125360"/>
              <a:ext cx="8537040" cy="48974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324000" y="2421720"/>
              <a:ext cx="151164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тре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3803760" y="2333160"/>
              <a:ext cx="133740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5076000" y="1411920"/>
              <a:ext cx="2008440" cy="63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рефлек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2123640" y="2421720"/>
              <a:ext cx="133956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моти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5417640" y="2373840"/>
              <a:ext cx="133848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сред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7091640" y="2373840"/>
              <a:ext cx="1339560" cy="63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результ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416160" y="3501360"/>
              <a:ext cx="251136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Мотивацио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3419640" y="3479760"/>
              <a:ext cx="266400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Операци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422040" y="3479760"/>
              <a:ext cx="2398680" cy="63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Рефлексив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оценоч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2571840" y="4900680"/>
              <a:ext cx="502200" cy="47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Calibri"/>
                  <a:hlinkClick r:id="rId1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6"/>
            <p:cNvSpPr/>
            <p:nvPr/>
          </p:nvSpPr>
          <p:spPr>
            <a:xfrm>
              <a:off x="3408840" y="4900680"/>
              <a:ext cx="502560" cy="47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Calibri"/>
                  <a:hlinkClick r:id="rId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4078800" y="4900680"/>
              <a:ext cx="500040" cy="474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4748760" y="4900680"/>
              <a:ext cx="501120" cy="474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5364000" y="4869360"/>
              <a:ext cx="504000" cy="474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6422040" y="4900680"/>
              <a:ext cx="501120" cy="47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1"/>
            <p:cNvSpPr/>
            <p:nvPr/>
          </p:nvSpPr>
          <p:spPr>
            <a:xfrm>
              <a:off x="7259040" y="4900680"/>
              <a:ext cx="500040" cy="479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 flipV="1">
              <a:off x="1835640" y="2848680"/>
              <a:ext cx="234720" cy="43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V="1">
              <a:off x="3492000" y="2848680"/>
              <a:ext cx="252360" cy="43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5220720" y="2848680"/>
              <a:ext cx="200160" cy="43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757560" y="2848680"/>
              <a:ext cx="336600" cy="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H="1">
              <a:off x="5249880" y="3006360"/>
              <a:ext cx="837000" cy="473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7"/>
            <p:cNvSpPr/>
            <p:nvPr/>
          </p:nvSpPr>
          <p:spPr>
            <a:xfrm flipV="1">
              <a:off x="7761600" y="1585080"/>
              <a:ext cx="720" cy="788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8"/>
            <p:cNvSpPr/>
            <p:nvPr/>
          </p:nvSpPr>
          <p:spPr>
            <a:xfrm flipH="1">
              <a:off x="7091280" y="1585080"/>
              <a:ext cx="669960" cy="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>
              <a:off x="2907360" y="4427280"/>
              <a:ext cx="720" cy="473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 flipH="1">
              <a:off x="3707280" y="4437360"/>
              <a:ext cx="1080" cy="473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1"/>
            <p:cNvSpPr/>
            <p:nvPr/>
          </p:nvSpPr>
          <p:spPr>
            <a:xfrm>
              <a:off x="4284000" y="4437360"/>
              <a:ext cx="1080" cy="473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2"/>
            <p:cNvSpPr/>
            <p:nvPr/>
          </p:nvSpPr>
          <p:spPr>
            <a:xfrm flipH="1">
              <a:off x="5082840" y="4427280"/>
              <a:ext cx="1080" cy="473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3"/>
            <p:cNvSpPr/>
            <p:nvPr/>
          </p:nvSpPr>
          <p:spPr>
            <a:xfrm>
              <a:off x="5753160" y="4427280"/>
              <a:ext cx="720" cy="473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4"/>
            <p:cNvSpPr/>
            <p:nvPr/>
          </p:nvSpPr>
          <p:spPr>
            <a:xfrm flipH="1">
              <a:off x="6587280" y="4437360"/>
              <a:ext cx="1080" cy="473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5"/>
            <p:cNvSpPr/>
            <p:nvPr/>
          </p:nvSpPr>
          <p:spPr>
            <a:xfrm>
              <a:off x="7426080" y="4427280"/>
              <a:ext cx="2160" cy="473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46"/>
            <p:cNvSpPr/>
            <p:nvPr/>
          </p:nvSpPr>
          <p:spPr>
            <a:xfrm flipV="1">
              <a:off x="1404000" y="4437000"/>
              <a:ext cx="1506960" cy="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7"/>
            <p:cNvSpPr/>
            <p:nvPr/>
          </p:nvSpPr>
          <p:spPr>
            <a:xfrm flipH="1">
              <a:off x="1400400" y="4110840"/>
              <a:ext cx="720" cy="316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8"/>
            <p:cNvSpPr/>
            <p:nvPr/>
          </p:nvSpPr>
          <p:spPr>
            <a:xfrm>
              <a:off x="1065960" y="3322080"/>
              <a:ext cx="3179880" cy="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9"/>
            <p:cNvSpPr/>
            <p:nvPr/>
          </p:nvSpPr>
          <p:spPr>
            <a:xfrm flipV="1">
              <a:off x="4246200" y="3006000"/>
              <a:ext cx="1080" cy="315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 flipV="1">
              <a:off x="2738880" y="3006000"/>
              <a:ext cx="3600" cy="315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 flipV="1">
              <a:off x="1065960" y="3006000"/>
              <a:ext cx="2160" cy="315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 flipH="1">
              <a:off x="4356000" y="1773360"/>
              <a:ext cx="669960" cy="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3"/>
            <p:cNvSpPr/>
            <p:nvPr/>
          </p:nvSpPr>
          <p:spPr>
            <a:xfrm>
              <a:off x="3744720" y="4427280"/>
              <a:ext cx="2008440" cy="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54"/>
            <p:cNvSpPr/>
            <p:nvPr/>
          </p:nvSpPr>
          <p:spPr>
            <a:xfrm>
              <a:off x="6590160" y="4427280"/>
              <a:ext cx="835920" cy="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5"/>
            <p:cNvSpPr/>
            <p:nvPr/>
          </p:nvSpPr>
          <p:spPr>
            <a:xfrm>
              <a:off x="8096040" y="4427280"/>
              <a:ext cx="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6"/>
            <p:cNvSpPr/>
            <p:nvPr/>
          </p:nvSpPr>
          <p:spPr>
            <a:xfrm>
              <a:off x="8096040" y="4584600"/>
              <a:ext cx="1080" cy="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7"/>
            <p:cNvSpPr/>
            <p:nvPr/>
          </p:nvSpPr>
          <p:spPr>
            <a:xfrm flipV="1">
              <a:off x="6924600" y="4110840"/>
              <a:ext cx="720" cy="316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8"/>
            <p:cNvSpPr/>
            <p:nvPr/>
          </p:nvSpPr>
          <p:spPr>
            <a:xfrm>
              <a:off x="4916160" y="4110840"/>
              <a:ext cx="720" cy="316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9"/>
            <p:cNvSpPr/>
            <p:nvPr/>
          </p:nvSpPr>
          <p:spPr>
            <a:xfrm>
              <a:off x="7761600" y="3006360"/>
              <a:ext cx="720" cy="473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60"/>
            <p:cNvSpPr/>
            <p:nvPr/>
          </p:nvSpPr>
          <p:spPr>
            <a:xfrm>
              <a:off x="396000" y="1196640"/>
              <a:ext cx="4016880" cy="64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Структура </a:t>
              </a: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урока   по решению учебных задач</a:t>
              </a: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: </a:t>
              </a: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1"/>
            <p:cNvSpPr/>
            <p:nvPr/>
          </p:nvSpPr>
          <p:spPr>
            <a:xfrm>
              <a:off x="2571840" y="5531760"/>
              <a:ext cx="5189400" cy="47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Учебные   д е й с т в и 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2"/>
            <p:cNvSpPr/>
            <p:nvPr/>
          </p:nvSpPr>
          <p:spPr>
            <a:xfrm>
              <a:off x="4644360" y="1773360"/>
              <a:ext cx="0" cy="504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3"/>
            <p:cNvSpPr/>
            <p:nvPr/>
          </p:nvSpPr>
          <p:spPr>
            <a:xfrm flipV="1">
              <a:off x="2411640" y="3285000"/>
              <a:ext cx="1080" cy="158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"/>
          <p:cNvSpPr/>
          <p:nvPr/>
        </p:nvSpPr>
        <p:spPr>
          <a:xfrm>
            <a:off x="108000" y="3789360"/>
            <a:ext cx="4392720" cy="2952720"/>
          </a:xfrm>
          <a:prstGeom prst="roundRect">
            <a:avLst>
              <a:gd name="adj" fmla="val 12699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179280" y="4437000"/>
            <a:ext cx="400212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Text Box 3"/>
          <p:cNvGrpSpPr/>
          <p:nvPr/>
        </p:nvGrpSpPr>
        <p:grpSpPr>
          <a:xfrm>
            <a:off x="189000" y="3664080"/>
            <a:ext cx="4170240" cy="828720"/>
            <a:chOff x="189000" y="3664080"/>
            <a:chExt cx="4170240" cy="828720"/>
          </a:xfrm>
        </p:grpSpPr>
        <p:pic>
          <p:nvPicPr>
            <p:cNvPr id="208" name="Text Box 3" descr=""/>
            <p:cNvPicPr/>
            <p:nvPr/>
          </p:nvPicPr>
          <p:blipFill>
            <a:blip r:embed="rId1"/>
            <a:stretch/>
          </p:blipFill>
          <p:spPr>
            <a:xfrm>
              <a:off x="189000" y="3664080"/>
              <a:ext cx="4170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50920" y="3716280"/>
              <a:ext cx="400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рок общеметодологической направле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4"/>
          <p:cNvSpPr/>
          <p:nvPr/>
        </p:nvSpPr>
        <p:spPr>
          <a:xfrm>
            <a:off x="324000" y="4365720"/>
            <a:ext cx="3929040" cy="228420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ая ц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формирование способности учащихся к новому способу действия, связанному с построением структуры изученных понятий и алгорит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цель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теоретических основ построения содержательных  ли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50920" y="981000"/>
            <a:ext cx="3929040" cy="2671920"/>
          </a:xfrm>
          <a:prstGeom prst="roundRect">
            <a:avLst>
              <a:gd name="adj" fmla="val 12699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285840" y="1643040"/>
            <a:ext cx="3786120" cy="188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Text Box 7"/>
          <p:cNvGrpSpPr/>
          <p:nvPr/>
        </p:nvGrpSpPr>
        <p:grpSpPr>
          <a:xfrm>
            <a:off x="189000" y="927000"/>
            <a:ext cx="3902040" cy="835200"/>
            <a:chOff x="189000" y="927000"/>
            <a:chExt cx="3902040" cy="835200"/>
          </a:xfrm>
        </p:grpSpPr>
        <p:pic>
          <p:nvPicPr>
            <p:cNvPr id="214" name="Text Box 7" descr=""/>
            <p:cNvPicPr/>
            <p:nvPr/>
          </p:nvPicPr>
          <p:blipFill>
            <a:blip r:embed="rId2"/>
            <a:stretch/>
          </p:blipFill>
          <p:spPr>
            <a:xfrm>
              <a:off x="189000" y="927000"/>
              <a:ext cx="39020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50920" y="981000"/>
              <a:ext cx="37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Урок «открытия» нового 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8"/>
          <p:cNvSpPr/>
          <p:nvPr/>
        </p:nvSpPr>
        <p:spPr>
          <a:xfrm>
            <a:off x="395280" y="1643040"/>
            <a:ext cx="3605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ая 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способности  к новому способу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цель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ширение понятийной базы за счет включения в нее новых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4643280" y="3789360"/>
            <a:ext cx="4286520" cy="2951280"/>
          </a:xfrm>
          <a:prstGeom prst="roundRect">
            <a:avLst>
              <a:gd name="adj" fmla="val 12699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4643280" y="4429080"/>
            <a:ext cx="407196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Text Box 11"/>
          <p:cNvGrpSpPr/>
          <p:nvPr/>
        </p:nvGrpSpPr>
        <p:grpSpPr>
          <a:xfrm>
            <a:off x="4621320" y="3803760"/>
            <a:ext cx="4181400" cy="530280"/>
            <a:chOff x="4621320" y="3803760"/>
            <a:chExt cx="4181400" cy="530280"/>
          </a:xfrm>
        </p:grpSpPr>
        <p:pic>
          <p:nvPicPr>
            <p:cNvPr id="220" name="Text Box 11" descr=""/>
            <p:cNvPicPr/>
            <p:nvPr/>
          </p:nvPicPr>
          <p:blipFill>
            <a:blip r:embed="rId4"/>
            <a:stretch/>
          </p:blipFill>
          <p:spPr>
            <a:xfrm>
              <a:off x="4621320" y="3803760"/>
              <a:ext cx="41814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714920" y="3857760"/>
              <a:ext cx="400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/>
                </a:rPr>
                <a:t>Урок развивающего контро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2"/>
          <p:cNvSpPr/>
          <p:nvPr/>
        </p:nvSpPr>
        <p:spPr>
          <a:xfrm>
            <a:off x="4786200" y="4500720"/>
            <a:ext cx="3786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ая ц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формирование способности к осуществ-лению контрольной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цель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и самоконтроль изученных понятий и алгорит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4572000" y="981000"/>
            <a:ext cx="4143240" cy="2652840"/>
          </a:xfrm>
          <a:prstGeom prst="roundRect">
            <a:avLst>
              <a:gd name="adj" fmla="val 12699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4643280" y="1700280"/>
            <a:ext cx="3929400" cy="182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Text Box 15"/>
          <p:cNvGrpSpPr/>
          <p:nvPr/>
        </p:nvGrpSpPr>
        <p:grpSpPr>
          <a:xfrm>
            <a:off x="5016600" y="1000080"/>
            <a:ext cx="3120840" cy="530280"/>
            <a:chOff x="5016600" y="1000080"/>
            <a:chExt cx="3120840" cy="530280"/>
          </a:xfrm>
        </p:grpSpPr>
        <p:pic>
          <p:nvPicPr>
            <p:cNvPr id="226" name="Text Box 15" descr=""/>
            <p:cNvPicPr/>
            <p:nvPr/>
          </p:nvPicPr>
          <p:blipFill>
            <a:blip r:embed="rId6"/>
            <a:stretch/>
          </p:blipFill>
          <p:spPr>
            <a:xfrm>
              <a:off x="5016600" y="1000080"/>
              <a:ext cx="31208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76720" y="1052640"/>
              <a:ext cx="300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/>
                </a:rPr>
                <a:t>Урок рефлекс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6"/>
          <p:cNvSpPr/>
          <p:nvPr/>
        </p:nvSpPr>
        <p:spPr>
          <a:xfrm>
            <a:off x="4716360" y="16286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ая ц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формирование  способностей к рефлексии коррекционно-контрольн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ц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коррекция и тренинг изученных понятий, алгорит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24000" y="189000"/>
            <a:ext cx="8481960" cy="6588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правляющая кнопка: возврат 19">
            <a:hlinkClick r:id="rId8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68360" y="115920"/>
            <a:ext cx="8137440" cy="79056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ный аспект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1"/>
          <p:cNvSpPr/>
          <p:nvPr/>
        </p:nvSpPr>
        <p:spPr>
          <a:xfrm>
            <a:off x="179280" y="981000"/>
            <a:ext cx="8785440" cy="5547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е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облемного обуч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звития  критического   мыш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ифференцированного  обуч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КТ технолог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здоровьесберегающие  технолог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оектного обуч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ехнология интенсификации  обучения  на основе схематических и знаковых моделей учебного материал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ехнология поэтапного развития умственных действ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6:13:15Z</dcterms:created>
  <dc:creator>х</dc:creator>
  <dc:description/>
  <dc:language>en-US</dc:language>
  <cp:lastModifiedBy>ASrock</cp:lastModifiedBy>
  <dcterms:modified xsi:type="dcterms:W3CDTF">2018-12-05T17:57:38Z</dcterms:modified>
  <cp:revision>548</cp:revision>
  <dc:subject/>
  <dc:title>Слайд 1</dc:title>
</cp:coreProperties>
</file>