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8.jpeg" ContentType="image/jpe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7.png" ContentType="image/png"/>
  <Override PartName="/ppt/media/image32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C05-5FE0-44B4-9519-5B66CC6A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28D-886E-44AE-898B-E7B6FC87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56E-615B-4440-90B2-B0A28E35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674-AA69-4F9D-B471-9CA25ECD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69F-1D5B-4962-A22F-F6763D69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D3C-E383-4D60-8276-8801739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9CE-1388-4FF6-B57B-9FE1CF4C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8AD-6C79-4702-B6C3-AC6D59B4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283-9244-4BCB-BD92-C4F84D19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4AA-6C41-42BD-9CEB-ED679ECC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457-2778-4740-85B4-CABDF42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AE8-CC61-4E24-86ED-CE501650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266C-810D-40A1-84D9-06351ADF2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jpeg"/><Relationship Id="rId11" Type="http://schemas.openxmlformats.org/officeDocument/2006/relationships/image" Target="../media/image39.png"/><Relationship Id="rId12" Type="http://schemas.openxmlformats.org/officeDocument/2006/relationships/image" Target="../media/image40.jpeg"/><Relationship Id="rId13" Type="http://schemas.openxmlformats.org/officeDocument/2006/relationships/image" Target="../media/image41.pn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player.myshared.ru/24/1272171/slides/slide_16.jpg"/>
          <p:cNvPicPr/>
          <p:nvPr/>
        </p:nvPicPr>
        <p:blipFill>
          <a:blip r:embed="rId1"/>
          <a:srcRect l="0" t="0" r="0" b="145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428760" y="47149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ПЕСОЧНАЯ ТЕРАПИЯ – путь к психологическому здоровью ребё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1066680"/>
            <a:ext cx="82296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7000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714760" y="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хника рисования на пес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143160" y="528624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3714840" y="3857760"/>
            <a:ext cx="2054160" cy="14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1143000" y="3286080"/>
            <a:ext cx="1871640" cy="150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1143000" y="2928960"/>
            <a:ext cx="1881360" cy="37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6143760" y="192888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143760" y="1500120"/>
            <a:ext cx="264312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0" y="428760"/>
            <a:ext cx="221940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9"/>
          <a:stretch/>
        </p:blipFill>
        <p:spPr>
          <a:xfrm>
            <a:off x="0" y="0"/>
            <a:ext cx="2214720" cy="51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10"/>
          <a:stretch/>
        </p:blipFill>
        <p:spPr>
          <a:xfrm>
            <a:off x="3214800" y="1357200"/>
            <a:ext cx="235728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11"/>
          <a:stretch/>
        </p:blipFill>
        <p:spPr>
          <a:xfrm>
            <a:off x="3214800" y="785880"/>
            <a:ext cx="242892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12"/>
          <a:stretch/>
        </p:blipFill>
        <p:spPr>
          <a:xfrm>
            <a:off x="6215040" y="498492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13"/>
          <a:stretch/>
        </p:blipFill>
        <p:spPr>
          <a:xfrm>
            <a:off x="6143760" y="4214880"/>
            <a:ext cx="2817720" cy="65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samopoznanie.ru/avatars/objects/3-159690_1_6.jpg?1478570846"/>
          <p:cNvPicPr/>
          <p:nvPr/>
        </p:nvPicPr>
        <p:blipFill>
          <a:blip r:embed="rId14"/>
          <a:stretch/>
        </p:blipFill>
        <p:spPr>
          <a:xfrm>
            <a:off x="0" y="5286240"/>
            <a:ext cx="275436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8"/>
          <p:cNvSpPr/>
          <p:nvPr/>
        </p:nvSpPr>
        <p:spPr>
          <a:xfrm>
            <a:off x="1500120" y="5000760"/>
            <a:ext cx="27860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рисов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player.myshared.ru/10/978298/slides/slide_8.jpg"/>
          <p:cNvPicPr/>
          <p:nvPr/>
        </p:nvPicPr>
        <p:blipFill>
          <a:blip r:embed="rId15"/>
          <a:stretch/>
        </p:blipFill>
        <p:spPr>
          <a:xfrm>
            <a:off x="3643200" y="1571760"/>
            <a:ext cx="3333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ФФЕКТ ПЕСОЧНОЙ ТЕРА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0" y="1071720"/>
            <a:ext cx="357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армонизация психо -эмоциональн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етей, снятие психическ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143760" y="10954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лучшение контакта с близкими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 flipH="1">
            <a:off x="5857920" y="407664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витие взаимодействия и 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6072120" y="285264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ктивизация словар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0" y="3573360"/>
            <a:ext cx="47862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ложительная динам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развит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разного мышления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актильной чувствительност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рительно-моторной  координ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риентировки в пространстве, сенсор -мотор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928800" y="28584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714240" y="1143000"/>
            <a:ext cx="77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 – Евстигнеева Т. Д. Чудеса на песке. Практикум по песочной игротерапии. – СПб.  Реч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-Евстигнеева Т. Д. Коррекционные, развивающие и  адаптирующие игры. — СПб.  Детство-Пресс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йц М. Пишем и рисуем на пес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ева С. Песочная терапия. //Ребенок в детском саду. – 2006. - №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нова Н. Песок – вода – ладошки. //Ребенок в детском саду. – 2010. -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player.myshared.ru/24/1272171/slides/slide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3" descr=""/>
          <p:cNvPicPr/>
          <p:nvPr/>
        </p:nvPicPr>
        <p:blipFill>
          <a:blip r:embed="rId2"/>
          <a:stretch/>
        </p:blipFill>
        <p:spPr>
          <a:xfrm>
            <a:off x="-237960" y="2120760"/>
            <a:ext cx="9619920" cy="2262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0" y="4071960"/>
            <a:ext cx="514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Самая лучшая игрушка для детей – кучка песка»      К.Д.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714240" y="214200"/>
            <a:ext cx="7929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ль данного меро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знакомить с нетрадиционным направлением здоровьесберегающих технологий –техникой игры и рисования пес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особствовать внедрению в практику работы педагогов инновационных методик и технологий, направленных на сохранение здоровья до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500120" y="2142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МНОГО  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100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 принцип терапии песком был предложен ещё Карлом Густавом Юнгом, замечательным психотерапевтом, основателем аналитическо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571920" y="2571840"/>
            <a:ext cx="5143320" cy="1557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асто руки знают, как распутать то, над чем тщетно бьётся раз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рл Густав Ю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1875 – 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0" y="514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.Г. Юнг утверждал, что процесс "игры в песок" высвобождает заблокированную энергию и "активизирует возможности самоисцеления, заложенные в человеческой псих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by-time.ru/upload/iblock/e05/25751367.jpg"/>
          <p:cNvPicPr/>
          <p:nvPr/>
        </p:nvPicPr>
        <p:blipFill>
          <a:blip r:embed="rId2"/>
          <a:stretch/>
        </p:blipFill>
        <p:spPr>
          <a:xfrm>
            <a:off x="428760" y="2143080"/>
            <a:ext cx="2928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821520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5183280" y="1785960"/>
            <a:ext cx="396072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85840" y="185724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нужно для игры в 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 нужно в сущности ,так м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, желанье, добр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б Вера в Детство не проп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ейший ящик из ст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красим голубою кра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сть золотистого пе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уда вольётся дивной сказ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грушек маленький н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зьмём в игру… Подобно Б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создадим свой мир Чуд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йдя познания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.Фролов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0960" y="0"/>
            <a:ext cx="87220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3643200" y="1500120"/>
            <a:ext cx="5500800" cy="1260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0" y="5072040"/>
            <a:ext cx="300024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донепроницаемый деревянный ящик (50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x70x8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 и чистый просеянный 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0" y="1500120"/>
            <a:ext cx="30002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3638520" y="2706840"/>
            <a:ext cx="5511960" cy="26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cs7058.vk.me/c540108/v540108872/19386/P37DDDsb08s.jpg"/>
          <p:cNvPicPr/>
          <p:nvPr/>
        </p:nvPicPr>
        <p:blipFill>
          <a:blip r:embed="rId6"/>
          <a:stretch/>
        </p:blipFill>
        <p:spPr>
          <a:xfrm>
            <a:off x="3143160" y="4803840"/>
            <a:ext cx="2214720" cy="205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v3toys.ru/kiwi-public-data/Kiwi_Img/sands_alive_sunken_castle_discovery_2508.jpg"/>
          <p:cNvPicPr/>
          <p:nvPr/>
        </p:nvPicPr>
        <p:blipFill>
          <a:blip r:embed="rId7"/>
          <a:stretch/>
        </p:blipFill>
        <p:spPr>
          <a:xfrm>
            <a:off x="7286760" y="5000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8"/>
          <a:stretch/>
        </p:blipFill>
        <p:spPr>
          <a:xfrm>
            <a:off x="4992840" y="5065560"/>
            <a:ext cx="2584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428760" y="35712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ДАЧИ ПЕСОЧНОЙ 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857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2459160" cy="45338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1" name="Прямоугольник 5"/>
          <p:cNvSpPr/>
          <p:nvPr/>
        </p:nvSpPr>
        <p:spPr>
          <a:xfrm>
            <a:off x="2981160" y="1071720"/>
            <a:ext cx="31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рекционно- разви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286080" y="2071800"/>
            <a:ext cx="252900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6643800" y="85716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6286680" y="1571760"/>
            <a:ext cx="2643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706320" y="334800"/>
            <a:ext cx="7712280" cy="622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0" y="1785960"/>
            <a:ext cx="2746440" cy="37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0" y="2143080"/>
            <a:ext cx="2435400" cy="240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5"/>
          <a:stretch/>
        </p:blipFill>
        <p:spPr>
          <a:xfrm>
            <a:off x="3357720" y="1785960"/>
            <a:ext cx="2143080" cy="5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6"/>
          <a:stretch/>
        </p:blipFill>
        <p:spPr>
          <a:xfrm>
            <a:off x="3368520" y="2286000"/>
            <a:ext cx="2132280" cy="167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7"/>
          <a:stretch/>
        </p:blipFill>
        <p:spPr>
          <a:xfrm>
            <a:off x="5715000" y="1785960"/>
            <a:ext cx="2889360" cy="37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8"/>
          <a:stretch/>
        </p:blipFill>
        <p:spPr>
          <a:xfrm>
            <a:off x="1143000" y="5521320"/>
            <a:ext cx="6418440" cy="13366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5"/>
          <p:cNvSpPr/>
          <p:nvPr/>
        </p:nvSpPr>
        <p:spPr>
          <a:xfrm>
            <a:off x="3697200" y="4721400"/>
            <a:ext cx="174960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 НА ПЕ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49320" y="-571680"/>
            <a:ext cx="9193320" cy="7643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714680" y="-642960"/>
            <a:ext cx="60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иды игр на пе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1801800" cy="571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85840" y="1916280"/>
            <a:ext cx="207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Экологические  и геогра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для ознакомления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Фанта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ст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-экскурсии по го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3429000" y="214200"/>
            <a:ext cx="2241720" cy="500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429000" y="1916280"/>
            <a:ext cx="20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прав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тактильно-кинестетической чувств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фонематического слуха и коррекцию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формирование элементарных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6572160" y="642960"/>
            <a:ext cx="2170080" cy="471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6429240" y="1989000"/>
            <a:ext cx="250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ндивидуальные и групповые игры для осуществления педагогической диагностики, коррекции развит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2"/>
          <a:stretch/>
        </p:blipFill>
        <p:spPr>
          <a:xfrm>
            <a:off x="1566720" y="208080"/>
            <a:ext cx="6297840" cy="938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0" y="2143080"/>
            <a:ext cx="4330800" cy="471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4262400" y="1214280"/>
            <a:ext cx="4881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9:09:57Z</dcterms:created>
  <dc:creator>Русич</dc:creator>
  <dc:description/>
  <dc:language>en-US</dc:language>
  <cp:lastModifiedBy>Звездочка</cp:lastModifiedBy>
  <dcterms:modified xsi:type="dcterms:W3CDTF">2020-07-15T09:33:44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2f0000000000010290110207f7000400038000</vt:lpwstr>
  </property>
</Properties>
</file>