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C642-614A-4EC1-A83F-F862D53C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AD6C-7A1C-4A29-9D13-B6A9C3AD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D52D-AA0B-433E-BD8B-A391E35A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6CBE-1B28-4053-AED4-B43E36B2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0B3E-CDF5-4EDF-AB94-15ED50A7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A831-6BEA-4855-A3AD-70E7EE7F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7C0E-7E61-4977-B468-7435652C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E041-11D0-4028-8C0E-A801CF25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5E7A-E249-4E49-9AFD-2FE61565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2E41-656B-46A2-B85C-70CF9CD5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4696-0958-4E78-B5BA-E9EBB034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8181-2CA8-4DA4-83D4-9BC1BE60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D528-89FB-4CF2-B5FC-7182EFFF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35F5-FC45-455D-B2A1-3779CC90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A110-9E19-49BD-847E-BBFD1B2A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8EC6-F02A-46A9-A639-D3465592A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202D-2994-48E6-BF74-80A5D79D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0CED-9A22-407C-B2B3-AD24C1B1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17F0-90C0-4C32-9C11-809534DC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268E-8FC4-4E83-8403-11D4BBDD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627-42B9-4126-B3C9-190EC9AD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5563-F1F7-45EF-B420-DFEB3181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15DE-B321-466D-9AE7-52010891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6008-0C7C-4592-BA83-97E67BB7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8ACB-C035-4F04-9A75-1B3964C3641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F693-177F-4598-9856-2583E2E2FDF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Памятка для родителей 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«Правила безопасности»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771640" y="5516640"/>
            <a:ext cx="58644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МБДОУ БГО ЦРР- детский сад №1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Подготовила воспитатель 1 кв.к Ломакина А.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чим ребёнка правилам безопасност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Защищайте своих детей, пока они не повзрослеют достаточно, чтобы овладеть специальными навыками безопасности.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Будьте терпеливы обучая детей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ни должны найти в Вашем лице дружелюбного и внимательного учителя. Вероятность травм ребёнка снизится, если не пожалеть времени и показать, как выполнять те или иные дела по дому, доступные ему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Животны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могут нанести травму ребёнку. Учите детей бережно ухаживать за ними, избегать опасных действи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Кислоты, лаки, растворител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и другая бытовая химия не должны храниться в посуде из-под напитков и всегда должны быть недоступны ребёнку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Лекарств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в том числе и витамины могут быть опасны ребёнку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пички и зажигалк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не игрушки для детей. Не оставляйте их в доступном для детей мест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Режущие и колющ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предметы храните в специально отведённых местах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Факты выпадений детей из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кон и балконо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убеждают, что они должны быть надёжно закрыты, если в комнате играют дет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«Это нельзя, а это можно»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такое пояснение важно для правильной ориентировки ребёнка в мире незнакомых ему вещей. Всегда говорите ребёнку, что ему можно делать, чем играть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Юные исследователи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это хорошо, но лучше, если они занимаются изучением предметов и механизмов вместе со взрослыми или рядо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15T15:36:57Z</dcterms:created>
  <dc:creator>Microsoft Office</dc:creator>
  <dc:description/>
  <dc:language>en-US</dc:language>
  <cp:lastModifiedBy>Microsoft Office</cp:lastModifiedBy>
  <dcterms:modified xsi:type="dcterms:W3CDTF">2020-07-15T16:54:45Z</dcterms:modified>
  <cp:revision>4</cp:revision>
  <dc:subject/>
  <dc:title>Памятка для родителей  «Помогите детям запомнить правила пожарной безопасности»</dc:title>
</cp:coreProperties>
</file>