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694B-8AC3-40AB-A4F8-1D8B5FAA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292D-5AED-494A-91BE-2B6317A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20F4-AC93-4DA7-BF48-ED9927D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CF2B-14BF-48E1-BACD-01ABC5AB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172C-77FA-42BF-A6D6-D2413CFB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39B-24FE-41E8-86EC-E3CE3920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4C14-F3D3-48CA-BEE7-5A78C694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DB5C-5253-4FFF-84FC-1A80EC6C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E136-0E54-4F8E-A1B2-D51A685C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7F8B-CBBA-47F6-B226-DD8D9C2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7F1-70B8-4C1E-B54F-9DF70FF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0111-45B1-4ADD-A2B5-142A03FA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891A-D83C-4BEA-8D67-FF10B76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E57C-BCEA-4792-AD97-79A75826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CCBA-D392-4474-A38D-8D5ADA0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6540-59BB-4E0F-A58F-1CC863B4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F7F5-7639-40D4-90D3-D34B42E5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7D45-4CF3-412C-B3DC-6011E8F9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2597-2AED-4F51-B31F-AE5A4E4F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EC1F-0824-41B4-B8F0-448D062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C3E3-9C14-414D-8C21-A1421160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25B1-5394-4F78-9FC2-76D3B831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6BC0-BB5E-45F4-9A89-5699444E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BF6B-279C-4F1F-9056-A2067F3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4BAB-29C3-48DB-8E38-36CE43F8D3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553-6553-4DA0-ABCE-20613DE4D9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Проект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«Волшебное слово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средней груп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тьева  Валентина  Серг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дагог 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Russkaya_narodnaya_-_Vo_pole_bereza_stoyala_minus__(get-tune.net).mp3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85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еседа «Давайте познакомимся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2" descr="C:\Users\Надежда\Desktop\Новая папка (3)\IMG_1354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2" descr="C:\Users\Надежда\Desktop\Новая папка (3)\IMG_1355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еседа – игра «Доброе утро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2" descr="C:\Users\Надежда\Desktop\Новая папка (3)\IMG_3471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Надежда\Desktop\Новая папка (3)\IMG_3473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 садик  - с хорошим настроением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2" descr="C:\Users\Надежда\Desktop\Новая папка (3)\IMG_3456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Надежда\Desktop\Новая папка (3)\IMG_3457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ОД «Вежливое слово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2" descr="C:\Users\Надежда\Desktop\Новая папка (3)\IMG_1347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Picture 2" descr="C:\Users\Надежда\Desktop\Новая папка (3)\IMG_1347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Users\Надежда\Desktop\Новая папка (3)\IMG_1349 (2)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ение художественной литера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2" descr="C:\Users\Надежда\Desktop\Новая папка (3)\IMG_3459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Надежда\Desktop\Новая папка (3)\IMG_3460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южетно – ролевая игр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« Магазин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2" descr="C:\Users\Надежда\Desktop\фото\IMG_3428.JPG"/>
          <p:cNvPicPr/>
          <p:nvPr/>
        </p:nvPicPr>
        <p:blipFill>
          <a:blip r:embed="rId1"/>
          <a:stretch/>
        </p:blipFill>
        <p:spPr>
          <a:xfrm>
            <a:off x="1143000" y="18828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Учимся разговаривать вежлив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Picture 2" descr="C:\Users\Надежда\Desktop\фото\IMG_3431.JPG"/>
          <p:cNvPicPr/>
          <p:nvPr/>
        </p:nvPicPr>
        <p:blipFill>
          <a:blip r:embed="rId1"/>
          <a:stretch/>
        </p:blipFill>
        <p:spPr>
          <a:xfrm>
            <a:off x="1143000" y="18828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южетно – ролевая игра «День рождение куклы Маши»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Picture 2" descr="C:\Users\Надежда\Desktop\фото\IMG_3434.JPG"/>
          <p:cNvPicPr/>
          <p:nvPr/>
        </p:nvPicPr>
        <p:blipFill>
          <a:blip r:embed="rId1"/>
          <a:stretch/>
        </p:blipFill>
        <p:spPr>
          <a:xfrm>
            <a:off x="1143000" y="18828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Воспитывать любовь и уважение к окружающим людя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чить   детей  правилам речевого этикета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учить анализировать свои поступки и поступки литературных героев, развивать связную речь, коммуникативные навыки, мышление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воспитывать дружеские взаимоотношения со сверстниками, желание создать радостное настроение окружающим, относиться друг к другу доброжелательн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Russkaya_narodnaya_-_Vo_pole_bereza_stoyala_minus__(get-tune.net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585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Угощение для гост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2" descr="C:\Users\Надежда\Desktop\фото\IMG_3438.JPG"/>
          <p:cNvPicPr/>
          <p:nvPr/>
        </p:nvPicPr>
        <p:blipFill>
          <a:blip r:embed="rId1"/>
          <a:stretch/>
        </p:blipFill>
        <p:spPr>
          <a:xfrm>
            <a:off x="1143000" y="18828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кусненько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2" descr="C:\Users\Надежда\Desktop\фото\IMG_3440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Надежда\Desktop\фото\IMG_3441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ОД «Правила вежливо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2" descr="C:\Users\Надежда\Desktop\Новая папка (3)\IMG_0607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тгадывание загадо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Picture 2" descr="C:\Users\Надежда\Desktop\Новая папка (3)\IMG_0610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изминутк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2" descr="C:\Users\Надежда\Desktop\Новая папка (3)\IMG_0609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ппликация «Волшебный цвето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2" descr="C:\Users\Надежда\Desktop\фото\IMG_3443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Надежда\Desktop\фото\IMG_3448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ы старалис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Picture 2" descr="C:\Users\Надежда\Desktop\фото\IMG_3450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 у нас получилось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Picture 2" descr="C:\Users\Надежда\Desktop\Новая папка (3)\IMG_3465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онсультации для родител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Picture 2" descr="C:\Users\Надежда\Desktop\Новая папка (3)\IMG_3453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Надежда\Desktop\Новая папка (3)\IMG_3454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2" descr="C:\Users\Надежда\Desktop\Новая папка (3)\IMG_3467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Надежда\Desktop\Новая папка (3)\IMG_3468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Этапы работы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икторина «Самый вежливый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2" descr="C:\Users\Надежда\Desktop\Новая папка (3)\IMG_1350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Users\Надежда\Desktop\Новая папка (3)\IMG_1351 (2)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епка «Волшебный цвето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6" name="Picture 2" descr="C:\Users\Надежда\Desktop\Новая папка (3)\IMG_3461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Надежда\Desktop\Новая папка (3)\IMG_3463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кет «Волшебный цвето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9" name="Picture 2" descr="C:\Users\Надежда\Desktop\Новая папка (3)\IMG_0626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ссматривание маке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2" descr="C:\Users\Надежда\Desktop\Новая папка (3)\IMG_0612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суждение пословиц и поговоро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3" name="Picture 2" descr="C:\Users\Надежда\Desktop\Новая папка (3)\IMG_1356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Надежда\Desktop\Новая папка (3)\IMG_1357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ыставка творческих рабо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6" name="Picture 2" descr="C:\Users\Надежда\Desktop\Новая папка (3)\IMG_0622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8" name="Picture 2" descr="C:\Users\Надежда\Desktop\Новая папка (3)\IMG_0623.JPG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Надежда\Desktop\Новая папка (3)\IMG_0624.JPG"/>
          <p:cNvPicPr/>
          <p:nvPr/>
        </p:nvPicPr>
        <p:blipFill>
          <a:blip r:embed="rId2"/>
          <a:stretch/>
        </p:blipFill>
        <p:spPr>
          <a:xfrm>
            <a:off x="4648320" y="25192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" name="Picture 2" descr="C:\Users\Надежда\Desktop\Новая папка (3)\IMG_0625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1 Подготовительный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исковая работа по подбору материала для продукти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пределение объекта из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суждение плана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бор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дбор иллюстраций, кар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2 Исследовательский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амостоятельная творческая работа дошко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оведение Н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3 Заключительный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Обобщение результатов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ыставка детских работ «Волшебный цветок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Д «Вежливые сло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imes New Roman"/>
              </a:rPr>
              <a:t>Практический выход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макета «Волшебный цвето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НОД «Волшебные сло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Аппликация «Волшебный цвето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Выставка творческих раб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Тематический план к проекту</a:t>
            </a:r>
            <a:br>
              <a:rPr sz="4200"/>
            </a:b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«Волшебные слова»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03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а «Доброе утро».  Чтение русской народной сказки «Заюшкина избуш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гадывание загадок «Вежливые слова». Беседа-игра «Давай познакомимс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Д « Дружба начинается с улыб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мотр мультфильмов «Жадина», «Кот Леопольд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ение стихотворений о вежливых слов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пка: «Изготовление волшебного цвет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атривание иллюстраций «Хорошо – плохо». НОД «Вежливое слов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ение сказки С.Прокофьева «Сказка о невоспитанном мышонк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суждение пословиц и поговорок о вежливых слов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южетно-ролевые игры: «День рождение куклы», «Магази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мотр мультфильма «Уроки вежливости тетушки Сов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Д «Правила вежливо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ппликация «Волшебный цветок». Разучивание песенки друз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Д «Вежливые сло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4:03Z</dcterms:created>
  <dc:creator>Надежда</dc:creator>
  <dc:description/>
  <dc:language>en-US</dc:language>
  <cp:lastModifiedBy>LUTIKI</cp:lastModifiedBy>
  <dcterms:modified xsi:type="dcterms:W3CDTF">2020-07-15T15:49:05Z</dcterms:modified>
  <cp:revision>30</cp:revision>
  <dc:subject/>
  <dc:title>Проект  « Белоствольная береза»</dc:title>
</cp:coreProperties>
</file>