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7.png" ContentType="image/png"/>
  <Override PartName="/ppt/media/image34.jpeg" ContentType="image/jpeg"/>
  <Override PartName="/ppt/media/image29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.gif" ContentType="image/gif"/>
  <Override PartName="/ppt/media/image33.jpeg" ContentType="image/jpeg"/>
  <Override PartName="/ppt/media/image9.png" ContentType="image/png"/>
  <Override PartName="/ppt/media/image12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6.gif" ContentType="image/gif"/>
  <Override PartName="/ppt/media/image21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79DD-1F38-44E5-A50C-A0D487E1D2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C323-0076-440E-ACD6-39199F3849A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2843-3CF8-4DA4-A497-68DA94C4F5D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ABE9-3C7C-479A-B73F-E08F0F0D6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9D16-9FDD-4EB5-B5F2-C934DA9F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1690-8DA8-49AF-BFF8-2452895BA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7AD0-804F-4B9B-BA3F-55FD11006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651D-645B-4588-B461-869A08DB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285C4-61CB-44DA-8471-0323EAF37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BBA52-E35A-47CD-86AC-C1600D69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63C00-E443-49CA-9750-52103E81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2866A-71A2-4C74-BCF9-E9F2D96C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3E4D7-E316-4F1B-9804-B4D14B4C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F8C7-F6DF-462D-81D5-4B8FAD10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7A2BC-94BC-45D6-93B1-6F8A0542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A86C4-273F-4A6D-9701-AD2A97A2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40FAB-A753-49AD-99C7-EB2D0438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94490-E2AC-4A40-83CF-40A4BB4D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2EB4E-EBC8-49AC-B06B-B72826A3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FCCD7-B910-445A-AF72-555EFFF7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23921-727A-41B6-B5F8-2D0EDB4C0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55402-DADE-4A28-B379-4C810D68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EAD17-81F6-442C-B949-C87382EA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8236E-D458-4AF9-BEF1-53F4B2C8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8B3D-DB9E-41FA-9167-3E2FD8A5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9B5E0-6F67-45A5-829C-2CB2DEBB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FA650-F3B7-411C-AB89-4FBFC833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254BC-6AE6-4713-AF2E-04BCE4E8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985B7-4008-4C2D-9A4F-75DCECA1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C5C3F-4E67-4F01-BFD2-0E0B2081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D7CA1-9590-4201-8EAE-5D52C2D8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F9271-1C20-47C6-BC1B-21D172E4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086CC-24BA-43B7-9FFD-9BEED8C6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E02ED-38F3-4286-A4E7-D436C3558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BDBAC-7C80-4A7F-8D70-0104D027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7469-D8A8-423D-9E52-202AFF5E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BF952-E5E1-47E1-AD7F-E5355919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A727C-96F3-496A-B159-B69FD023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13657-675E-406C-BE0A-B24DCE2E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BD4AD-2C8D-49E4-B5DF-9017E895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3A6B7-E08A-439F-952B-E11EA696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8F7CA-DC11-4F9F-A1FC-7A1FF9CC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ED4EC-E7CF-49DF-AE4A-9A98BDDB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40DCB-ADB3-4F5A-BBCF-A5A2CC6A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0C9A3-B465-4717-A1DC-4C344DEE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24756-ECED-473E-988B-C64D180CE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7E57-AA40-4A13-B695-E6F354EC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AFABD-AF96-4E2E-B871-D658ED3A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BE677-6DB8-4C68-9DE1-0D328D70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5C17D-64E6-4621-B2EB-55351B0B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4EEB1-AEC4-45C7-8186-90B3769F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07F6A-26D8-4964-ABC7-E4B0E6D3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78985-C86E-426A-97D0-12B8BE74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F67B4-FD26-4F1C-8E1F-4413F1A4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4159E-8B4E-45CD-9B6F-D37CCF1A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00FBC-9422-4349-8B45-1177A86C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6D420-A19B-4F6E-8C07-76D678E9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00C0-AD18-4768-BF57-485D1BA5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8C968-1E8E-4A87-8B94-405960C9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E7CCC-6AED-4A3A-A479-9F316AAF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49209-4EEF-422C-963B-98E371BA6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4BAF9-D31F-44C2-8B98-60AC3233A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0DA3D-071F-495E-A3DC-C0721AB1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9D8CA-2786-494F-B188-185C7EA3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EEB03-E784-44B8-B683-BC5F4377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810BC-979F-48F3-A8EB-5F427D38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779BA-FB3F-4018-84F4-78F6DA48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1B29C-E455-4721-A692-5A98B521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28A3-2A50-4BA8-88F7-6D4FAB4C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78A0F-0528-4FA2-B5E8-6A966D6F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8FE76-7A2C-4625-9EF4-50F3BEC7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CDF32-05BA-41FF-ACD6-C527DB19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B88D1-583B-4D48-9ACE-40F1E397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7CEC3-DDE6-4FCA-AA0C-AEFECC76C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FBAC4-2F28-4D8A-90EC-09FE7318A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25580-9F4D-49C9-B212-BF58BBA3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C8691-1B82-4A7A-8842-5450762C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A1C03-460D-46B3-9C7D-198B416B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F337B-1CA8-4572-AA1B-75A334A9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48BD-D4C0-482A-A52B-6A50F0F3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4D06B-9D56-4C37-9933-5A1D37F8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F5EDD-215B-4E6A-9049-50C16099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B78CE-E827-455B-9EBD-3C4A7D79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E839B-CC03-4F0B-90E8-D3317008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17BC7-0650-451C-B4B0-43B74376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E0485-F302-4D66-9B60-00110E6E6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E3CF4-BBB4-49AD-B1A3-EE6E692B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3F8D-C639-41CE-B14A-BF55A4A38A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5d1d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1634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b4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cada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c7b7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44AF-0A6E-40F1-9D59-14A1913A4A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5d1d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олилиния 3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4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1634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b4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cada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c7b7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" bIns="-464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99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99e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360" bIns="-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99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9B46-8F48-4528-8E28-51B5B5E1171E}" type="slidenum">
              <a:rPr b="0" lang="ru-RU" sz="1000" spc="-1" strike="noStrike">
                <a:solidFill>
                  <a:srgbClr val="90999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5d1d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1634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b4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cada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c7b7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" bIns="-464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99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99e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360" bIns="-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99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A253-32D0-420D-B3CB-3A2C5F63A243}" type="slidenum">
              <a:rPr b="0" lang="ru-RU" sz="1000" spc="-1" strike="noStrike">
                <a:solidFill>
                  <a:srgbClr val="90999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5d1d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олилиния 3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олилиния 4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1634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b4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cada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c7b7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" bIns="-464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99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99e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360" bIns="-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99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153B-0C08-4FB0-9410-7C84E8AE7844}" type="slidenum">
              <a:rPr b="0" lang="ru-RU" sz="1000" spc="-1" strike="noStrike">
                <a:solidFill>
                  <a:srgbClr val="90999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5d1d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1634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b4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cada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c7b7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99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99e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99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DB4C-330B-4505-AC3C-6132E7DB38F4}" type="slidenum">
              <a:rPr b="0" lang="ru-RU" sz="1000" spc="-1" strike="noStrike">
                <a:solidFill>
                  <a:srgbClr val="90999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5d1d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1634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b4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cada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c7b7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" bIns="-464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99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99e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360" bIns="-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99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BC35-3926-4138-AACD-40988CD37CF9}" type="slidenum">
              <a:rPr b="0" lang="ru-RU" sz="1000" spc="-1" strike="noStrike">
                <a:solidFill>
                  <a:srgbClr val="90999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hyperlink" Target="http://www.google.ru/imgres?imgurl=http://www.kaliteliresimler.com/data/media/144/kzl_tilki.jpg&amp;imgrefurl=http://www.kaliteliresimler.com/img1761.htm&amp;usg=__oieLCo0dCAYDAjbchhyCz9AytCI=&amp;h=853&amp;w=800&amp;sz=97&amp;hl=ru&amp;start=9&amp;zoom=1&amp;um=1&amp;itbs=1&amp;tbnid=6JvOO2is3huRFM:&amp;tbnh=145&amp;tbnw=136&amp;prev=/images%3Fq%3D%25D0%25BB%25D0%25B8%25D1%2581%25D0%25B0%26um%3D1%26hl%3Dru%26newwindow%3D1%26tbs%3Disch:1" TargetMode="External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Рисунок 1" descr="http://player.myshared.ru/216149/data/images/img14.jpg"/>
          <p:cNvPicPr/>
          <p:nvPr/>
        </p:nvPicPr>
        <p:blipFill>
          <a:blip r:embed="rId1"/>
          <a:stretch/>
        </p:blipFill>
        <p:spPr>
          <a:xfrm>
            <a:off x="785880" y="1028880"/>
            <a:ext cx="2786040" cy="480060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2" descr="http://creationwiki.org/pool/images/thumb/8/87/Continental_drift.jpg/400px-Continental_drift.jpg"/>
          <p:cNvPicPr/>
          <p:nvPr/>
        </p:nvPicPr>
        <p:blipFill>
          <a:blip r:embed="rId2"/>
          <a:stretch/>
        </p:blipFill>
        <p:spPr>
          <a:xfrm>
            <a:off x="4786200" y="1071720"/>
            <a:ext cx="3357720" cy="4786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940000" y="404640"/>
            <a:ext cx="2746440" cy="5329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Franklin Gothic Book"/>
              </a:rPr>
              <a:t>Южная </a:t>
            </a:r>
            <a:br>
              <a:rPr sz="4600"/>
            </a:br>
            <a:br>
              <a:rPr sz="4600"/>
            </a:br>
            <a:r>
              <a:rPr b="0" lang="ru-RU" sz="4600" spc="-1" strike="noStrike">
                <a:solidFill>
                  <a:srgbClr val="000000"/>
                </a:solidFill>
                <a:latin typeface="Franklin Gothic Book"/>
              </a:rPr>
              <a:t>Америк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69" name="Picture 3" descr="Scan10060"/>
          <p:cNvPicPr/>
          <p:nvPr/>
        </p:nvPicPr>
        <p:blipFill>
          <a:blip r:embed="rId1"/>
          <a:stretch/>
        </p:blipFill>
        <p:spPr>
          <a:xfrm>
            <a:off x="179280" y="189000"/>
            <a:ext cx="5329440" cy="64483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7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70" fill="hold"/>
                                        <p:tgtEl>
                                          <p:spTgt spid="3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&amp;t=1&amp;usg=__j5TGetaPufAwTAuGDpyV2J7fxlU="/>
          <p:cNvPicPr/>
          <p:nvPr/>
        </p:nvPicPr>
        <p:blipFill>
          <a:blip r:embed="rId1"/>
          <a:stretch/>
        </p:blipFill>
        <p:spPr>
          <a:xfrm>
            <a:off x="4716360" y="1413000"/>
            <a:ext cx="3959280" cy="49687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&amp;t=1&amp;usg=__rZTFeEKfEJk5B90AO9cRtQJBXFI="/>
          <p:cNvPicPr/>
          <p:nvPr/>
        </p:nvPicPr>
        <p:blipFill>
          <a:blip r:embed="rId2"/>
          <a:stretch/>
        </p:blipFill>
        <p:spPr>
          <a:xfrm>
            <a:off x="900000" y="1413000"/>
            <a:ext cx="3384720" cy="49766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Franklin Gothic Book"/>
              </a:rPr>
              <a:t>Северная и Южная Америк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1627200" y="92160"/>
            <a:ext cx="5389560" cy="14191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" descr="E:\Документы\География\NEW (G)\RES\Class7\Географическое положение Африки.jpg"/>
          <p:cNvPicPr/>
          <p:nvPr/>
        </p:nvPicPr>
        <p:blipFill>
          <a:blip r:embed="rId2"/>
          <a:stretch/>
        </p:blipFill>
        <p:spPr>
          <a:xfrm>
            <a:off x="785880" y="1643040"/>
            <a:ext cx="7566120" cy="5043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grpSp>
        <p:nvGrpSpPr>
          <p:cNvPr id="375" name="Управляющая кнопка: возврат 6"/>
          <p:cNvGrpSpPr/>
          <p:nvPr/>
        </p:nvGrpSpPr>
        <p:grpSpPr>
          <a:xfrm>
            <a:off x="0" y="6858000"/>
            <a:ext cx="669960" cy="457200"/>
            <a:chOff x="0" y="6858000"/>
            <a:chExt cx="669960" cy="457200"/>
          </a:xfrm>
        </p:grpSpPr>
        <p:pic>
          <p:nvPicPr>
            <p:cNvPr id="376" name="Управляющая кнопка: возврат 6" descr=""/>
            <p:cNvPicPr/>
            <p:nvPr/>
          </p:nvPicPr>
          <p:blipFill>
            <a:blip r:embed="rId3"/>
            <a:stretch/>
          </p:blipFill>
          <p:spPr>
            <a:xfrm>
              <a:off x="0" y="6858000"/>
              <a:ext cx="6699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Text Box 6"/>
            <p:cNvSpPr/>
            <p:nvPr/>
          </p:nvSpPr>
          <p:spPr>
            <a:xfrm>
              <a:off x="85680" y="6943680"/>
              <a:ext cx="5000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125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Franklin Gothic Book"/>
              </a:rPr>
              <a:t>Африк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79" name="Picture 3" descr="an_slon"/>
          <p:cNvPicPr/>
          <p:nvPr/>
        </p:nvPicPr>
        <p:blipFill>
          <a:blip r:embed="rId1"/>
          <a:stretch/>
        </p:blipFill>
        <p:spPr>
          <a:xfrm>
            <a:off x="1619280" y="1090440"/>
            <a:ext cx="5905440" cy="5567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Franklin Gothic Book"/>
              </a:rPr>
              <a:t>Африк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81" name="Picture 3" descr="1269965783_37"/>
          <p:cNvPicPr/>
          <p:nvPr/>
        </p:nvPicPr>
        <p:blipFill>
          <a:blip r:embed="rId1"/>
          <a:stretch/>
        </p:blipFill>
        <p:spPr>
          <a:xfrm>
            <a:off x="826920" y="1341360"/>
            <a:ext cx="7496280" cy="5032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4" descr="2336_fanz"/>
          <p:cNvPicPr/>
          <p:nvPr/>
        </p:nvPicPr>
        <p:blipFill>
          <a:blip r:embed="rId1"/>
          <a:stretch/>
        </p:blipFill>
        <p:spPr>
          <a:xfrm>
            <a:off x="611280" y="476280"/>
            <a:ext cx="7705800" cy="5694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Franklin Gothic Book"/>
              </a:rPr>
              <a:t>Австралия</a:t>
            </a:r>
            <a:endParaRPr b="0" lang="en-US" sz="6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84" name="Заголовок 1" descr=""/>
          <p:cNvPicPr/>
          <p:nvPr/>
        </p:nvPicPr>
        <p:blipFill>
          <a:blip r:embed="rId1"/>
          <a:stretch/>
        </p:blipFill>
        <p:spPr>
          <a:xfrm>
            <a:off x="1852560" y="19080"/>
            <a:ext cx="5505480" cy="14256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" descr="E:\Документы\География\NEW (G)\RES\Class7\Географическое положение Австралии.jpg"/>
          <p:cNvPicPr/>
          <p:nvPr/>
        </p:nvPicPr>
        <p:blipFill>
          <a:blip r:embed="rId2"/>
          <a:stretch/>
        </p:blipFill>
        <p:spPr>
          <a:xfrm>
            <a:off x="797040" y="1600200"/>
            <a:ext cx="7458120" cy="4971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0000"/>
                </a:solidFill>
                <a:latin typeface="Forte"/>
              </a:rPr>
              <a:t>Символ Австралии — кенгуру</a:t>
            </a:r>
            <a:r>
              <a:rPr b="1" lang="ru-RU" sz="3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87" name="Picture 4" descr="kenguru1"/>
          <p:cNvPicPr/>
          <p:nvPr/>
        </p:nvPicPr>
        <p:blipFill>
          <a:blip r:embed="rId1"/>
          <a:stretch/>
        </p:blipFill>
        <p:spPr>
          <a:xfrm>
            <a:off x="5181480" y="2763720"/>
            <a:ext cx="3962520" cy="4094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kangori"/>
          <p:cNvPicPr/>
          <p:nvPr/>
        </p:nvPicPr>
        <p:blipFill>
          <a:blip r:embed="rId2"/>
          <a:stretch/>
        </p:blipFill>
        <p:spPr>
          <a:xfrm>
            <a:off x="0" y="1557360"/>
            <a:ext cx="5508720" cy="4113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940000" y="189000"/>
            <a:ext cx="2737080" cy="27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Franklin Gothic Book"/>
              </a:rPr>
              <a:t>Дикая собака динго – коренной житель Австралии</a:t>
            </a:r>
            <a:endParaRPr b="0" lang="en-US" sz="33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9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69916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Franklin Gothic Book"/>
              </a:rPr>
              <a:t>Самые яркие по окраске птицы тоже живут в Австралии</a:t>
            </a:r>
            <a:endParaRPr b="0" lang="en-US" sz="3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467480" cy="4525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9" descr="планета земля"/>
          <p:cNvPicPr/>
          <p:nvPr/>
        </p:nvPicPr>
        <p:blipFill>
          <a:blip r:embed="rId1"/>
          <a:stretch/>
        </p:blipFill>
        <p:spPr>
          <a:xfrm>
            <a:off x="2627280" y="2708280"/>
            <a:ext cx="367200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ru-RU" sz="4600" spc="-1" strike="noStrike">
                <a:solidFill>
                  <a:srgbClr val="000000"/>
                </a:solidFill>
                <a:latin typeface="Franklin Gothic Book"/>
              </a:rPr>
              <a:t>Антарктида</a:t>
            </a: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94" name="Picture 6" descr="3"/>
          <p:cNvPicPr/>
          <p:nvPr/>
        </p:nvPicPr>
        <p:blipFill>
          <a:blip r:embed="rId1"/>
          <a:stretch/>
        </p:blipFill>
        <p:spPr>
          <a:xfrm>
            <a:off x="468360" y="1484280"/>
            <a:ext cx="7704000" cy="5113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4" descr="1"/>
          <p:cNvPicPr/>
          <p:nvPr/>
        </p:nvPicPr>
        <p:blipFill>
          <a:blip r:embed="rId1"/>
          <a:stretch/>
        </p:blipFill>
        <p:spPr>
          <a:xfrm>
            <a:off x="468360" y="549360"/>
            <a:ext cx="8136000" cy="5472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Box 6"/>
          <p:cNvSpPr/>
          <p:nvPr/>
        </p:nvSpPr>
        <p:spPr>
          <a:xfrm>
            <a:off x="1116000" y="907920"/>
            <a:ext cx="640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для групп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Подпишите название матер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Проставьте цифры тех изображений которые соответствуют данному матери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Рисунок 1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91864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утешествие по материкам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2" name="Picture 4" descr="789"/>
          <p:cNvPicPr/>
          <p:nvPr/>
        </p:nvPicPr>
        <p:blipFill>
          <a:blip r:embed="rId1"/>
          <a:stretch/>
        </p:blipFill>
        <p:spPr>
          <a:xfrm>
            <a:off x="2987640" y="3500280"/>
            <a:ext cx="2808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Содержимое 2"/>
          <p:cNvGrpSpPr/>
          <p:nvPr/>
        </p:nvGrpSpPr>
        <p:grpSpPr>
          <a:xfrm>
            <a:off x="341280" y="128520"/>
            <a:ext cx="8358120" cy="2102040"/>
            <a:chOff x="341280" y="128520"/>
            <a:chExt cx="8358120" cy="2102040"/>
          </a:xfrm>
        </p:grpSpPr>
        <p:pic>
          <p:nvPicPr>
            <p:cNvPr id="344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341280" y="128520"/>
              <a:ext cx="8358120" cy="210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Text Box 3"/>
            <p:cNvSpPr/>
            <p:nvPr/>
          </p:nvSpPr>
          <p:spPr>
            <a:xfrm>
              <a:off x="428760" y="214200"/>
              <a:ext cx="818676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19040" indent="-382680"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Arial"/>
                </a:rPr>
                <a:t>Огромные участки суши, со всех сторон окружённые водой </a:t>
              </a: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– эт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419040" indent="-3826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ru-RU" sz="4400" spc="-1" strike="noStrike">
                  <a:solidFill>
                    <a:srgbClr val="002060"/>
                  </a:solidFill>
                  <a:latin typeface="Arial"/>
                </a:rPr>
                <a:t>МАТЕРИКИ</a:t>
              </a:r>
              <a:r>
                <a:rPr b="1" i="1" lang="ru-RU" sz="4000" spc="-1" strike="noStrike">
                  <a:solidFill>
                    <a:srgbClr val="ffffff"/>
                  </a:solidFill>
                  <a:latin typeface="Arial"/>
                </a:rPr>
                <a:t>, </a:t>
              </a:r>
              <a:r>
                <a:rPr b="1" i="1" lang="ru-RU" sz="2800" spc="-1" strike="noStrike">
                  <a:solidFill>
                    <a:srgbClr val="ffffff"/>
                  </a:solidFill>
                  <a:latin typeface="Arial"/>
                </a:rPr>
                <a:t>ИЛИ</a:t>
              </a:r>
              <a:r>
                <a:rPr b="1" i="1" lang="ru-RU" sz="4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ru-RU" sz="3600" spc="-1" strike="noStrike">
                  <a:solidFill>
                    <a:srgbClr val="002060"/>
                  </a:solidFill>
                  <a:latin typeface="Arial"/>
                </a:rPr>
                <a:t>КОНТИНЕНТЫ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TextBox 4"/>
          <p:cNvSpPr/>
          <p:nvPr/>
        </p:nvSpPr>
        <p:spPr>
          <a:xfrm>
            <a:off x="0" y="3286080"/>
            <a:ext cx="4786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2" descr="E:\Документы\Мои рисунки\рисунки\space_099.jpg"/>
          <p:cNvPicPr/>
          <p:nvPr/>
        </p:nvPicPr>
        <p:blipFill>
          <a:blip r:embed="rId2"/>
          <a:stretch/>
        </p:blipFill>
        <p:spPr>
          <a:xfrm>
            <a:off x="971640" y="2133720"/>
            <a:ext cx="7143840" cy="452736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26"/>
          <p:cNvSpPr/>
          <p:nvPr/>
        </p:nvSpPr>
        <p:spPr>
          <a:xfrm>
            <a:off x="5848200" y="280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27"/>
          <p:cNvSpPr/>
          <p:nvPr/>
        </p:nvSpPr>
        <p:spPr>
          <a:xfrm>
            <a:off x="5067720" y="2676600"/>
            <a:ext cx="17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враз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28"/>
          <p:cNvSpPr/>
          <p:nvPr/>
        </p:nvSpPr>
        <p:spPr>
          <a:xfrm>
            <a:off x="4214880" y="3933720"/>
            <a:ext cx="155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фр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29"/>
          <p:cNvSpPr/>
          <p:nvPr/>
        </p:nvSpPr>
        <p:spPr>
          <a:xfrm>
            <a:off x="6535080" y="48639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страл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30"/>
          <p:cNvSpPr/>
          <p:nvPr/>
        </p:nvSpPr>
        <p:spPr>
          <a:xfrm>
            <a:off x="2606400" y="4456080"/>
            <a:ext cx="148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Южн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мер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32"/>
          <p:cNvSpPr/>
          <p:nvPr/>
        </p:nvSpPr>
        <p:spPr>
          <a:xfrm>
            <a:off x="1761480" y="2676600"/>
            <a:ext cx="188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евер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мер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33"/>
          <p:cNvSpPr/>
          <p:nvPr/>
        </p:nvSpPr>
        <p:spPr>
          <a:xfrm>
            <a:off x="4714200" y="613872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таркти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7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70" fill="hold"/>
                                        <p:tgtEl>
                                          <p:spTgt spid="3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3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3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3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7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70" fill="hold"/>
                                        <p:tgtEl>
                                          <p:spTgt spid="3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1914480" y="19080"/>
            <a:ext cx="5388120" cy="14256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"/>
          <p:cNvPicPr/>
          <p:nvPr/>
        </p:nvPicPr>
        <p:blipFill>
          <a:blip r:embed="rId2"/>
          <a:stretch/>
        </p:blipFill>
        <p:spPr>
          <a:xfrm>
            <a:off x="857160" y="1571760"/>
            <a:ext cx="7500960" cy="5000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&amp;t=1&amp;usg=__Tes_AHR2jSSdZ9r1_97rvT63q-Q="/>
          <p:cNvPicPr/>
          <p:nvPr/>
        </p:nvPicPr>
        <p:blipFill>
          <a:blip r:embed="rId1"/>
          <a:stretch/>
        </p:blipFill>
        <p:spPr>
          <a:xfrm>
            <a:off x="324000" y="1700280"/>
            <a:ext cx="4392360" cy="2933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&amp;t=1&amp;usg=__VpvytmX4YUTzLijtpPMwoyjKCnA="/>
          <p:cNvPicPr/>
          <p:nvPr/>
        </p:nvPicPr>
        <p:blipFill>
          <a:blip r:embed="rId2"/>
          <a:stretch/>
        </p:blipFill>
        <p:spPr>
          <a:xfrm>
            <a:off x="4859280" y="3213000"/>
            <a:ext cx="4056120" cy="29178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Franklin Gothic Book"/>
              </a:rPr>
              <a:t>Евразия</a:t>
            </a:r>
            <a:endParaRPr b="0" lang="en-US" sz="4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Franklin Gothic Book"/>
              </a:rPr>
              <a:t>Евразия</a:t>
            </a:r>
            <a:endParaRPr b="0" lang="en-US" sz="4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61" name="Picture 3" descr="&amp;t=1&amp;usg=__2oqIlP5vykw1NT4VfU4B1qMYARQ="/>
          <p:cNvPicPr/>
          <p:nvPr/>
        </p:nvPicPr>
        <p:blipFill>
          <a:blip r:embed="rId1"/>
          <a:stretch/>
        </p:blipFill>
        <p:spPr>
          <a:xfrm>
            <a:off x="539640" y="119700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volf"/>
          <p:cNvPicPr/>
          <p:nvPr/>
        </p:nvPicPr>
        <p:blipFill>
          <a:blip r:embed="rId2"/>
          <a:stretch/>
        </p:blipFill>
        <p:spPr>
          <a:xfrm>
            <a:off x="3851280" y="2492280"/>
            <a:ext cx="2306520" cy="29322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ph04695"/>
          <p:cNvPicPr/>
          <p:nvPr/>
        </p:nvPicPr>
        <p:blipFill>
          <a:blip r:embed="rId3"/>
          <a:stretch/>
        </p:blipFill>
        <p:spPr>
          <a:xfrm>
            <a:off x="6324480" y="1371600"/>
            <a:ext cx="2048040" cy="25718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kzl_tilki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55640" y="3716280"/>
            <a:ext cx="2720880" cy="29005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1215786513_3"/>
          <p:cNvPicPr/>
          <p:nvPr/>
        </p:nvPicPr>
        <p:blipFill>
          <a:blip r:embed="rId6"/>
          <a:stretch/>
        </p:blipFill>
        <p:spPr>
          <a:xfrm>
            <a:off x="6507000" y="3962520"/>
            <a:ext cx="1798920" cy="26668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866920" y="274320"/>
            <a:ext cx="3025800" cy="5025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Franklin Gothic Book"/>
              </a:rPr>
              <a:t>Северная </a:t>
            </a:r>
            <a:br>
              <a:rPr sz="4200"/>
            </a:br>
            <a:br>
              <a:rPr sz="4200"/>
            </a:br>
            <a:r>
              <a:rPr b="0" lang="ru-RU" sz="4200" spc="-1" strike="noStrike">
                <a:solidFill>
                  <a:srgbClr val="000000"/>
                </a:solidFill>
                <a:latin typeface="Franklin Gothic Book"/>
              </a:rPr>
              <a:t>Америка</a:t>
            </a:r>
            <a:endParaRPr b="0" lang="en-US" sz="4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67" name="Picture 3" descr="Scan10059"/>
          <p:cNvPicPr/>
          <p:nvPr/>
        </p:nvPicPr>
        <p:blipFill>
          <a:blip r:embed="rId1"/>
          <a:stretch/>
        </p:blipFill>
        <p:spPr>
          <a:xfrm>
            <a:off x="395280" y="189000"/>
            <a:ext cx="5435640" cy="6408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астасия</dc:creator>
  <dc:description/>
  <dc:language>en-US</dc:language>
  <cp:lastModifiedBy>Admin</cp:lastModifiedBy>
  <dcterms:modified xsi:type="dcterms:W3CDTF">2015-05-06T16:50:26Z</dcterms:modified>
  <cp:revision>202</cp:revision>
  <dc:subject/>
  <dc:title>ПУТЕШЕСТВИЕ ПО ПЛАНЕТЕ</dc:title>
</cp:coreProperties>
</file>