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  <p:custShowLst>
    <p:custShow name="Произвольный показ 1" id="0">
      <p:sldLst>
        <p:sld r:id="rId7"/>
        <p:sld r:id="rId8"/>
        <p:sld r:id="rId9"/>
        <p:sld r:id="rId10"/>
        <p:sld r:id="rId16"/>
        <p:sld r:id="rId15"/>
        <p:sld r:id="rId11"/>
        <p:sld r:id="rId12"/>
      </p:sldLst>
    </p:custShow>
    <p:custShow name="Произвольный показ 2" id="1">
      <p:sldLst>
        <p:sld r:id="rId10"/>
        <p:sld r:id="rId11"/>
        <p:sld r:id="rId12"/>
      </p:sldLst>
    </p:custShow>
    <p:custShow name="Произвольный показ 3" id="2">
      <p:sldLst>
        <p:sld r:id="rId13"/>
        <p:sld r:id="rId14"/>
        <p:sld r:id="rId15"/>
        <p:sld r:id="rId16"/>
      </p:sldLst>
    </p:custShow>
    <p:custShow name="Произвольный показ 4" id="3">
      <p:sldLst>
        <p:sld r:id="rId17"/>
        <p:sld r:id="rId18"/>
        <p:sld r:id="rId19"/>
        <p:sld r:id="rId20"/>
        <p:sld r:id="rId22"/>
      </p:sldLst>
    </p:custShow>
    <p:custShow name="Произвольный показ 5" id="4">
      <p:sldLst>
        <p:sld r:id="rId23"/>
        <p:sld r:id="rId24"/>
        <p:sld r:id="rId25"/>
        <p:sld r:id="rId26"/>
        <p:sld r:id="rId2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758-3D08-4DEA-875C-463D5479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E57-E212-40CB-B4B5-DD2C7BC0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346-543C-451E-8E59-E9C342F8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16C-49B6-48FB-A6F9-08DA047C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054-1C8E-4125-818E-4DD28678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322-5190-4E1B-85A3-788A3955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6068-D309-44ED-B616-4CF0CB37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FD9-E710-4071-999F-EAEE487F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24E-CA6B-4A4D-976F-89B992C0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EA2B-8FE3-49ED-927D-3341A902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7793-117E-4AF6-81F6-F8AFFDE1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09B5-D83C-4EE3-8828-3CAB5086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8AB7-A77F-4FF3-8B66-1DD0AEC85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549360"/>
            <a:ext cx="7777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best place in world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42920" y="2276640"/>
            <a:ext cx="6842160" cy="13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Lond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48000" y="3933720"/>
            <a:ext cx="2665440" cy="239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50920" y="5013360"/>
            <a:ext cx="8893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ere are the historical places as well 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 the famous parks. 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yde Park with its Speaker's Corner is also here. 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1481E-006 L 1.60642 1.54352 E">
                                      <p:cBhvr>
                                        <p:cTn id="16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54936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Queen's Residenc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5084640"/>
            <a:ext cx="7848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Queen's Residence was built i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70 for Samuel Barnard, a vice presiden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f the Paper Company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826920" y="692280"/>
            <a:ext cx="777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1700’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Queen's Residence was 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gift from Henry Ford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124000" y="404640"/>
            <a:ext cx="403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ig B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9280" y="2060640"/>
            <a:ext cx="896472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e name Big Ben actually refers not to the clock-tow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tself, but to the thirteen ton bell hung within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bell was named after the first commission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f works, Sir Benjamin Hal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00520" cy="7029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7029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79280" y="1052640"/>
            <a:ext cx="871380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is bell came originally from the old Palace of Westminster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t was given to the Dean of St. Paul's by William III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2565360"/>
            <a:ext cx="896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efore returning to Westminster to hang in it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resent home, it was refashioned in Whitechapel in 1858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4797360"/>
            <a:ext cx="896472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BBC first broadcast the chimes o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1st December 1923 - there is a microphone in the turr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onnected to Broadcasting House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050920" y="476280"/>
            <a:ext cx="45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East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2997360"/>
            <a:ext cx="896472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 the east the large area called the East End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is is London’s poorest par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5229360"/>
            <a:ext cx="9144000" cy="97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very large riverside in the East E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ake London one of the three largest parts in the world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50920" y="4797360"/>
            <a:ext cx="8893080" cy="166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ounded nearly a millennium ago 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xpanded upon over the centuries since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Tower of London has protected the c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58920" y="404640"/>
            <a:ext cx="6337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wer of Lond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79280" y="4221000"/>
            <a:ext cx="896472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t has been the seat of British govern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nd the living quarters of monarchs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site of renown political intrigue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nd the repository of the Crown Jewel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258920" y="476280"/>
            <a:ext cx="6337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wer Brid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325080" cy="6877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79280" y="3933720"/>
            <a:ext cx="896472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wer Bridge has stood over the River Tham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London since 1894 and is one of the finest bridges in the World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549360"/>
            <a:ext cx="828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London is the British capital and </a:t>
            </a:r>
            <a:endParaRPr b="1" lang="en-US" sz="1800" spc="1" strike="noStrike">
              <a:ln w="19080">
                <a:solidFill>
                  <a:srgbClr val="339966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one of the biggest cities in the world. </a:t>
            </a:r>
            <a:endParaRPr b="1" lang="en-US" sz="1800" spc="1" strike="noStrike">
              <a:ln w="19080">
                <a:solidFill>
                  <a:srgbClr val="339966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438200" y="333360"/>
            <a:ext cx="6353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City of Lond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1557360"/>
            <a:ext cx="896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City extends over an area of abou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6 square kilometres in the heart of Londo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9280" y="4149720"/>
            <a:ext cx="8964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t is the financial centre of the UK with many banks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ffices and Stock Exchange. But the Cit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s also a market for goods of almost every kind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rom all parts of the world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11280" y="1557360"/>
            <a:ext cx="7632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useums and art galle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f Londo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56000" y="4292640"/>
            <a:ext cx="446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ate Gall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don is very rich in museums and art galleries. If you are fond of painting you'll go to the Tate Galler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50920" y="333360"/>
            <a:ext cx="889308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 rich sugar manufacturer Henry T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ounded it in 1897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58920" y="549360"/>
            <a:ext cx="86058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re are about 300 oils 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000 watercolours and drawing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ritish Museum is the largest and richest of its kind in the world.</a:t>
            </a:r>
            <a:br>
              <a:rPr sz="32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esent building was built in 185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0" y="299736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y law a copy of every book, periodical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nd newspaper, published in Britai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ust be presented in the British museum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539640" y="1197000"/>
            <a:ext cx="7839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is collection is so vast that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nly a very small percentage of it i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n show to the public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611280" y="333360"/>
            <a:ext cx="80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famous places in the Lond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95280" y="4653000"/>
            <a:ext cx="8424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original Globe Theatre was buil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1599 by the playing compan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 which Shakespeare belonged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03280" y="1413000"/>
            <a:ext cx="604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Globe Theat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9280" y="476280"/>
            <a:ext cx="8425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London is situated upon both banks of th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iver Thames, it is the largest city in Britain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nd one of the largest in the world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95640" y="2276640"/>
            <a:ext cx="44337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ts population is abou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 million people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979640" y="5805360"/>
            <a:ext cx="5589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24000" y="476280"/>
            <a:ext cx="8496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Cathedral of Saint Pau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196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042920" y="5950080"/>
            <a:ext cx="266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iccadil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716360" y="5373720"/>
            <a:ext cx="417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tatue on bord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city of Lond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6884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1332000" y="573408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eopatra's Need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971640" y="5805360"/>
            <a:ext cx="7273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Queen Victoria Memo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826920" y="2708280"/>
            <a:ext cx="7490160" cy="22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476440" y="6334200"/>
            <a:ext cx="6667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roject by Kate Shabalina. 10 -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consists of three parts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ity of London, the West E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the East 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832800">
            <a:off x="244080" y="3263400"/>
            <a:ext cx="2736720" cy="187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832800">
            <a:off x="2555640" y="1197000"/>
            <a:ext cx="3671640" cy="250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832800">
            <a:off x="6346800" y="3341160"/>
            <a:ext cx="2771640" cy="189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116000" y="836640"/>
            <a:ext cx="676908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West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3429000"/>
            <a:ext cx="8424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best places of the West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55640" y="5373720"/>
            <a:ext cx="793584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1.26788 -1.53287 E">
                                      <p:cBhvr>
                                        <p:cTn id="104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92360" y="5877000"/>
            <a:ext cx="57657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Kensington Garde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1.59861 -1.64861 E">
                                      <p:cBhvr>
                                        <p:cTn id="12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835280" y="5516640"/>
            <a:ext cx="5446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t.James's Pa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-1.13403 1.22847 E">
                                      <p:cBhvr>
                                        <p:cTn id="14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0:09:28Z</dcterms:created>
  <dc:creator>Елена</dc:creator>
  <dc:description/>
  <dc:language>en-US</dc:language>
  <cp:lastModifiedBy>Марина</cp:lastModifiedBy>
  <dcterms:modified xsi:type="dcterms:W3CDTF">2013-09-17T15:10:39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27000000000001023620</vt:lpwstr>
  </property>
</Properties>
</file>