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31F-C48C-4FCF-86D1-47EDC7CE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C19-F38B-4BE8-993C-08B2F75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13F-BD57-45FB-A216-9F8B4F9E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603-222A-4D61-8BD3-012B0A77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1DF-83FF-40E5-BCD0-455EF46C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08F0-5D1C-4035-B220-17930585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4A02-BA95-4F90-B739-8985D8FB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EBDD-B159-4640-A1A8-CD2D9AA2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EDEB-6B70-42A3-B4FD-C75AA9E8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4187-73C0-4DC2-A0A1-7A22DB85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8C22-46FA-4B20-84F5-19BE251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F17-97A2-4ACD-9525-46DEB1FD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9549-01EB-4C89-8ECC-56AFECE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D07C-12BE-4B1B-BCC9-A31CBEF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B0C4-DF97-482F-AB6B-25B6B5A4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AC1A-8594-42E5-8DA8-7C2962D9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946B-6F4A-4602-AF20-7A20981C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39FE-350D-4E9B-A4C1-E5133EE7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1083-0EEE-4D23-90E0-CEEFEA5B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08E0-E0D9-4943-A615-0CFAD089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7264-63E0-45BC-9A35-2E8D110C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4E8E-E6CF-4A3F-94AB-2764CCDD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092-2D88-4782-922A-D4EBF02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DC1E-B890-4136-B222-2B31DC5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E399-CC5F-45FE-9A07-543B92A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95F0-4AEB-4584-94D8-D550489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77BB-1DD2-4386-92EC-EB45F6C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60E9-2429-4674-A907-C57CCCAA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C72E-44F5-47F0-9BFE-C16C7364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4889-C2DE-41E5-872C-1D8BCF78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A25-B443-4313-B39C-24A0F6AB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F52-0AEC-41EA-85F6-313BC51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FBC-D53C-4EE1-85F9-F64A1F2E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027-72ED-4A9E-B10A-001CFA4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50C-F756-4C15-89E6-34B431E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E78-F196-4161-9FF1-DFAAA19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27A8-4511-44AC-8624-21E40784AAA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C8BD-DF4E-4C1D-964A-8EF753E668E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42B4-7137-45F6-9956-30A407668B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2" descr="C:\Users\zo1178-103\Desktop\рус яз\28317288.jpg"/>
          <p:cNvPicPr/>
          <p:nvPr/>
        </p:nvPicPr>
        <p:blipFill>
          <a:blip r:embed="rId1"/>
          <a:stretch/>
        </p:blipFill>
        <p:spPr>
          <a:xfrm>
            <a:off x="-39600" y="20520"/>
            <a:ext cx="9183600" cy="68882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1596960"/>
            <a:ext cx="9039240" cy="3468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Четвёртый лиш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ша, огонь, лошадь, коро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сквич, воркутинец, город, калининградец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брый, заботливый, отзывчивый,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95280" y="404640"/>
          <a:ext cx="8389800" cy="9723600"/>
        </p:xfrm>
        <a:graphic>
          <a:graphicData uri="http://schemas.openxmlformats.org/drawingml/2006/table">
            <a:tbl>
              <a:tblPr/>
              <a:tblGrid>
                <a:gridCol w="3390840"/>
                <a:gridCol w="1440000"/>
                <a:gridCol w="1779480"/>
                <a:gridCol w="177948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тка 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с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2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угай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ишка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а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а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а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ка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олшебны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евраще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о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Ма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ап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о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мя существительно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то                   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душевленные      неодушевле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13"/>
          <p:cNvSpPr txBox="1"/>
          <p:nvPr/>
        </p:nvSpPr>
        <p:spPr>
          <a:xfrm>
            <a:off x="539640" y="2421000"/>
            <a:ext cx="806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52280" y="18828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 заня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6000"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animClr clrSpc="rgb"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2435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58920" y="206064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Aharoni"/>
              </a:rPr>
              <a:t>Им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Aharoni"/>
              </a:rPr>
              <a:t>существительно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н урок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гра «Разложи картинки в 2 групп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Работа по учебни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Работа со словарными сло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Просмотр иллюстра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. Игра «Четвёртый лишни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6. 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7. Игра «Волшебное превращение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8. Подведение итог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Object 2"/>
          <p:cNvGraphicFramePr/>
          <p:nvPr/>
        </p:nvGraphicFramePr>
        <p:xfrm>
          <a:off x="3271680" y="838080"/>
          <a:ext cx="26006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1680" y="838080"/>
                    <a:ext cx="26006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AN01296_[1]"/>
          <p:cNvPicPr/>
          <p:nvPr/>
        </p:nvPicPr>
        <p:blipFill>
          <a:blip r:embed="rId1"/>
          <a:stretch/>
        </p:blipFill>
        <p:spPr>
          <a:xfrm>
            <a:off x="2195640" y="2133720"/>
            <a:ext cx="4593960" cy="307476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2340000" y="1341360"/>
          <a:ext cx="4824360" cy="36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82436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">
    <p:split dir="in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392720" cy="377676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AN01300_"/>
          <p:cNvPicPr/>
          <p:nvPr/>
        </p:nvPicPr>
        <p:blipFill>
          <a:blip r:embed="rId1"/>
          <a:stretch/>
        </p:blipFill>
        <p:spPr>
          <a:xfrm>
            <a:off x="2627280" y="981000"/>
            <a:ext cx="3327480" cy="453708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6"/>
          <p:cNvSpPr txBox="1"/>
          <p:nvPr/>
        </p:nvSpPr>
        <p:spPr>
          <a:xfrm>
            <a:off x="179280" y="260280"/>
            <a:ext cx="597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ое слово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2916360" y="692280"/>
          <a:ext cx="3592440" cy="53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692280"/>
                    <a:ext cx="359244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7"/>
          <p:cNvSpPr/>
          <p:nvPr/>
        </p:nvSpPr>
        <p:spPr>
          <a:xfrm>
            <a:off x="5118840" y="4724280"/>
            <a:ext cx="319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Tahoma"/>
              </a:rPr>
              <a:t>берёза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508720" y="4724280"/>
            <a:ext cx="183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8000"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6:42:40Z</dcterms:created>
  <dc:creator>&lt;user&gt;</dc:creator>
  <dc:description/>
  <dc:language>en-US</dc:language>
  <cp:lastModifiedBy>МанулякНМ</cp:lastModifiedBy>
  <dcterms:modified xsi:type="dcterms:W3CDTF">2017-01-20T12:52:01Z</dcterms:modified>
  <cp:revision>6</cp:revision>
  <dc:subject/>
  <dc:title>Слайд 1</dc:title>
</cp:coreProperties>
</file>