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DD25-6CC6-4745-98DB-0488EEAF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21DA-D481-463D-9C2C-FF9EAD2D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6957-BFD8-40FC-8ED2-246F1EA1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7A8C-6FC5-486F-9C73-DDABB6DE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2841-3D66-4DF7-8B28-24F334E1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B8F0-AD9C-4CEB-AB57-ED77230A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747A-EBAF-46FA-AD18-BB597AC4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B1BA-EAA0-4800-9091-D6428EBC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6AF5-C319-42AA-A20E-5628A975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83B1-565A-4ED1-A81A-9BA336BB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2CDA-268C-43A3-9802-867EC9A2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0B6C-C2AF-4DE2-BC8E-D2D7029E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B871-90A2-4E2D-B3A0-D32B8B4E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6CF9-1E5E-4DB5-84C1-6B2CB26E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AD5A-F4BA-42CC-859E-169AAB8E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06FF-3119-4062-B416-706AB1A6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02B3-B054-496E-8611-55120CF7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7CC8-697F-4695-94BF-73220E36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9921-335D-419C-B21C-41B57C50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F157-DFA2-4FF4-BD28-2AE5E29E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F441-A4DC-4610-8CFD-84B5A1A8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D571-E128-4DE9-9E39-6BF34923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8C07-B991-4EDA-BA7A-0645C63C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5E32-A1CB-4BBB-991A-B9824D50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AFA0-0B45-4FE2-87A9-FFD01DF378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C34F-1A7A-4303-A3B3-861881F53C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7e2a"/>
                </a:solidFill>
                <a:latin typeface="Arial"/>
              </a:rPr>
              <a:t>Занятие по познавательному развитию</a:t>
            </a:r>
            <a:br>
              <a:rPr sz="4400"/>
            </a:br>
            <a:r>
              <a:rPr b="0" lang="ru-RU" sz="4400" spc="-1" strike="noStrike">
                <a:solidFill>
                  <a:srgbClr val="a9177f"/>
                </a:solidFill>
                <a:latin typeface="Arial"/>
              </a:rPr>
              <a:t>«Пассажирский транспорт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дготовила: воспитатель Мутьева В.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9177f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7e2a"/>
                </a:solidFill>
                <a:latin typeface="Arial"/>
              </a:rPr>
              <a:t>1.Познакомить детей с разнообразным пассажирским транспор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7e2a"/>
                </a:solidFill>
                <a:latin typeface="Arial"/>
              </a:rPr>
              <a:t>2.Отметить отличительные характерные признаки от грузового транспо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7e2a"/>
                </a:solidFill>
                <a:latin typeface="Arial"/>
              </a:rPr>
              <a:t>3.Учить детей через игровые образы правилам поведения в общественном транспор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7e2a"/>
                </a:solidFill>
                <a:latin typeface="Arial"/>
              </a:rPr>
              <a:t>4.Воспитывать вежливое, культурное по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177f"/>
                </a:solidFill>
                <a:latin typeface="Arial"/>
              </a:rPr>
              <a:t>Сюрпризный момен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9" name="Picture 6" descr="DSC_2503"/>
          <p:cNvPicPr/>
          <p:nvPr/>
        </p:nvPicPr>
        <p:blipFill>
          <a:blip r:embed="rId1"/>
          <a:stretch/>
        </p:blipFill>
        <p:spPr>
          <a:xfrm>
            <a:off x="1187280" y="1628640"/>
            <a:ext cx="680112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8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3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177f"/>
                </a:solidFill>
                <a:latin typeface="Arial"/>
              </a:rPr>
              <a:t>Беседа о транспорт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Picture 6" descr="DSC_2506"/>
          <p:cNvPicPr/>
          <p:nvPr/>
        </p:nvPicPr>
        <p:blipFill>
          <a:blip r:embed="rId1"/>
          <a:stretch/>
        </p:blipFill>
        <p:spPr>
          <a:xfrm>
            <a:off x="1187280" y="1628640"/>
            <a:ext cx="680112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177f"/>
                </a:solidFill>
                <a:latin typeface="Arial"/>
              </a:rPr>
              <a:t>Игра «Найди свое место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Picture 5" descr="DSC_2508"/>
          <p:cNvPicPr/>
          <p:nvPr/>
        </p:nvPicPr>
        <p:blipFill>
          <a:blip r:embed="rId1"/>
          <a:stretch/>
        </p:blipFill>
        <p:spPr>
          <a:xfrm>
            <a:off x="1187280" y="1628640"/>
            <a:ext cx="680112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2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177f"/>
                </a:solidFill>
                <a:latin typeface="Arial"/>
              </a:rPr>
              <a:t>Игра «Найди свое место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Picture 6" descr="DSC_2511"/>
          <p:cNvPicPr/>
          <p:nvPr/>
        </p:nvPicPr>
        <p:blipFill>
          <a:blip r:embed="rId1"/>
          <a:stretch/>
        </p:blipFill>
        <p:spPr>
          <a:xfrm>
            <a:off x="1187280" y="1628640"/>
            <a:ext cx="680112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9177f"/>
                </a:solidFill>
                <a:latin typeface="Arial"/>
              </a:rPr>
              <a:t>Словесная игра «Изобрази сигнал машины»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Picture 6" descr="DSC_2516"/>
          <p:cNvPicPr/>
          <p:nvPr/>
        </p:nvPicPr>
        <p:blipFill>
          <a:blip r:embed="rId1"/>
          <a:stretch/>
        </p:blipFill>
        <p:spPr>
          <a:xfrm>
            <a:off x="1187280" y="1628640"/>
            <a:ext cx="680112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6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9177f"/>
                </a:solidFill>
                <a:latin typeface="Arial"/>
              </a:rPr>
              <a:t>Беседа о правилах поведения в автобус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9" name="Picture 6" descr="DSC_2517"/>
          <p:cNvPicPr/>
          <p:nvPr/>
        </p:nvPicPr>
        <p:blipFill>
          <a:blip r:embed="rId1"/>
          <a:stretch/>
        </p:blipFill>
        <p:spPr>
          <a:xfrm>
            <a:off x="1187280" y="1628640"/>
            <a:ext cx="680112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177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1:19:42Z</dcterms:created>
  <dc:creator>Надежда</dc:creator>
  <dc:description/>
  <dc:language>en-US</dc:language>
  <cp:lastModifiedBy>LUTIKI</cp:lastModifiedBy>
  <dcterms:modified xsi:type="dcterms:W3CDTF">2020-07-16T09:35:10Z</dcterms:modified>
  <cp:revision>10</cp:revision>
  <dc:subject/>
  <dc:title>Познавательное развитие «Пассажирский транспорт»</dc:title>
</cp:coreProperties>
</file>