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5551-C3DC-4713-A414-754D0899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A1C-8123-4288-AB47-F15D6A0F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F1A-CA0D-46DE-93F9-37B6E258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8C58-724A-450D-B3D4-D4289DEF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C376-F0EE-401D-8146-A9434304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978D-349C-4285-A350-05610BBD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4005-7FA4-4026-B7CD-71165B64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DF66-13C5-429C-B4E6-F9C5E4FB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C53A-2B80-423C-9789-AF0680A4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5BEF-5978-48A6-BB59-040BD46C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CB9-8E86-434E-88E2-F4A61AC1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FA6C-2435-4D2D-B642-4983E0B5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34EF-B40B-48D1-A1D5-8F96E251C3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 </a:t>
            </a:r>
            <a:br>
              <a:rPr sz="32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 Волшебные цветы в литературных произведения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а Мутьева В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SC03124"/>
          <p:cNvPicPr/>
          <p:nvPr/>
        </p:nvPicPr>
        <p:blipFill>
          <a:blip r:embed="rId1"/>
          <a:stretch/>
        </p:blipFill>
        <p:spPr>
          <a:xfrm>
            <a:off x="558720" y="942840"/>
            <a:ext cx="8026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DSC03259"/>
          <p:cNvPicPr/>
          <p:nvPr/>
        </p:nvPicPr>
        <p:blipFill>
          <a:blip r:embed="rId1"/>
          <a:stretch/>
        </p:blipFill>
        <p:spPr>
          <a:xfrm>
            <a:off x="558720" y="942840"/>
            <a:ext cx="8026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DSC03260"/>
          <p:cNvPicPr/>
          <p:nvPr/>
        </p:nvPicPr>
        <p:blipFill>
          <a:blip r:embed="rId1"/>
          <a:stretch/>
        </p:blipFill>
        <p:spPr>
          <a:xfrm>
            <a:off x="558720" y="942840"/>
            <a:ext cx="8026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DSC03261"/>
          <p:cNvPicPr/>
          <p:nvPr/>
        </p:nvPicPr>
        <p:blipFill>
          <a:blip r:embed="rId1"/>
          <a:stretch/>
        </p:blipFill>
        <p:spPr>
          <a:xfrm>
            <a:off x="558720" y="942840"/>
            <a:ext cx="8026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DSC03265"/>
          <p:cNvPicPr/>
          <p:nvPr/>
        </p:nvPicPr>
        <p:blipFill>
          <a:blip r:embed="rId1"/>
          <a:stretch/>
        </p:blipFill>
        <p:spPr>
          <a:xfrm>
            <a:off x="558720" y="942840"/>
            <a:ext cx="8026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DSC03266"/>
          <p:cNvPicPr/>
          <p:nvPr/>
        </p:nvPicPr>
        <p:blipFill>
          <a:blip r:embed="rId1"/>
          <a:stretch/>
        </p:blipFill>
        <p:spPr>
          <a:xfrm>
            <a:off x="558720" y="942840"/>
            <a:ext cx="8026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DSC03267"/>
          <p:cNvPicPr/>
          <p:nvPr/>
        </p:nvPicPr>
        <p:blipFill>
          <a:blip r:embed="rId1"/>
          <a:stretch/>
        </p:blipFill>
        <p:spPr>
          <a:xfrm>
            <a:off x="558720" y="942840"/>
            <a:ext cx="8026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DSC03028"/>
          <p:cNvPicPr/>
          <p:nvPr/>
        </p:nvPicPr>
        <p:blipFill>
          <a:blip r:embed="rId1"/>
          <a:stretch/>
        </p:blipFill>
        <p:spPr>
          <a:xfrm>
            <a:off x="558720" y="942840"/>
            <a:ext cx="8026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DSC03029"/>
          <p:cNvPicPr/>
          <p:nvPr/>
        </p:nvPicPr>
        <p:blipFill>
          <a:blip r:embed="rId1"/>
          <a:stretch/>
        </p:blipFill>
        <p:spPr>
          <a:xfrm>
            <a:off x="558720" y="942840"/>
            <a:ext cx="8026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DSC03030"/>
          <p:cNvPicPr/>
          <p:nvPr/>
        </p:nvPicPr>
        <p:blipFill>
          <a:blip r:embed="rId1"/>
          <a:stretch/>
        </p:blipFill>
        <p:spPr>
          <a:xfrm>
            <a:off x="558720" y="942840"/>
            <a:ext cx="8026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ль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ть представления о нравственном смысле литературных произведений, в которых действия производят волшебные ц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ести к мотивационной оценке поступков и характеров героев ска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ить знания о жанровых особенностях 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творческое мышление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DSC03031"/>
          <p:cNvPicPr/>
          <p:nvPr/>
        </p:nvPicPr>
        <p:blipFill>
          <a:blip r:embed="rId1"/>
          <a:stretch/>
        </p:blipFill>
        <p:spPr>
          <a:xfrm>
            <a:off x="558720" y="942840"/>
            <a:ext cx="8026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DSC03032"/>
          <p:cNvPicPr/>
          <p:nvPr/>
        </p:nvPicPr>
        <p:blipFill>
          <a:blip r:embed="rId1"/>
          <a:stretch/>
        </p:blipFill>
        <p:spPr>
          <a:xfrm>
            <a:off x="558720" y="942840"/>
            <a:ext cx="8026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ктический выхо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тавка рисунков « Волшебные цве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тавка поделок « Волшебные цветы в литературных произведения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тавка литературных произведений, в которых действия производят волшебные ц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папки со сказками о волшебных цве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альбома « Легенды о цвет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альбома « Загадки о цвет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50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тический план к прое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олшебные цветы в литературных произведениях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сказки В.Катаева «Цветик-семицвет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мотр мультфильма « Цветик-семицвет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курсия в библиотеку на выставку  «Волшебные цветы в сказк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мотр мультфильма « Аленький цветоче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сказки Х.К.Андерсена  «Волшебные цветы Ид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тавка иллюстраций « Волшебные цветы в литературных произведен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П.Бажова « Каменный цвет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тавка поделок « Волшебные цве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ство с цыганской народной сказкой « Волшебный цвет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пка « Волшебный цвет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ликация « Волшебные цве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-схема осуществления проект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олшебные цветы в литературных произведен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тельные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дет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овая дея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Игра «Узнай цветок из сказки по описанию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ре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каз сказ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дожественная литерату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сказки В.Катаева  «Цветик-Семицветик», чтение П.Бажова « Каменный цветок», чтение Х.К.Андерсена  «Волшебные цветы И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бразительная дея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ование «Волшебный цветок». Аппликация   «Создание образа волшебного цветка». Лепка  «Волшебные цве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DSC03114"/>
          <p:cNvPicPr/>
          <p:nvPr/>
        </p:nvPicPr>
        <p:blipFill>
          <a:blip r:embed="rId1"/>
          <a:stretch/>
        </p:blipFill>
        <p:spPr>
          <a:xfrm>
            <a:off x="558720" y="942840"/>
            <a:ext cx="8026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DSC03118"/>
          <p:cNvPicPr/>
          <p:nvPr/>
        </p:nvPicPr>
        <p:blipFill>
          <a:blip r:embed="rId1"/>
          <a:stretch/>
        </p:blipFill>
        <p:spPr>
          <a:xfrm>
            <a:off x="2925720" y="274680"/>
            <a:ext cx="32907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DSC03120"/>
          <p:cNvPicPr/>
          <p:nvPr/>
        </p:nvPicPr>
        <p:blipFill>
          <a:blip r:embed="rId1"/>
          <a:stretch/>
        </p:blipFill>
        <p:spPr>
          <a:xfrm>
            <a:off x="2925720" y="274680"/>
            <a:ext cx="32907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DSC03122"/>
          <p:cNvPicPr/>
          <p:nvPr/>
        </p:nvPicPr>
        <p:blipFill>
          <a:blip r:embed="rId1"/>
          <a:stretch/>
        </p:blipFill>
        <p:spPr>
          <a:xfrm>
            <a:off x="2925720" y="274680"/>
            <a:ext cx="32907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1T11:01:40Z</dcterms:created>
  <dc:creator>Надежда</dc:creator>
  <dc:description/>
  <dc:language>en-US</dc:language>
  <cp:lastModifiedBy>LUTIKI</cp:lastModifiedBy>
  <dcterms:modified xsi:type="dcterms:W3CDTF">2020-07-16T11:12:20Z</dcterms:modified>
  <cp:revision>3</cp:revision>
  <dc:subject/>
  <dc:title>« Волшебные цветы в литературных произведениях»</dc:title>
</cp:coreProperties>
</file>