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328-E828-4309-B3D1-03A1D904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12B-84B2-41A4-B98A-C17EABB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1E3-CA25-44B1-ABF1-1A547132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146-1A2F-4023-9308-2F8870F2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7C1-0B6E-4A2A-BD1A-44EAB931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28C7-99C3-438B-AC5D-3CB37C60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58E-0070-4FD2-A5EA-2C51FA6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806-B552-4B66-9FB5-7E02FF1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8FED-8CF2-4CCA-B852-49639EE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54C-3560-49F3-AB22-E3F302EB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D6CC-92B4-4156-9417-21FCAE9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68A-1B68-4450-B484-7F8689E1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5DAB-C5E0-4BD0-AD9D-1D39A93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026-41FF-436C-BB34-1103DFB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DD0-5047-4F10-8B84-2B11B9B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3389-8AB4-4BC6-8DB2-B5D40C1B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1BF2-A38E-49E4-8591-0B98DA78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B1F-F3FD-49EE-A940-70AB722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AE6-BAFE-4B50-9626-0AC835E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E42-063C-4958-8376-2B40121E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E57-F345-4BB5-B070-D585235C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662-132D-4AB6-B9A2-41BE1D1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337-4DAF-471B-AA4D-975420F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054-4590-4516-B534-58320B9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5F2-B667-4467-97B5-434C3473F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113E-C65E-4BBE-8A2E-740C44686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39640" y="189000"/>
            <a:ext cx="860436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ИОСИНТЕЗ БЕЛКА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ВОЙСТВА ГЕНЕТИЧЕСКОГО К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д является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универсальны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то есть единым для всех живых организмов – от бактерий до человека. У всех организмов есть одни и те же 20 аминокислот, которые кодируются одними и теми же триплетам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Ге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участок молекулы ДНК, который характеризуется определённой последовательностью нуклеотидов и определяет синтез одной полипептидной цепи.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ИОСИНТЕЗ БЕЛ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1640" y="1413000"/>
            <a:ext cx="8208000" cy="5183280"/>
            <a:chOff x="431640" y="1413000"/>
            <a:chExt cx="8208000" cy="5183280"/>
          </a:xfrm>
        </p:grpSpPr>
        <p:cxnSp>
          <p:nvCxnSpPr>
            <p:cNvPr id="111" name="_s39949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122080" y="2899080"/>
              <a:ext cx="1037160" cy="221004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39947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2912400" y="2898720"/>
              <a:ext cx="1037160" cy="221076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39943"/>
            <p:cNvSpPr/>
            <p:nvPr/>
          </p:nvSpPr>
          <p:spPr>
            <a:xfrm>
              <a:off x="2642040" y="1413000"/>
              <a:ext cx="3788280" cy="2073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ahoma"/>
                </a:rPr>
                <a:t>ЭТАПЫ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9944"/>
            <p:cNvSpPr/>
            <p:nvPr/>
          </p:nvSpPr>
          <p:spPr>
            <a:xfrm>
              <a:off x="431640" y="4523040"/>
              <a:ext cx="3788280" cy="2073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ТРАНСКРИП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9946"/>
            <p:cNvSpPr/>
            <p:nvPr/>
          </p:nvSpPr>
          <p:spPr>
            <a:xfrm>
              <a:off x="4851360" y="4523040"/>
              <a:ext cx="3788280" cy="2073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ТРАНСЛЯ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КРИПЦ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синтеза молекулы иРНК на одной цепи молекулы ДНК на основании принципа комплементарности называется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ранскрипц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ли переписывание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нскрипция происходит в яд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етк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transkripcia-RNK.jpg"/>
          <p:cNvPicPr/>
          <p:nvPr/>
        </p:nvPicPr>
        <p:blipFill>
          <a:blip r:embed="rId2"/>
          <a:stretch/>
        </p:blipFill>
        <p:spPr>
          <a:xfrm>
            <a:off x="6286680" y="3860640"/>
            <a:ext cx="2857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ТО НЕОБХОДИ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рменты РНК-полимер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бодные дезоксирибонуклеозидфосфаты (АТФ, ГТФ, ЦТФ, УТФ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специальных генах синтезируются и два другие типа РНК – тРНК и рРНК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крипция может одновременно происходить и на нескольких генах одной хромосомы и на генах разных хромосомах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в молекуле ДНК есть азотистое основание цитозин, то в иРНК – гуанин и наоборот. Комплементарной парой в ДНК является аденин – тимин, а РНК вместо тимина содержит урацил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пециальных генах синтезируются и два другие типа РНК – тРНК и рРН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ало и окончание синтеза всех типов РНК на матрице ДНК строго фиксированы специальными триплетами, которые контролируют запуск (инициирующие) и остановку (терминальные) синтеза. Они выполняют функции «разделительных знаков» между ген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РНК с аминокислотами происходит в цитоплазме. Молекула тРНК формой напоминает листик клевера, на его верхушке расположен антикодон – триплет нуклеотидов, который кодирует аминокислоту, которую переносит данная тРНК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левер пророс между камней"/>
          <p:cNvPicPr/>
          <p:nvPr/>
        </p:nvPicPr>
        <p:blipFill>
          <a:blip r:embed="rId3"/>
          <a:stretch/>
        </p:blipFill>
        <p:spPr>
          <a:xfrm>
            <a:off x="6732720" y="5349960"/>
            <a:ext cx="24112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олько видов аминокислот, столько существует и тРН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мечание 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 Поскольку много аминокислот могут кодироваться несколькими триплетами, то количество тРНК больше 20 (известно около 60 тРНК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единение тРНК с аминокислотами происходит с участием ферментов. Молекулы тРНК транспортируют аминокислоты к рибосомам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Биосинтез бел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ферментативный процесс синтеза белков в клет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ём участвуют три структурные элемента клетки – ядро, цитоплазма, рибосомы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ЛЯ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ансляц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это процесс, в результате которого информация о структуре белка, записанная в иРНК в виде последовательности нуклеотидов, реализуется в виде последовательности аминокислот в молекуле белка, которая синтезируется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роцесс осуществляется в рибосомах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ТО НЕОБХОДИ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босо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чник энергии (АТФ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580536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дон АУГ – инициатор, с которого начинается синтез любого полипепти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Биосинтез белка: транскрипция и трансляция. Автор24 — интернет-биржа студенческих работ"/>
          <p:cNvPicPr/>
          <p:nvPr/>
        </p:nvPicPr>
        <p:blipFill>
          <a:blip r:embed="rId2"/>
          <a:stretch/>
        </p:blipFill>
        <p:spPr>
          <a:xfrm>
            <a:off x="250920" y="26028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 и та же рибосома способна синтезировать разные белки. После завершения синтеза белка рибосома отделяется от иРНК, а белок поступает в эндоплазматическую се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последовательность кодонов иРНК определяет последовательность включения аминокислот в цепь б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зированные белки поступают в каналы эндоплазматического ретикулюма. Одна молекула белка в клетке синтезируется за 1 - 2 минут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Центральная догма молекулярной биологи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3304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ин ген молекулы ДНК кодирует один белок, отвечающий за одну химическую реакцию в клетке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211640" cy="421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52800" y="61657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Фрэнсис Кр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6165360"/>
            <a:ext cx="5398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781360"/>
            <a:ext cx="172728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2781360"/>
            <a:ext cx="165744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Р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2781360"/>
            <a:ext cx="165564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2846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3213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18000" y="22050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нскрип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6080" y="22050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нс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6920" y="34434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яд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337176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итоплазм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рибосом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а последовательность расположения нуклеотидов в молекуле и-РНК (ЦГГАУЦЦАУУГЦ). Определите структуру гена и количество аминокислот в бел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507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-РНК: Ц-Г-Г-А-У-Ц-Ц-А-У-У-Г-Ц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НК:    Г-Ц-Ц-Т-А-Г- Г-Т-А-А-Ц-Г (1 цепь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Ц-Г-Г-А-Т-Ц-Ц-А-Т-Т-Г-Ц (2 цеп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ая аминокислота кодируется триплетом, разбиваем ДНК на тройки (12:3=4) и получаем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хромосомы в ядре.jpg"/>
          <p:cNvPicPr/>
          <p:nvPr/>
        </p:nvPicPr>
        <p:blipFill>
          <a:blip r:embed="rId2"/>
          <a:stretch/>
        </p:blipFill>
        <p:spPr>
          <a:xfrm>
            <a:off x="324000" y="333360"/>
            <a:ext cx="4695840" cy="445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140360" y="3284640"/>
            <a:ext cx="47876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олекуле ДНК содержится 17% аденина. Определите, сколько (в %) в этой молекуле содержится других нуклеотид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равилу Чаргаффа количество аденина равно количеству тимина (А=Т), следовательно, тимина в этой молекуле содержится 17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сю цепь ДНК приходится 100%, значит на гуанин и цитозин приходится: 100% — 17% — 17% = 66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ывая, что их количества равны, то 66: 2= 33% , т.е. Ц=Г=33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анной молекуле ДНК содержится кроме 17% аденина, 17% - тимина, 33% - гуанина и 33% - цитоз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ую длину имеет участок молекулы ДНК, в котором закодирована первичная структура белка, если молекула этого белка состоит из 75 аминокислот (один нуклеотид имеет длину 0,34 нм)? Сколько т-РНК будет участвовать в процессе синтеза этого белка? Ответ поясни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ШЕ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у аминокислоту кодируют три нуклеотида. 75Х3=2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числим длину участка молекулы ДНК, состоящий из 225 нуклеотидов. 225Х0.34=76.5н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НК переносит только одну аминокислоту  75тР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136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Генетический ко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о последовательность расположения нуклеотидов в молекуле ДНК, которая определяет последовательность аминокислот в молекуле белк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ВОЙСТВА ГЕНЕТИЧЕСКОГО К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нетический код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риплетн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то есть каждой аминокислоте соответствует свой кодовый триплет (кодон), состоящий из трёх расположенных рядом нуклеотид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мер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Аминокислота цистеин кодируется триплетом А-Ц-А, валин – триплетом Ц-А-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ВОЙСТВА ГЕНЕТИЧЕСКОГО К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д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перекрываетс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о есть нуклеотид не может входить в состав двух соседних трипле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д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вырожде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о есть одна аминокислота может кодироваться несколькими триплетами.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имер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Аминокислота тирозин кодируется двумя триплетам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ВОЙСТВА ГЕНЕТИЧЕСКОГО К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д не имеет запятых (разделительных знаков), считывание информации происходит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ройками нуклеотид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амечание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уществуют три несодержательные кодоны (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АГ, УАА, УГ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которые не кодируют аминокислоты и, возможно, действуют как «стоп-кодон», разделяя гены в молекуле ДН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3T13:35:28Z</dcterms:created>
  <dc:creator>User</dc:creator>
  <dc:description/>
  <dc:language>en-US</dc:language>
  <cp:lastModifiedBy>User</cp:lastModifiedBy>
  <dcterms:modified xsi:type="dcterms:W3CDTF">2019-11-04T12:56:11Z</dcterms:modified>
  <cp:revision>5</cp:revision>
  <dc:subject/>
  <dc:title>Слайд 1</dc:title>
</cp:coreProperties>
</file>