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DC16C86-980C-4B1B-8AAF-78B0F6DA37EE}" type="doc">
      <dgm:prSet loTypeId="urn:microsoft.com/office/officeart/2005/8/layout/cycle5" loCatId="cycle" qsTypeId="urn:microsoft.com/office/officeart/2005/8/quickstyle/3d3" qsCatId="3D" csTypeId="urn:microsoft.com/office/officeart/2005/8/colors/colorful1" csCatId="colorful" phldr="1"/>
      <dgm:spPr/>
    </dgm:pt>
    <dgm:pt modelId="{D96BD066-4AA2-4418-9752-4FB7CD88ADC8}">
      <dgm:prSet/>
      <dgm:spPr/>
      <dgm:t>
        <a:bodyPr/>
        <a:lstStyle/>
        <a:p>
          <a:pPr marR="0" algn="ctr" rtl="0"/>
          <a:r>
            <a:rPr lang="ru-RU" b="1" i="1" baseline="0" smtClean="0">
              <a:latin typeface="Calibri"/>
            </a:rPr>
            <a:t>Раздел </a:t>
          </a:r>
        </a:p>
        <a:p>
          <a:pPr marR="0" algn="ctr" rtl="0"/>
          <a:r>
            <a:rPr lang="ru-RU" b="1" i="1" baseline="0" smtClean="0">
              <a:latin typeface="Calibri"/>
            </a:rPr>
            <a:t>"Детский сад и я"</a:t>
          </a:r>
        </a:p>
      </dgm:t>
    </dgm:pt>
    <dgm:pt modelId="{911EAD8C-ACAC-4323-833E-5F8EC5A48AAB}" type="parTrans" cxnId="{42F3C8C4-D8A7-4AE7-81E8-7DB8AA9F80F4}">
      <dgm:prSet/>
      <dgm:spPr/>
      <dgm:t>
        <a:bodyPr/>
        <a:lstStyle/>
        <a:p>
          <a:pPr algn="ctr"/>
          <a:endParaRPr lang="ru-RU"/>
        </a:p>
      </dgm:t>
    </dgm:pt>
    <dgm:pt modelId="{2E8F56DE-7074-4C8D-8EDB-9E5024A911BB}" type="sibTrans" cxnId="{42F3C8C4-D8A7-4AE7-81E8-7DB8AA9F80F4}">
      <dgm:prSet/>
      <dgm:spPr/>
      <dgm:t>
        <a:bodyPr/>
        <a:lstStyle/>
        <a:p>
          <a:pPr algn="ctr"/>
          <a:endParaRPr lang="ru-RU"/>
        </a:p>
      </dgm:t>
    </dgm:pt>
    <dgm:pt modelId="{14DF4949-A34E-487A-9930-C2DC00CA5094}">
      <dgm:prSet/>
      <dgm:spPr/>
      <dgm:t>
        <a:bodyPr/>
        <a:lstStyle/>
        <a:p>
          <a:pPr marR="0" algn="ctr" rtl="0"/>
          <a:endParaRPr lang="ru-RU" b="1" i="1" baseline="0" smtClean="0">
            <a:latin typeface="Calibri"/>
          </a:endParaRPr>
        </a:p>
        <a:p>
          <a:pPr marR="0" algn="ctr" rtl="0"/>
          <a:r>
            <a:rPr lang="ru-RU" b="1" i="1" baseline="0" smtClean="0">
              <a:latin typeface="Calibri"/>
            </a:rPr>
            <a:t>Раздел  "Мой город"</a:t>
          </a:r>
        </a:p>
      </dgm:t>
    </dgm:pt>
    <dgm:pt modelId="{3DDBACA9-FEF7-4FE4-9775-8A6C18389E79}" type="parTrans" cxnId="{B99AA001-5183-4F1B-AE50-DB0F46467719}">
      <dgm:prSet/>
      <dgm:spPr/>
      <dgm:t>
        <a:bodyPr/>
        <a:lstStyle/>
        <a:p>
          <a:pPr algn="ctr"/>
          <a:endParaRPr lang="ru-RU"/>
        </a:p>
      </dgm:t>
    </dgm:pt>
    <dgm:pt modelId="{8619480A-249E-4301-BD76-792E8C1F0837}" type="sibTrans" cxnId="{B99AA001-5183-4F1B-AE50-DB0F46467719}">
      <dgm:prSet/>
      <dgm:spPr/>
      <dgm:t>
        <a:bodyPr/>
        <a:lstStyle/>
        <a:p>
          <a:pPr algn="ctr"/>
          <a:endParaRPr lang="ru-RU"/>
        </a:p>
      </dgm:t>
    </dgm:pt>
    <dgm:pt modelId="{4A720AC5-07B5-401C-AB00-5E61C59EFA77}">
      <dgm:prSet/>
      <dgm:spPr/>
      <dgm:t>
        <a:bodyPr/>
        <a:lstStyle/>
        <a:p>
          <a:pPr marR="0" algn="ctr" rtl="0"/>
          <a:r>
            <a:rPr lang="ru-RU" b="1" i="1" baseline="0" smtClean="0">
              <a:latin typeface="Calibri"/>
            </a:rPr>
            <a:t>Раздел "Культура Красивомечья"</a:t>
          </a:r>
        </a:p>
      </dgm:t>
    </dgm:pt>
    <dgm:pt modelId="{332789DF-5970-45CA-BD86-282137234D89}" type="parTrans" cxnId="{342AF4AD-5F75-4576-BC62-C63B2F9BA603}">
      <dgm:prSet/>
      <dgm:spPr/>
      <dgm:t>
        <a:bodyPr/>
        <a:lstStyle/>
        <a:p>
          <a:pPr algn="ctr"/>
          <a:endParaRPr lang="ru-RU"/>
        </a:p>
      </dgm:t>
    </dgm:pt>
    <dgm:pt modelId="{6DE419DF-6AA0-4576-911B-4CDF2A724F16}" type="sibTrans" cxnId="{342AF4AD-5F75-4576-BC62-C63B2F9BA603}">
      <dgm:prSet/>
      <dgm:spPr/>
      <dgm:t>
        <a:bodyPr/>
        <a:lstStyle/>
        <a:p>
          <a:pPr algn="ctr"/>
          <a:endParaRPr lang="ru-RU"/>
        </a:p>
      </dgm:t>
    </dgm:pt>
    <dgm:pt modelId="{43152718-1E80-40A9-BBCB-60651F3B7037}">
      <dgm:prSet/>
      <dgm:spPr/>
      <dgm:t>
        <a:bodyPr/>
        <a:lstStyle/>
        <a:p>
          <a:pPr marR="0" algn="ctr" rtl="0"/>
          <a:r>
            <a:rPr lang="ru-RU" baseline="0" smtClean="0">
              <a:latin typeface="Calibri"/>
            </a:rPr>
            <a:t>Раздел "Труд взрослых"</a:t>
          </a:r>
          <a:endParaRPr lang="ru-RU" smtClean="0"/>
        </a:p>
      </dgm:t>
    </dgm:pt>
    <dgm:pt modelId="{6522D654-E9DA-4EB0-B043-033D2CA5CF48}" type="sibTrans" cxnId="{301F6B1F-EFCA-4A38-807F-76CECA0C1CF8}">
      <dgm:prSet/>
      <dgm:spPr/>
      <dgm:t>
        <a:bodyPr/>
        <a:lstStyle/>
        <a:p>
          <a:pPr algn="ctr"/>
          <a:endParaRPr lang="ru-RU"/>
        </a:p>
      </dgm:t>
    </dgm:pt>
    <dgm:pt modelId="{27DD573D-DF40-4A2C-85E1-00245B3EC0CC}" type="parTrans" cxnId="{301F6B1F-EFCA-4A38-807F-76CECA0C1CF8}">
      <dgm:prSet/>
      <dgm:spPr/>
      <dgm:t>
        <a:bodyPr/>
        <a:lstStyle/>
        <a:p>
          <a:pPr algn="ctr"/>
          <a:endParaRPr lang="ru-RU"/>
        </a:p>
      </dgm:t>
    </dgm:pt>
    <dgm:pt modelId="{811EF061-9700-4184-A323-A35A3B1AA356}">
      <dgm:prSet/>
      <dgm:spPr/>
      <dgm:t>
        <a:bodyPr/>
        <a:lstStyle/>
        <a:p>
          <a:r>
            <a:rPr lang="ru-RU"/>
            <a:t>Раздел "Народные промыслы"</a:t>
          </a:r>
        </a:p>
      </dgm:t>
    </dgm:pt>
    <dgm:pt modelId="{949064D8-208D-4A02-BA81-697D675F7F1A}" type="parTrans" cxnId="{B16BD33A-3DD5-4456-9205-F2965A7CEB08}">
      <dgm:prSet/>
      <dgm:spPr/>
      <dgm:t>
        <a:bodyPr/>
        <a:lstStyle/>
        <a:p>
          <a:endParaRPr lang="ru-RU"/>
        </a:p>
      </dgm:t>
    </dgm:pt>
    <dgm:pt modelId="{91000BF0-4A75-4CBE-821A-3EF3F1D2C8D5}" type="sibTrans" cxnId="{B16BD33A-3DD5-4456-9205-F2965A7CEB08}">
      <dgm:prSet/>
      <dgm:spPr/>
      <dgm:t>
        <a:bodyPr/>
        <a:lstStyle/>
        <a:p>
          <a:endParaRPr lang="ru-RU"/>
        </a:p>
      </dgm:t>
    </dgm:pt>
    <dgm:pt modelId="{ACA20BCE-7A0E-470E-99F8-709EE0279A19}">
      <dgm:prSet/>
      <dgm:spPr/>
      <dgm:t>
        <a:bodyPr/>
        <a:lstStyle/>
        <a:p>
          <a:r>
            <a:rPr lang="ru-RU"/>
            <a:t>Раздел "Природа Красивомечья" </a:t>
          </a:r>
        </a:p>
      </dgm:t>
    </dgm:pt>
    <dgm:pt modelId="{71A19B7F-6BD6-42ED-A291-A3DAA4FE6F4E}" type="parTrans" cxnId="{B1663FB3-BC92-4B60-9600-5CE1FABA79FA}">
      <dgm:prSet/>
      <dgm:spPr/>
      <dgm:t>
        <a:bodyPr/>
        <a:lstStyle/>
        <a:p>
          <a:endParaRPr lang="ru-RU"/>
        </a:p>
      </dgm:t>
    </dgm:pt>
    <dgm:pt modelId="{5FF871A8-2A89-4FCA-A07A-70870D3CFCEB}" type="sibTrans" cxnId="{B1663FB3-BC92-4B60-9600-5CE1FABA79FA}">
      <dgm:prSet/>
      <dgm:spPr/>
      <dgm:t>
        <a:bodyPr/>
        <a:lstStyle/>
        <a:p>
          <a:endParaRPr lang="ru-RU"/>
        </a:p>
      </dgm:t>
    </dgm:pt>
    <dgm:pt modelId="{839300DB-676B-4D7F-97BE-5C691FA4C410}">
      <dgm:prSet/>
      <dgm:spPr/>
      <dgm:t>
        <a:bodyPr/>
        <a:lstStyle/>
        <a:p>
          <a:r>
            <a:rPr lang="ru-RU"/>
            <a:t>Раздел  </a:t>
          </a:r>
        </a:p>
        <a:p>
          <a:r>
            <a:rPr lang="ru-RU"/>
            <a:t>"Моя семья"</a:t>
          </a:r>
        </a:p>
      </dgm:t>
    </dgm:pt>
    <dgm:pt modelId="{0F3E7ABC-F9F6-47AA-836C-F80B83FCCCB0}" type="parTrans" cxnId="{0FA7F3A5-EB5A-4B4E-8FD3-A97506CE4CA2}">
      <dgm:prSet/>
      <dgm:spPr/>
      <dgm:t>
        <a:bodyPr/>
        <a:lstStyle/>
        <a:p>
          <a:endParaRPr lang="ru-RU"/>
        </a:p>
      </dgm:t>
    </dgm:pt>
    <dgm:pt modelId="{26A554CA-1249-4BDA-860C-CF3ECA051A48}" type="sibTrans" cxnId="{0FA7F3A5-EB5A-4B4E-8FD3-A97506CE4CA2}">
      <dgm:prSet/>
      <dgm:spPr/>
      <dgm:t>
        <a:bodyPr/>
        <a:lstStyle/>
        <a:p>
          <a:endParaRPr lang="ru-RU"/>
        </a:p>
      </dgm:t>
    </dgm:pt>
    <dgm:pt modelId="{41A53FBB-E7AB-4F71-8629-7E92E83AADF1}" type="pres">
      <dgm:prSet presAssocID="{8DC16C86-980C-4B1B-8AAF-78B0F6DA37EE}" presName="cycle" presStyleCnt="0">
        <dgm:presLayoutVars>
          <dgm:dir/>
          <dgm:resizeHandles val="exact"/>
        </dgm:presLayoutVars>
      </dgm:prSet>
      <dgm:spPr/>
    </dgm:pt>
    <dgm:pt modelId="{68843B88-391B-4F44-8142-96FA6E8D2638}" type="pres">
      <dgm:prSet presAssocID="{D96BD066-4AA2-4418-9752-4FB7CD88ADC8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70A6D6F-1369-4EC4-922D-CCAD07D1333F}" type="pres">
      <dgm:prSet presAssocID="{D96BD066-4AA2-4418-9752-4FB7CD88ADC8}" presName="spNode" presStyleCnt="0"/>
      <dgm:spPr/>
    </dgm:pt>
    <dgm:pt modelId="{0B55530D-A061-4B1F-9676-ED4242976427}" type="pres">
      <dgm:prSet presAssocID="{2E8F56DE-7074-4C8D-8EDB-9E5024A911BB}" presName="sibTrans" presStyleLbl="sibTrans1D1" presStyleIdx="0" presStyleCnt="7"/>
      <dgm:spPr/>
      <dgm:t>
        <a:bodyPr/>
        <a:lstStyle/>
        <a:p>
          <a:endParaRPr lang="ru-RU"/>
        </a:p>
      </dgm:t>
    </dgm:pt>
    <dgm:pt modelId="{01FDFA34-2455-4D9C-997E-981E356E520B}" type="pres">
      <dgm:prSet presAssocID="{43152718-1E80-40A9-BBCB-60651F3B7037}" presName="node" presStyleLbl="node1" presStyleIdx="1" presStyleCnt="7" custRadScaleRad="100008" custRadScaleInc="1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75C9348-7558-4765-9B3E-64002D878C18}" type="pres">
      <dgm:prSet presAssocID="{43152718-1E80-40A9-BBCB-60651F3B7037}" presName="spNode" presStyleCnt="0"/>
      <dgm:spPr/>
    </dgm:pt>
    <dgm:pt modelId="{0731979C-110B-437C-B8C8-56EF6BAF1F07}" type="pres">
      <dgm:prSet presAssocID="{6522D654-E9DA-4EB0-B043-033D2CA5CF48}" presName="sibTrans" presStyleLbl="sibTrans1D1" presStyleIdx="1" presStyleCnt="7"/>
      <dgm:spPr/>
      <dgm:t>
        <a:bodyPr/>
        <a:lstStyle/>
        <a:p>
          <a:endParaRPr lang="ru-RU"/>
        </a:p>
      </dgm:t>
    </dgm:pt>
    <dgm:pt modelId="{282B79E0-8D42-4D30-9B97-9658DB148610}" type="pres">
      <dgm:prSet presAssocID="{811EF061-9700-4184-A323-A35A3B1AA356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B5F61D-45D8-4756-BABC-4EB5536C1C55}" type="pres">
      <dgm:prSet presAssocID="{811EF061-9700-4184-A323-A35A3B1AA356}" presName="spNode" presStyleCnt="0"/>
      <dgm:spPr/>
    </dgm:pt>
    <dgm:pt modelId="{D5A059EA-25DE-4C70-99BB-76CE61E43338}" type="pres">
      <dgm:prSet presAssocID="{91000BF0-4A75-4CBE-821A-3EF3F1D2C8D5}" presName="sibTrans" presStyleLbl="sibTrans1D1" presStyleIdx="2" presStyleCnt="7"/>
      <dgm:spPr/>
      <dgm:t>
        <a:bodyPr/>
        <a:lstStyle/>
        <a:p>
          <a:endParaRPr lang="ru-RU"/>
        </a:p>
      </dgm:t>
    </dgm:pt>
    <dgm:pt modelId="{AAAAE8E0-DCD0-4615-B0B5-D055A7679501}" type="pres">
      <dgm:prSet presAssocID="{839300DB-676B-4D7F-97BE-5C691FA4C410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CF47489-9D8A-4E79-9598-0ED0D0476C45}" type="pres">
      <dgm:prSet presAssocID="{839300DB-676B-4D7F-97BE-5C691FA4C410}" presName="spNode" presStyleCnt="0"/>
      <dgm:spPr/>
    </dgm:pt>
    <dgm:pt modelId="{8BE41504-3BED-4A89-9912-F7446C5AFECC}" type="pres">
      <dgm:prSet presAssocID="{26A554CA-1249-4BDA-860C-CF3ECA051A48}" presName="sibTrans" presStyleLbl="sibTrans1D1" presStyleIdx="3" presStyleCnt="7"/>
      <dgm:spPr/>
      <dgm:t>
        <a:bodyPr/>
        <a:lstStyle/>
        <a:p>
          <a:endParaRPr lang="ru-RU"/>
        </a:p>
      </dgm:t>
    </dgm:pt>
    <dgm:pt modelId="{F6B2D765-7B39-4C96-981B-59356F8B5F3D}" type="pres">
      <dgm:prSet presAssocID="{14DF4949-A34E-487A-9930-C2DC00CA5094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86EABDA-BBC7-4FA7-9933-0D5A9D6E5C58}" type="pres">
      <dgm:prSet presAssocID="{14DF4949-A34E-487A-9930-C2DC00CA5094}" presName="spNode" presStyleCnt="0"/>
      <dgm:spPr/>
    </dgm:pt>
    <dgm:pt modelId="{86233226-408A-4D9D-87AC-7D35F1471F31}" type="pres">
      <dgm:prSet presAssocID="{8619480A-249E-4301-BD76-792E8C1F0837}" presName="sibTrans" presStyleLbl="sibTrans1D1" presStyleIdx="4" presStyleCnt="7"/>
      <dgm:spPr/>
      <dgm:t>
        <a:bodyPr/>
        <a:lstStyle/>
        <a:p>
          <a:endParaRPr lang="ru-RU"/>
        </a:p>
      </dgm:t>
    </dgm:pt>
    <dgm:pt modelId="{05802C77-863F-43CE-A934-C0E4726E993B}" type="pres">
      <dgm:prSet presAssocID="{ACA20BCE-7A0E-470E-99F8-709EE0279A19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6AD2233-FE17-4AAE-8238-280AC22904D5}" type="pres">
      <dgm:prSet presAssocID="{ACA20BCE-7A0E-470E-99F8-709EE0279A19}" presName="spNode" presStyleCnt="0"/>
      <dgm:spPr/>
    </dgm:pt>
    <dgm:pt modelId="{B5BF2E21-A27F-4984-963E-8DC0088415D0}" type="pres">
      <dgm:prSet presAssocID="{5FF871A8-2A89-4FCA-A07A-70870D3CFCEB}" presName="sibTrans" presStyleLbl="sibTrans1D1" presStyleIdx="5" presStyleCnt="7"/>
      <dgm:spPr/>
      <dgm:t>
        <a:bodyPr/>
        <a:lstStyle/>
        <a:p>
          <a:endParaRPr lang="ru-RU"/>
        </a:p>
      </dgm:t>
    </dgm:pt>
    <dgm:pt modelId="{365DFD86-BA7C-4CDF-8B70-45D4FC079293}" type="pres">
      <dgm:prSet presAssocID="{4A720AC5-07B5-401C-AB00-5E61C59EFA77}" presName="node" presStyleLbl="node1" presStyleIdx="6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CF01F1-E85E-4C2F-B658-1296FF74904A}" type="pres">
      <dgm:prSet presAssocID="{4A720AC5-07B5-401C-AB00-5E61C59EFA77}" presName="spNode" presStyleCnt="0"/>
      <dgm:spPr/>
    </dgm:pt>
    <dgm:pt modelId="{3EA57DA4-2EC5-45A0-ACF8-923BE34727DB}" type="pres">
      <dgm:prSet presAssocID="{6DE419DF-6AA0-4576-911B-4CDF2A724F16}" presName="sibTrans" presStyleLbl="sibTrans1D1" presStyleIdx="6" presStyleCnt="7"/>
      <dgm:spPr/>
      <dgm:t>
        <a:bodyPr/>
        <a:lstStyle/>
        <a:p>
          <a:endParaRPr lang="ru-RU"/>
        </a:p>
      </dgm:t>
    </dgm:pt>
  </dgm:ptLst>
  <dgm:cxnLst>
    <dgm:cxn modelId="{E5DF4DF9-AA57-486A-AEE9-D63558262740}" type="presOf" srcId="{8619480A-249E-4301-BD76-792E8C1F0837}" destId="{86233226-408A-4D9D-87AC-7D35F1471F31}" srcOrd="0" destOrd="0" presId="urn:microsoft.com/office/officeart/2005/8/layout/cycle5"/>
    <dgm:cxn modelId="{B99AA001-5183-4F1B-AE50-DB0F46467719}" srcId="{8DC16C86-980C-4B1B-8AAF-78B0F6DA37EE}" destId="{14DF4949-A34E-487A-9930-C2DC00CA5094}" srcOrd="4" destOrd="0" parTransId="{3DDBACA9-FEF7-4FE4-9775-8A6C18389E79}" sibTransId="{8619480A-249E-4301-BD76-792E8C1F0837}"/>
    <dgm:cxn modelId="{992A0B33-4FF5-470A-B49D-6E0D0A9AA606}" type="presOf" srcId="{14DF4949-A34E-487A-9930-C2DC00CA5094}" destId="{F6B2D765-7B39-4C96-981B-59356F8B5F3D}" srcOrd="0" destOrd="0" presId="urn:microsoft.com/office/officeart/2005/8/layout/cycle5"/>
    <dgm:cxn modelId="{43CCBC9F-FC63-4D22-B396-AAE6DF959654}" type="presOf" srcId="{6522D654-E9DA-4EB0-B043-033D2CA5CF48}" destId="{0731979C-110B-437C-B8C8-56EF6BAF1F07}" srcOrd="0" destOrd="0" presId="urn:microsoft.com/office/officeart/2005/8/layout/cycle5"/>
    <dgm:cxn modelId="{447477F3-8335-4598-BB32-4FB2AF6A1B97}" type="presOf" srcId="{26A554CA-1249-4BDA-860C-CF3ECA051A48}" destId="{8BE41504-3BED-4A89-9912-F7446C5AFECC}" srcOrd="0" destOrd="0" presId="urn:microsoft.com/office/officeart/2005/8/layout/cycle5"/>
    <dgm:cxn modelId="{342AF4AD-5F75-4576-BC62-C63B2F9BA603}" srcId="{8DC16C86-980C-4B1B-8AAF-78B0F6DA37EE}" destId="{4A720AC5-07B5-401C-AB00-5E61C59EFA77}" srcOrd="6" destOrd="0" parTransId="{332789DF-5970-45CA-BD86-282137234D89}" sibTransId="{6DE419DF-6AA0-4576-911B-4CDF2A724F16}"/>
    <dgm:cxn modelId="{0FA7F3A5-EB5A-4B4E-8FD3-A97506CE4CA2}" srcId="{8DC16C86-980C-4B1B-8AAF-78B0F6DA37EE}" destId="{839300DB-676B-4D7F-97BE-5C691FA4C410}" srcOrd="3" destOrd="0" parTransId="{0F3E7ABC-F9F6-47AA-836C-F80B83FCCCB0}" sibTransId="{26A554CA-1249-4BDA-860C-CF3ECA051A48}"/>
    <dgm:cxn modelId="{5859E18F-D8E3-497C-AB0F-410BB13FFBC2}" type="presOf" srcId="{6DE419DF-6AA0-4576-911B-4CDF2A724F16}" destId="{3EA57DA4-2EC5-45A0-ACF8-923BE34727DB}" srcOrd="0" destOrd="0" presId="urn:microsoft.com/office/officeart/2005/8/layout/cycle5"/>
    <dgm:cxn modelId="{F5CBC7BF-0FFD-49B2-9222-3A40F86DAFE4}" type="presOf" srcId="{5FF871A8-2A89-4FCA-A07A-70870D3CFCEB}" destId="{B5BF2E21-A27F-4984-963E-8DC0088415D0}" srcOrd="0" destOrd="0" presId="urn:microsoft.com/office/officeart/2005/8/layout/cycle5"/>
    <dgm:cxn modelId="{E27C1347-3037-4AE3-9587-C174B221BC42}" type="presOf" srcId="{811EF061-9700-4184-A323-A35A3B1AA356}" destId="{282B79E0-8D42-4D30-9B97-9658DB148610}" srcOrd="0" destOrd="0" presId="urn:microsoft.com/office/officeart/2005/8/layout/cycle5"/>
    <dgm:cxn modelId="{0B451F98-7E81-4541-AC40-EF305EA84D33}" type="presOf" srcId="{2E8F56DE-7074-4C8D-8EDB-9E5024A911BB}" destId="{0B55530D-A061-4B1F-9676-ED4242976427}" srcOrd="0" destOrd="0" presId="urn:microsoft.com/office/officeart/2005/8/layout/cycle5"/>
    <dgm:cxn modelId="{301F6B1F-EFCA-4A38-807F-76CECA0C1CF8}" srcId="{8DC16C86-980C-4B1B-8AAF-78B0F6DA37EE}" destId="{43152718-1E80-40A9-BBCB-60651F3B7037}" srcOrd="1" destOrd="0" parTransId="{27DD573D-DF40-4A2C-85E1-00245B3EC0CC}" sibTransId="{6522D654-E9DA-4EB0-B043-033D2CA5CF48}"/>
    <dgm:cxn modelId="{D819557A-D89F-4960-8462-AE13D77CACA8}" type="presOf" srcId="{43152718-1E80-40A9-BBCB-60651F3B7037}" destId="{01FDFA34-2455-4D9C-997E-981E356E520B}" srcOrd="0" destOrd="0" presId="urn:microsoft.com/office/officeart/2005/8/layout/cycle5"/>
    <dgm:cxn modelId="{5073C614-187B-498F-88CA-E0F6ED29A6EA}" type="presOf" srcId="{4A720AC5-07B5-401C-AB00-5E61C59EFA77}" destId="{365DFD86-BA7C-4CDF-8B70-45D4FC079293}" srcOrd="0" destOrd="0" presId="urn:microsoft.com/office/officeart/2005/8/layout/cycle5"/>
    <dgm:cxn modelId="{898763D1-6466-4A62-8D7F-A4E4498F02D6}" type="presOf" srcId="{D96BD066-4AA2-4418-9752-4FB7CD88ADC8}" destId="{68843B88-391B-4F44-8142-96FA6E8D2638}" srcOrd="0" destOrd="0" presId="urn:microsoft.com/office/officeart/2005/8/layout/cycle5"/>
    <dgm:cxn modelId="{F33161CA-FFF6-4D3A-B650-92E7124E0CCA}" type="presOf" srcId="{91000BF0-4A75-4CBE-821A-3EF3F1D2C8D5}" destId="{D5A059EA-25DE-4C70-99BB-76CE61E43338}" srcOrd="0" destOrd="0" presId="urn:microsoft.com/office/officeart/2005/8/layout/cycle5"/>
    <dgm:cxn modelId="{B2884FFC-09CC-427F-BDC2-FE554425EC7E}" type="presOf" srcId="{839300DB-676B-4D7F-97BE-5C691FA4C410}" destId="{AAAAE8E0-DCD0-4615-B0B5-D055A7679501}" srcOrd="0" destOrd="0" presId="urn:microsoft.com/office/officeart/2005/8/layout/cycle5"/>
    <dgm:cxn modelId="{42F3C8C4-D8A7-4AE7-81E8-7DB8AA9F80F4}" srcId="{8DC16C86-980C-4B1B-8AAF-78B0F6DA37EE}" destId="{D96BD066-4AA2-4418-9752-4FB7CD88ADC8}" srcOrd="0" destOrd="0" parTransId="{911EAD8C-ACAC-4323-833E-5F8EC5A48AAB}" sibTransId="{2E8F56DE-7074-4C8D-8EDB-9E5024A911BB}"/>
    <dgm:cxn modelId="{424D086E-2894-41DB-A147-2B525320B31A}" type="presOf" srcId="{8DC16C86-980C-4B1B-8AAF-78B0F6DA37EE}" destId="{41A53FBB-E7AB-4F71-8629-7E92E83AADF1}" srcOrd="0" destOrd="0" presId="urn:microsoft.com/office/officeart/2005/8/layout/cycle5"/>
    <dgm:cxn modelId="{2008774C-6830-4442-B54A-7C0308F7B60D}" type="presOf" srcId="{ACA20BCE-7A0E-470E-99F8-709EE0279A19}" destId="{05802C77-863F-43CE-A934-C0E4726E993B}" srcOrd="0" destOrd="0" presId="urn:microsoft.com/office/officeart/2005/8/layout/cycle5"/>
    <dgm:cxn modelId="{B1663FB3-BC92-4B60-9600-5CE1FABA79FA}" srcId="{8DC16C86-980C-4B1B-8AAF-78B0F6DA37EE}" destId="{ACA20BCE-7A0E-470E-99F8-709EE0279A19}" srcOrd="5" destOrd="0" parTransId="{71A19B7F-6BD6-42ED-A291-A3DAA4FE6F4E}" sibTransId="{5FF871A8-2A89-4FCA-A07A-70870D3CFCEB}"/>
    <dgm:cxn modelId="{B16BD33A-3DD5-4456-9205-F2965A7CEB08}" srcId="{8DC16C86-980C-4B1B-8AAF-78B0F6DA37EE}" destId="{811EF061-9700-4184-A323-A35A3B1AA356}" srcOrd="2" destOrd="0" parTransId="{949064D8-208D-4A02-BA81-697D675F7F1A}" sibTransId="{91000BF0-4A75-4CBE-821A-3EF3F1D2C8D5}"/>
    <dgm:cxn modelId="{9189E6DA-D918-4A04-97FD-3BF07D7EF548}" type="presParOf" srcId="{41A53FBB-E7AB-4F71-8629-7E92E83AADF1}" destId="{68843B88-391B-4F44-8142-96FA6E8D2638}" srcOrd="0" destOrd="0" presId="urn:microsoft.com/office/officeart/2005/8/layout/cycle5"/>
    <dgm:cxn modelId="{EC13FCE9-B865-4368-BDA6-924BCDF2F3C4}" type="presParOf" srcId="{41A53FBB-E7AB-4F71-8629-7E92E83AADF1}" destId="{270A6D6F-1369-4EC4-922D-CCAD07D1333F}" srcOrd="1" destOrd="0" presId="urn:microsoft.com/office/officeart/2005/8/layout/cycle5"/>
    <dgm:cxn modelId="{2EECB13F-D1C8-40A7-998F-20BCA333E378}" type="presParOf" srcId="{41A53FBB-E7AB-4F71-8629-7E92E83AADF1}" destId="{0B55530D-A061-4B1F-9676-ED4242976427}" srcOrd="2" destOrd="0" presId="urn:microsoft.com/office/officeart/2005/8/layout/cycle5"/>
    <dgm:cxn modelId="{9600D882-E012-4AF1-98F8-028B8A83A87A}" type="presParOf" srcId="{41A53FBB-E7AB-4F71-8629-7E92E83AADF1}" destId="{01FDFA34-2455-4D9C-997E-981E356E520B}" srcOrd="3" destOrd="0" presId="urn:microsoft.com/office/officeart/2005/8/layout/cycle5"/>
    <dgm:cxn modelId="{2D102063-E220-402F-8AF6-336F6752C8B6}" type="presParOf" srcId="{41A53FBB-E7AB-4F71-8629-7E92E83AADF1}" destId="{275C9348-7558-4765-9B3E-64002D878C18}" srcOrd="4" destOrd="0" presId="urn:microsoft.com/office/officeart/2005/8/layout/cycle5"/>
    <dgm:cxn modelId="{61AD00C0-3CA5-46F4-B777-E3AAA3D5AD20}" type="presParOf" srcId="{41A53FBB-E7AB-4F71-8629-7E92E83AADF1}" destId="{0731979C-110B-437C-B8C8-56EF6BAF1F07}" srcOrd="5" destOrd="0" presId="urn:microsoft.com/office/officeart/2005/8/layout/cycle5"/>
    <dgm:cxn modelId="{A2872F89-F1AB-4B97-A41B-F9766FD1CB2C}" type="presParOf" srcId="{41A53FBB-E7AB-4F71-8629-7E92E83AADF1}" destId="{282B79E0-8D42-4D30-9B97-9658DB148610}" srcOrd="6" destOrd="0" presId="urn:microsoft.com/office/officeart/2005/8/layout/cycle5"/>
    <dgm:cxn modelId="{735E3F38-573C-4B47-88CD-6A997BEC4036}" type="presParOf" srcId="{41A53FBB-E7AB-4F71-8629-7E92E83AADF1}" destId="{EFB5F61D-45D8-4756-BABC-4EB5536C1C55}" srcOrd="7" destOrd="0" presId="urn:microsoft.com/office/officeart/2005/8/layout/cycle5"/>
    <dgm:cxn modelId="{2F048A27-0115-4117-87C3-1375E6AD13F8}" type="presParOf" srcId="{41A53FBB-E7AB-4F71-8629-7E92E83AADF1}" destId="{D5A059EA-25DE-4C70-99BB-76CE61E43338}" srcOrd="8" destOrd="0" presId="urn:microsoft.com/office/officeart/2005/8/layout/cycle5"/>
    <dgm:cxn modelId="{58A751CD-4072-4645-A177-F1E353750212}" type="presParOf" srcId="{41A53FBB-E7AB-4F71-8629-7E92E83AADF1}" destId="{AAAAE8E0-DCD0-4615-B0B5-D055A7679501}" srcOrd="9" destOrd="0" presId="urn:microsoft.com/office/officeart/2005/8/layout/cycle5"/>
    <dgm:cxn modelId="{7483D948-FD0D-4E76-8D22-4D827668003F}" type="presParOf" srcId="{41A53FBB-E7AB-4F71-8629-7E92E83AADF1}" destId="{8CF47489-9D8A-4E79-9598-0ED0D0476C45}" srcOrd="10" destOrd="0" presId="urn:microsoft.com/office/officeart/2005/8/layout/cycle5"/>
    <dgm:cxn modelId="{52C1F564-24FF-477E-9788-4B3061109F45}" type="presParOf" srcId="{41A53FBB-E7AB-4F71-8629-7E92E83AADF1}" destId="{8BE41504-3BED-4A89-9912-F7446C5AFECC}" srcOrd="11" destOrd="0" presId="urn:microsoft.com/office/officeart/2005/8/layout/cycle5"/>
    <dgm:cxn modelId="{BCF46FFD-C89D-476E-9033-0A94C5D2D1A9}" type="presParOf" srcId="{41A53FBB-E7AB-4F71-8629-7E92E83AADF1}" destId="{F6B2D765-7B39-4C96-981B-59356F8B5F3D}" srcOrd="12" destOrd="0" presId="urn:microsoft.com/office/officeart/2005/8/layout/cycle5"/>
    <dgm:cxn modelId="{CCD37795-BA10-4901-B73C-1B50C24D6BDF}" type="presParOf" srcId="{41A53FBB-E7AB-4F71-8629-7E92E83AADF1}" destId="{E86EABDA-BBC7-4FA7-9933-0D5A9D6E5C58}" srcOrd="13" destOrd="0" presId="urn:microsoft.com/office/officeart/2005/8/layout/cycle5"/>
    <dgm:cxn modelId="{6316BD3D-13B5-4287-9FDE-4467A72B3D71}" type="presParOf" srcId="{41A53FBB-E7AB-4F71-8629-7E92E83AADF1}" destId="{86233226-408A-4D9D-87AC-7D35F1471F31}" srcOrd="14" destOrd="0" presId="urn:microsoft.com/office/officeart/2005/8/layout/cycle5"/>
    <dgm:cxn modelId="{E9AD1803-A564-472F-B9EB-99D9CF88CD4B}" type="presParOf" srcId="{41A53FBB-E7AB-4F71-8629-7E92E83AADF1}" destId="{05802C77-863F-43CE-A934-C0E4726E993B}" srcOrd="15" destOrd="0" presId="urn:microsoft.com/office/officeart/2005/8/layout/cycle5"/>
    <dgm:cxn modelId="{39FB6A83-9921-4CDA-8E33-F5EBFC3EF7E3}" type="presParOf" srcId="{41A53FBB-E7AB-4F71-8629-7E92E83AADF1}" destId="{36AD2233-FE17-4AAE-8238-280AC22904D5}" srcOrd="16" destOrd="0" presId="urn:microsoft.com/office/officeart/2005/8/layout/cycle5"/>
    <dgm:cxn modelId="{5C61EC35-9B0F-48B0-A121-D449404803BF}" type="presParOf" srcId="{41A53FBB-E7AB-4F71-8629-7E92E83AADF1}" destId="{B5BF2E21-A27F-4984-963E-8DC0088415D0}" srcOrd="17" destOrd="0" presId="urn:microsoft.com/office/officeart/2005/8/layout/cycle5"/>
    <dgm:cxn modelId="{51CE18AA-FE36-4D83-87E6-43DD98F82B59}" type="presParOf" srcId="{41A53FBB-E7AB-4F71-8629-7E92E83AADF1}" destId="{365DFD86-BA7C-4CDF-8B70-45D4FC079293}" srcOrd="18" destOrd="0" presId="urn:microsoft.com/office/officeart/2005/8/layout/cycle5"/>
    <dgm:cxn modelId="{869C57FA-3E52-4E75-B1AA-89BA8BF92B61}" type="presParOf" srcId="{41A53FBB-E7AB-4F71-8629-7E92E83AADF1}" destId="{EBCF01F1-E85E-4C2F-B658-1296FF74904A}" srcOrd="19" destOrd="0" presId="urn:microsoft.com/office/officeart/2005/8/layout/cycle5"/>
    <dgm:cxn modelId="{72F0763D-EB7B-400B-BB3F-2AB352CDCECB}" type="presParOf" srcId="{41A53FBB-E7AB-4F71-8629-7E92E83AADF1}" destId="{3EA57DA4-2EC5-45A0-ACF8-923BE34727DB}" srcOrd="20" destOrd="0" presId="urn:microsoft.com/office/officeart/2005/8/layout/cycle5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8843B88-391B-4F44-8142-96FA6E8D2638}">
      <dsp:nvSpPr>
        <dsp:cNvPr id="0" name=""/>
        <dsp:cNvSpPr/>
      </dsp:nvSpPr>
      <dsp:spPr>
        <a:xfrm>
          <a:off x="3128900" y="2285"/>
          <a:ext cx="1171750" cy="761637"/>
        </a:xfrm>
        <a:prstGeom prst="roundRect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marR="0" lvl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b="1" i="1" kern="1200" baseline="0" smtClean="0">
              <a:latin typeface="Calibri"/>
            </a:rPr>
            <a:t>Раздел </a:t>
          </a:r>
        </a:p>
        <a:p>
          <a:pPr marR="0" lvl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b="1" i="1" kern="1200" baseline="0" smtClean="0">
              <a:latin typeface="Calibri"/>
            </a:rPr>
            <a:t>"Детский сад и я"</a:t>
          </a:r>
        </a:p>
      </dsp:txBody>
      <dsp:txXfrm>
        <a:off x="3128900" y="2285"/>
        <a:ext cx="1171750" cy="761637"/>
      </dsp:txXfrm>
    </dsp:sp>
    <dsp:sp modelId="{0B55530D-A061-4B1F-9676-ED4242976427}">
      <dsp:nvSpPr>
        <dsp:cNvPr id="0" name=""/>
        <dsp:cNvSpPr/>
      </dsp:nvSpPr>
      <dsp:spPr>
        <a:xfrm>
          <a:off x="1543650" y="383233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2910075" y="129426"/>
              </a:moveTo>
              <a:arcTo wR="2171584" hR="2171584" stAng="17392868" swAng="770918"/>
            </a:path>
          </a:pathLst>
        </a:custGeom>
        <a:noFill/>
        <a:ln w="9525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1FDFA34-2455-4D9C-997E-981E356E520B}">
      <dsp:nvSpPr>
        <dsp:cNvPr id="0" name=""/>
        <dsp:cNvSpPr/>
      </dsp:nvSpPr>
      <dsp:spPr>
        <a:xfrm>
          <a:off x="4826902" y="819866"/>
          <a:ext cx="1171750" cy="761637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3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marR="0" lvl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baseline="0" smtClean="0">
              <a:latin typeface="Calibri"/>
            </a:rPr>
            <a:t>Раздел "Труд взрослых"</a:t>
          </a:r>
          <a:endParaRPr lang="ru-RU" sz="1100" kern="1200" smtClean="0"/>
        </a:p>
      </dsp:txBody>
      <dsp:txXfrm>
        <a:off x="4826902" y="819866"/>
        <a:ext cx="1171750" cy="761637"/>
      </dsp:txXfrm>
    </dsp:sp>
    <dsp:sp modelId="{0731979C-110B-437C-B8C8-56EF6BAF1F07}">
      <dsp:nvSpPr>
        <dsp:cNvPr id="0" name=""/>
        <dsp:cNvSpPr/>
      </dsp:nvSpPr>
      <dsp:spPr>
        <a:xfrm>
          <a:off x="1543207" y="382749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4201466" y="1399987"/>
              </a:moveTo>
              <a:arcTo wR="2171584" hR="2171584" stAng="20351233" swAng="1063411"/>
            </a:path>
          </a:pathLst>
        </a:custGeom>
        <a:noFill/>
        <a:ln w="9525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82B79E0-8D42-4D30-9B97-9658DB148610}">
      <dsp:nvSpPr>
        <dsp:cNvPr id="0" name=""/>
        <dsp:cNvSpPr/>
      </dsp:nvSpPr>
      <dsp:spPr>
        <a:xfrm>
          <a:off x="5246039" y="2657093"/>
          <a:ext cx="1171750" cy="761637"/>
        </a:xfrm>
        <a:prstGeom prst="roundRect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4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/>
            <a:t>Раздел "Народные промыслы"</a:t>
          </a:r>
        </a:p>
      </dsp:txBody>
      <dsp:txXfrm>
        <a:off x="5246039" y="2657093"/>
        <a:ext cx="1171750" cy="761637"/>
      </dsp:txXfrm>
    </dsp:sp>
    <dsp:sp modelId="{D5A059EA-25DE-4C70-99BB-76CE61E43338}">
      <dsp:nvSpPr>
        <dsp:cNvPr id="0" name=""/>
        <dsp:cNvSpPr/>
      </dsp:nvSpPr>
      <dsp:spPr>
        <a:xfrm>
          <a:off x="1543190" y="383104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4088454" y="3192071"/>
              </a:moveTo>
              <a:arcTo wR="2171584" hR="2171584" stAng="1681773" swAng="834366"/>
            </a:path>
          </a:pathLst>
        </a:custGeom>
        <a:noFill/>
        <a:ln w="9525" cap="flat" cmpd="sng" algn="ctr">
          <a:solidFill>
            <a:schemeClr val="accent4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AAAE8E0-DCD0-4615-B0B5-D055A7679501}">
      <dsp:nvSpPr>
        <dsp:cNvPr id="0" name=""/>
        <dsp:cNvSpPr/>
      </dsp:nvSpPr>
      <dsp:spPr>
        <a:xfrm>
          <a:off x="4071115" y="4130400"/>
          <a:ext cx="1171750" cy="761637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5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/>
            <a:t>Раздел  </a:t>
          </a:r>
        </a:p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/>
            <a:t>"Моя семья"</a:t>
          </a:r>
        </a:p>
      </dsp:txBody>
      <dsp:txXfrm>
        <a:off x="4071115" y="4130400"/>
        <a:ext cx="1171750" cy="761637"/>
      </dsp:txXfrm>
    </dsp:sp>
    <dsp:sp modelId="{8BE41504-3BED-4A89-9912-F7446C5AFECC}">
      <dsp:nvSpPr>
        <dsp:cNvPr id="0" name=""/>
        <dsp:cNvSpPr/>
      </dsp:nvSpPr>
      <dsp:spPr>
        <a:xfrm>
          <a:off x="1543190" y="383104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2386654" y="4332493"/>
              </a:moveTo>
              <a:arcTo wR="2171584" hR="2171584" stAng="5058973" swAng="682054"/>
            </a:path>
          </a:pathLst>
        </a:custGeom>
        <a:noFill/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6B2D765-7B39-4C96-981B-59356F8B5F3D}">
      <dsp:nvSpPr>
        <dsp:cNvPr id="0" name=""/>
        <dsp:cNvSpPr/>
      </dsp:nvSpPr>
      <dsp:spPr>
        <a:xfrm>
          <a:off x="2186684" y="4130400"/>
          <a:ext cx="1171750" cy="761637"/>
        </a:xfrm>
        <a:prstGeom prst="roundRect">
          <a:avLst/>
        </a:prstGeom>
        <a:solidFill>
          <a:schemeClr val="accent6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6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marR="0" lvl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b="1" i="1" kern="1200" baseline="0" smtClean="0">
            <a:latin typeface="Calibri"/>
          </a:endParaRPr>
        </a:p>
        <a:p>
          <a:pPr marR="0" lvl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b="1" i="1" kern="1200" baseline="0" smtClean="0">
              <a:latin typeface="Calibri"/>
            </a:rPr>
            <a:t>Раздел  "Мой город"</a:t>
          </a:r>
        </a:p>
      </dsp:txBody>
      <dsp:txXfrm>
        <a:off x="2186684" y="4130400"/>
        <a:ext cx="1171750" cy="761637"/>
      </dsp:txXfrm>
    </dsp:sp>
    <dsp:sp modelId="{86233226-408A-4D9D-87AC-7D35F1471F31}">
      <dsp:nvSpPr>
        <dsp:cNvPr id="0" name=""/>
        <dsp:cNvSpPr/>
      </dsp:nvSpPr>
      <dsp:spPr>
        <a:xfrm>
          <a:off x="1543190" y="383104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556151" y="3622845"/>
              </a:moveTo>
              <a:arcTo wR="2171584" hR="2171584" stAng="8283861" swAng="834366"/>
            </a:path>
          </a:pathLst>
        </a:custGeom>
        <a:noFill/>
        <a:ln w="9525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5802C77-863F-43CE-A934-C0E4726E993B}">
      <dsp:nvSpPr>
        <dsp:cNvPr id="0" name=""/>
        <dsp:cNvSpPr/>
      </dsp:nvSpPr>
      <dsp:spPr>
        <a:xfrm>
          <a:off x="1011761" y="2657093"/>
          <a:ext cx="1171750" cy="761637"/>
        </a:xfrm>
        <a:prstGeom prst="roundRect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/>
            <a:t>Раздел "Природа Красивомечья" </a:t>
          </a:r>
        </a:p>
      </dsp:txBody>
      <dsp:txXfrm>
        <a:off x="1011761" y="2657093"/>
        <a:ext cx="1171750" cy="761637"/>
      </dsp:txXfrm>
    </dsp:sp>
    <dsp:sp modelId="{B5BF2E21-A27F-4984-963E-8DC0088415D0}">
      <dsp:nvSpPr>
        <dsp:cNvPr id="0" name=""/>
        <dsp:cNvSpPr/>
      </dsp:nvSpPr>
      <dsp:spPr>
        <a:xfrm>
          <a:off x="1543190" y="383104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3174" y="2054201"/>
              </a:moveTo>
              <a:arcTo wR="2171584" hR="2171584" stAng="10985915" swAng="1063406"/>
            </a:path>
          </a:pathLst>
        </a:custGeom>
        <a:noFill/>
        <a:ln w="9525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65DFD86-BA7C-4CDF-8B70-45D4FC079293}">
      <dsp:nvSpPr>
        <dsp:cNvPr id="0" name=""/>
        <dsp:cNvSpPr/>
      </dsp:nvSpPr>
      <dsp:spPr>
        <a:xfrm>
          <a:off x="1431086" y="819909"/>
          <a:ext cx="1171750" cy="761637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7150" dist="38100" dir="5400000" algn="ctr" rotWithShape="0">
            <a:schemeClr val="accent3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marR="0" lvl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b="1" i="1" kern="1200" baseline="0" smtClean="0">
              <a:latin typeface="Calibri"/>
            </a:rPr>
            <a:t>Раздел "Культура Красивомечья"</a:t>
          </a:r>
        </a:p>
      </dsp:txBody>
      <dsp:txXfrm>
        <a:off x="1431086" y="819909"/>
        <a:ext cx="1171750" cy="761637"/>
      </dsp:txXfrm>
    </dsp:sp>
    <dsp:sp modelId="{3EA57DA4-2EC5-45A0-ACF8-923BE34727DB}">
      <dsp:nvSpPr>
        <dsp:cNvPr id="0" name=""/>
        <dsp:cNvSpPr/>
      </dsp:nvSpPr>
      <dsp:spPr>
        <a:xfrm>
          <a:off x="1543190" y="383104"/>
          <a:ext cx="4343169" cy="4343169"/>
        </a:xfrm>
        <a:custGeom>
          <a:avLst/>
          <a:gdLst/>
          <a:ahLst/>
          <a:cxnLst/>
          <a:rect l="0" t="0" r="0" b="0"/>
          <a:pathLst>
            <a:path>
              <a:moveTo>
                <a:pt x="997186" y="344957"/>
              </a:moveTo>
              <a:arcTo wR="2171584" hR="2171584" stAng="14235703" swAng="770733"/>
            </a:path>
          </a:pathLst>
        </a:custGeom>
        <a:noFill/>
        <a:ln w="9525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  <a:tailEnd type="arrow"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z="-110000"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5">
  <dgm:title val=""/>
  <dgm:desc val=""/>
  <dgm:catLst>
    <dgm:cat type="cycle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fact="-1"/>
          <dgm:constr type="diam" for="ch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2"/>
                <dgm:constr type="endPad" refType="connDist" fact="0.2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3">
  <dgm:title val=""/>
  <dgm:desc val=""/>
  <dgm:catLst>
    <dgm:cat type="3D" pri="11300"/>
  </dgm:catLst>
  <dgm:scene3d>
    <a:camera prst="orthographicFront"/>
    <a:lightRig rig="threePt" dir="t"/>
  </dgm:scene3d>
  <dgm:styleLbl name="node0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clear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flat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-182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>
        <a:rot lat="0" lon="0" rev="0"/>
      </a:camera>
      <a:lightRig rig="contrasting" dir="t">
        <a:rot lat="0" lon="0" rev="1200000"/>
      </a:lightRig>
    </dgm:scene3d>
    <dgm:sp3d z="10000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4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1D1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Acc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2700" prstMaterial="flat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>
        <a:rot lat="0" lon="0" rev="0"/>
      </a:camera>
      <a:lightRig rig="contrasting" dir="t">
        <a:rot lat="0" lon="0" rev="1200000"/>
      </a:lightRig>
    </dgm:scene3d>
    <dgm:sp3d z="-300000" prstMaterial="plastic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flat">
      <a:bevelT w="100800" h="1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>
        <a:rot lat="0" lon="0" rev="0"/>
      </a:camera>
      <a:lightRig rig="contrasting" dir="t">
        <a:rot lat="0" lon="0" rev="1200000"/>
      </a:lightRig>
    </dgm:scene3d>
    <dgm:sp3d z="-15240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DCA-196C-47E3-8A7C-A33653A8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CCA-A3C4-4F40-8880-936CFF5A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0FD-C8A0-4D6C-8AA8-93FD150C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D9C-088C-4D2B-A489-9813E5AD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413-B907-4CFF-84CF-B5FB31B9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61F-A344-4EBA-B4C8-BB282761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697-CCC8-4B02-B6CA-75F985A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4BE-2517-4B20-BE31-6494F82E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26F-1C12-4F7C-9BB0-04EFB475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4EA-200D-449F-B75B-3BF25BF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939-E46A-49B3-94E1-3D60C8B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D41-6FC9-4545-916E-93474D4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BA093A-0253-4298-97E0-672CA3EFE0B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7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6.png"/>
          <p:cNvPicPr/>
          <p:nvPr/>
        </p:nvPicPr>
        <p:blipFill>
          <a:blip r:embed="rId2"/>
          <a:stretch/>
        </p:blipFill>
        <p:spPr>
          <a:xfrm>
            <a:off x="4500000" y="3629160"/>
            <a:ext cx="4002480" cy="26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907640" y="1340640"/>
            <a:ext cx="61923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ЭКОЛОГИЧЕСК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В РАМКАХ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28760" y="500040"/>
            <a:ext cx="87148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УТИН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: Ж. Л. Васякина-Нов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lib.exdat.com/tw_files2/urls_14/3/d-2449/img5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81360" cy="478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28760" y="500040"/>
            <a:ext cx="8714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 СЕМИЦВЕТИК » Автор  В.И. Аш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ttp://lib.exdat.com/tw_files2/urls_14/3/d-2449/img6.jpg"/>
          <p:cNvPicPr/>
          <p:nvPr/>
        </p:nvPicPr>
        <p:blipFill>
          <a:blip r:embed="rId1"/>
          <a:stretch/>
        </p:blipFill>
        <p:spPr>
          <a:xfrm>
            <a:off x="1357200" y="1428840"/>
            <a:ext cx="6643440" cy="498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7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6.png"/>
          <p:cNvPicPr/>
          <p:nvPr/>
        </p:nvPicPr>
        <p:blipFill>
          <a:blip r:embed="rId2"/>
          <a:stretch/>
        </p:blipFill>
        <p:spPr>
          <a:xfrm>
            <a:off x="4500000" y="3629160"/>
            <a:ext cx="4002480" cy="2651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38692399"/>
              </p:ext>
            </p:extLst>
          </p:nvPr>
        </p:nvGraphicFramePr>
        <p:xfrm>
          <a:off x="714240" y="1143000"/>
          <a:ext cx="7429320" cy="4893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8" name="TextBox 4"/>
          <p:cNvSpPr/>
          <p:nvPr/>
        </p:nvSpPr>
        <p:spPr>
          <a:xfrm>
            <a:off x="428760" y="500040"/>
            <a:ext cx="82148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стема эколого- краевед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428840" y="210600"/>
            <a:ext cx="6314400" cy="423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«Природа Красивомечья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крыть значимость ценностного отношения к родной приро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ь способности эмоционально-эстетического восприятия окружающего ми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ировать истинную любовь к родной земле, чувство привязанности к своей малой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IMG_0106.jpg"/>
          <p:cNvPicPr/>
          <p:nvPr/>
        </p:nvPicPr>
        <p:blipFill>
          <a:blip r:embed="rId1"/>
          <a:stretch/>
        </p:blipFill>
        <p:spPr>
          <a:xfrm>
            <a:off x="6929280" y="4286160"/>
            <a:ext cx="1785600" cy="2209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3" descr="IMG_0107.jpg"/>
          <p:cNvPicPr/>
          <p:nvPr/>
        </p:nvPicPr>
        <p:blipFill>
          <a:blip r:embed="rId2"/>
          <a:stretch/>
        </p:blipFill>
        <p:spPr>
          <a:xfrm>
            <a:off x="1000080" y="4429080"/>
            <a:ext cx="1928520" cy="2132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Таблица 1"/>
          <p:cNvGraphicFramePr/>
          <p:nvPr/>
        </p:nvGraphicFramePr>
        <p:xfrm>
          <a:off x="1500120" y="1143000"/>
          <a:ext cx="5428800" cy="5003280"/>
        </p:xfrm>
        <a:graphic>
          <a:graphicData uri="http://schemas.openxmlformats.org/drawingml/2006/table">
            <a:tbl>
              <a:tblPr/>
              <a:tblGrid>
                <a:gridCol w="1271520"/>
                <a:gridCol w="4157640"/>
              </a:tblGrid>
              <a:tr h="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яц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ы природы – овощи и фрукт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екомые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в Ефремов пришла, радость всем нам принесл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ревья и кустарники в городской рощ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тицы наши друзь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няя п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натные раст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кие животные наших лес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зимье (признаки конца осени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войный лес: ели и сосн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живут лесные звери зим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има идет, аука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посадим л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жем птицы зим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январе, в январе, много снега во двор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город на подоконник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ие животны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има недаром злитс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еревьям в гост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чи - первые вестники вес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 идет неспешными шага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равствуй, травушка – муравуш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сные звери весн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и к весеннему солнышку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арственные раст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бочки и пчелы у меня в са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родные яв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1"/>
          <p:cNvSpPr/>
          <p:nvPr/>
        </p:nvSpPr>
        <p:spPr>
          <a:xfrm>
            <a:off x="1428840" y="489960"/>
            <a:ext cx="58575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Вторая младшая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428840" y="311400"/>
            <a:ext cx="63144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Средняя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Таблица 2"/>
          <p:cNvGraphicFramePr/>
          <p:nvPr/>
        </p:nvGraphicFramePr>
        <p:xfrm>
          <a:off x="2143080" y="1000080"/>
          <a:ext cx="4571640" cy="5416200"/>
        </p:xfrm>
        <a:graphic>
          <a:graphicData uri="http://schemas.openxmlformats.org/drawingml/2006/table">
            <a:tbl>
              <a:tblPr/>
              <a:tblGrid>
                <a:gridCol w="1170360"/>
                <a:gridCol w="3401280"/>
              </a:tblGrid>
              <a:tr h="2224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саду ли, в огород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хороводе деревье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"Зелёная аптека"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страну осен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йна грибного цар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до – ягод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р раст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одное царств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шебница вод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бабушкином двор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сные жител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 снег пушист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у птиц Зимушка- зим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сок, глина, камен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царство комнатных раст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и домашние животны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кло и метал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у Веснян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ги живо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ина и пластмасс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екомые – наши друзь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курсия в плодовый сад в период цвет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мля – наш дом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ая тропин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ловек – живой организм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мага, древесина, ткан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1428840" y="289440"/>
            <a:ext cx="63144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Средняя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428840" y="289440"/>
            <a:ext cx="63144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аршая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Таблица 3"/>
          <p:cNvGraphicFramePr/>
          <p:nvPr/>
        </p:nvGraphicFramePr>
        <p:xfrm>
          <a:off x="2357280" y="1143000"/>
          <a:ext cx="4434840" cy="5409360"/>
        </p:xfrm>
        <a:graphic>
          <a:graphicData uri="http://schemas.openxmlformats.org/drawingml/2006/table">
            <a:tbl>
              <a:tblPr/>
              <a:tblGrid>
                <a:gridCol w="1135440"/>
                <a:gridCol w="3299760"/>
              </a:tblGrid>
              <a:tr h="21564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саду ли, в огород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хороводе деревье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"Зелёная аптека"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страну осен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йна грибного цар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до – ягод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р раст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одное царств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шебница вод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бабушкином двор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сные жител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 снег пушист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у птиц Зимушка- зим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сок, глина, камен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царство комнатных раст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и домашние животны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кло и метал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у Веснян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ги живо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ина и пластмасс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екомые – наши друзь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курсия в плодовый сад в период цвет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мля – наш дом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ая тропин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ловек – живой организм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мага, древесина, ткан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38800" y="1338120"/>
            <a:ext cx="7230960" cy="399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Всё хорошее в людях </a:t>
            </a:r>
            <a:r>
              <a:rPr b="1" i="1" lang="ru-RU" sz="3200" spc="-1" strike="noStrike">
                <a:solidFill>
                  <a:srgbClr val="ff3300"/>
                </a:solidFill>
                <a:latin typeface="Calibri"/>
                <a:ea typeface="Calibri"/>
              </a:rPr>
              <a:t>—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 из дет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Как истоки добра пробу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Прикоснуться к природе всем сердц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Удивиться, узнать, полюб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Мы хотим, чтоб земля расцве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И росли, как цветы, малы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Чтоб для них экология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Calibri"/>
              </a:rPr>
              <a:t>Не наукой, а частью д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88000" cy="700200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4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86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0" y="2205000"/>
            <a:ext cx="86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57120" y="377280"/>
            <a:ext cx="7000560" cy="411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накомление дошкольников с окружающим миром природы рассматривается в рамках образовательной област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вательное развит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редусматривает решение таких задач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ервичных представлений о живой и неживой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гуманного, эмоционально-положительного, бережного, заботливого отношения к миру природы и окружающему миру в цел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1"/>
          <p:cNvSpPr/>
          <p:nvPr/>
        </p:nvSpPr>
        <p:spPr>
          <a:xfrm>
            <a:off x="571320" y="857160"/>
            <a:ext cx="309600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chemeClr val="lt1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chemeClr val="lt1"/>
                </a:solidFill>
                <a:latin typeface="Constantia"/>
              </a:rPr>
              <a:t>«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Радуг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5715000" y="1071720"/>
            <a:ext cx="278568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«Дет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4"/>
          <p:cNvSpPr/>
          <p:nvPr/>
        </p:nvSpPr>
        <p:spPr>
          <a:xfrm>
            <a:off x="2500200" y="2000160"/>
            <a:ext cx="3928680" cy="29286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Times New Roman"/>
              </a:rPr>
              <a:t>Пример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5"/>
          <p:cNvSpPr/>
          <p:nvPr/>
        </p:nvSpPr>
        <p:spPr>
          <a:xfrm>
            <a:off x="5786280" y="4071960"/>
            <a:ext cx="2818080" cy="1800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«</a:t>
            </a: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Исто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9"/>
          <p:cNvSpPr/>
          <p:nvPr/>
        </p:nvSpPr>
        <p:spPr>
          <a:xfrm>
            <a:off x="714240" y="4500720"/>
            <a:ext cx="291528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Овал 1"/>
          <p:cNvSpPr/>
          <p:nvPr/>
        </p:nvSpPr>
        <p:spPr>
          <a:xfrm>
            <a:off x="3071880" y="285840"/>
            <a:ext cx="309600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onstantia"/>
              </a:rPr>
              <a:t>Семицве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3"/>
          <p:cNvSpPr/>
          <p:nvPr/>
        </p:nvSpPr>
        <p:spPr>
          <a:xfrm>
            <a:off x="6143760" y="1357200"/>
            <a:ext cx="257148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onstantia"/>
              </a:rPr>
              <a:t>Жизнь вокруг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4"/>
          <p:cNvSpPr/>
          <p:nvPr/>
        </p:nvSpPr>
        <p:spPr>
          <a:xfrm>
            <a:off x="2786040" y="2000160"/>
            <a:ext cx="3642840" cy="29286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Times New Roman"/>
              </a:rPr>
              <a:t>Авторские системы экологического воспитани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6325560" y="3643200"/>
            <a:ext cx="2818080" cy="1800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Constantia"/>
              </a:rPr>
              <a:t>Наш дом – 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0" y="3857760"/>
            <a:ext cx="302400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Природа и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8"/>
          <p:cNvSpPr/>
          <p:nvPr/>
        </p:nvSpPr>
        <p:spPr>
          <a:xfrm>
            <a:off x="0" y="1357200"/>
            <a:ext cx="291528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Constantia"/>
              </a:rPr>
              <a:t>Юный эк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9"/>
          <p:cNvSpPr/>
          <p:nvPr/>
        </p:nvSpPr>
        <p:spPr>
          <a:xfrm>
            <a:off x="3214800" y="4929120"/>
            <a:ext cx="2915280" cy="165600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Constantia"/>
              </a:rPr>
              <a:t>Пау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000240" y="500040"/>
            <a:ext cx="57358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грамма «Наш дом - при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зработана Н. А. Рыжовой (доктор педагогических нау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xuseen.com/data/559e226e906ec.jpg"/>
          <p:cNvPicPr/>
          <p:nvPr/>
        </p:nvPicPr>
        <p:blipFill>
          <a:blip r:embed="rId1"/>
          <a:stretch/>
        </p:blipFill>
        <p:spPr>
          <a:xfrm>
            <a:off x="357120" y="1714320"/>
            <a:ext cx="2999880" cy="459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ib.exdat.com/tw_files2/urls_14/3/d-2449/img9.jpg"/>
          <p:cNvPicPr/>
          <p:nvPr/>
        </p:nvPicPr>
        <p:blipFill>
          <a:blip r:embed="rId1"/>
          <a:stretch/>
        </p:blipFill>
        <p:spPr>
          <a:xfrm>
            <a:off x="785880" y="71424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3000240" y="500040"/>
            <a:ext cx="57358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грам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Юный эколо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. Никола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ttp://www.100book.ru/b47510.jpg"/>
          <p:cNvPicPr/>
          <p:nvPr/>
        </p:nvPicPr>
        <p:blipFill>
          <a:blip r:embed="rId1"/>
          <a:stretch/>
        </p:blipFill>
        <p:spPr>
          <a:xfrm>
            <a:off x="500040" y="642960"/>
            <a:ext cx="3714480" cy="557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lib.exdat.com/tw_files2/urls_14/3/d-2449/img10.jpg"/>
          <p:cNvPicPr/>
          <p:nvPr/>
        </p:nvPicPr>
        <p:blipFill>
          <a:blip r:embed="rId1"/>
          <a:stretch/>
        </p:blipFill>
        <p:spPr>
          <a:xfrm>
            <a:off x="714240" y="7858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8"/>
          <p:cNvSpPr/>
          <p:nvPr/>
        </p:nvSpPr>
        <p:spPr>
          <a:xfrm>
            <a:off x="714240" y="571320"/>
            <a:ext cx="7214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грамма «Мы – земля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http://lib.exdat.com/tw_files2/urls_14/3/d-2449/img2.jpg"/>
          <p:cNvPicPr/>
          <p:nvPr/>
        </p:nvPicPr>
        <p:blipFill>
          <a:blip r:embed="rId1"/>
          <a:stretch/>
        </p:blipFill>
        <p:spPr>
          <a:xfrm>
            <a:off x="928800" y="1285920"/>
            <a:ext cx="6786360" cy="5089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33</TotalTime>
  <Application>LibreOffice/7.4.7.2$Linux_X86_64 LibreOffice_project/40$Build-2</Application>
  <AppVersion>15.0000</AppVersion>
  <Words>629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5-10-29T19:31:34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