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9436-3F8B-4953-941E-02EE3DA54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816F-72A3-4872-9EC3-35D4572F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D713-C181-4590-8723-2D45A1247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1E2F-33C5-4B59-A7AB-8755193F9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D61CA-EDEA-47B8-B62A-A3CABB6BA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DB83D-4E73-4290-B734-FF0143EDB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125EE-823F-4A22-83EF-B60EA28D6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4B6C3-0501-48B6-B879-D8382BC02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38DD4-2C44-4B28-9409-AB0DA3548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A7EC1-F8BE-4A84-AEE9-D0440EC40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00CB3-43CD-4E42-95A1-B12D0614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B502-5D0B-4473-979A-CDD8A4CA6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CE6FA-8B07-4841-A185-13894A1F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65473-9663-4086-9985-0F785F54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285AB-A0B7-48EC-9DDD-DDE21BE06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C56FE-A06D-428F-955B-01EEDD791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BAD43-A598-442F-A1DB-2B78C67B5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3F7B1-C6FC-46D9-ABE4-58CC2DC7B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B936F-E4FE-49EE-A61D-E693996A3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0C54D-7C05-46C3-880C-8147F9998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5DD3C-D492-43F0-B7C9-AF18173C6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17132-66A5-491A-B786-2C8554CA2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64C6-4ED5-4D50-8F2E-2565043B0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802C9-BB14-4C70-BC5C-2B649DD5E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4AB69-72F6-4AB4-8B4B-C1A23102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FD1EA-A31A-4988-AE26-C69F6373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B40EA-3F57-442D-B501-7A0BB5CA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41181-D1DC-442A-BD79-2A1F9019E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9F963-33DE-4C16-BD6E-14FD44610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9810A-1ACD-4695-A861-FBF6B8878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5354F-AC58-4C2A-9954-D0A097F19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9D6A1-A168-474F-9D30-AA02C78D6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5E545-C578-4DB3-81A1-EDA2D2B3D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E6E2-9CD6-43B4-9D73-BE757E092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EB790-858A-4DC9-8424-9ABBB6B38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1471D-D8B0-4142-A8ED-C9F08D38F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CFA09-CF12-48EC-9564-D97358FA6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7A721-70B4-4944-9D8E-06DACF11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6D8CE-FF6D-4A53-B105-AB431CA6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D98DD-98D9-448F-941A-6530EA54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6373E-47E8-4CF0-98EC-284EE444C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AFE26-2DCE-40D2-9EDE-619B0E4BA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D3109-9719-4EC3-A0A3-47C5BFF7D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E044-1D20-4909-8478-1DA3C0361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47B2-D26A-4591-AFB2-CEC9C62B4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EBB9-7DA6-499E-9BF7-AED1FC23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818F-E608-4569-9CF1-0496B173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78AF-9AE7-4345-B893-6024276D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4d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4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 Schoolbook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 Schoolbook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 Schoolbook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 Schoolbook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 Schoolbook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 Schoolbook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 Schoolbook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Century Schoolbook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4A771-82D5-47AE-9189-78C3D2CBB599}" type="slidenum">
              <a:rPr b="1" lang="en-US" sz="1200" spc="-1" strike="noStrike">
                <a:solidFill>
                  <a:srgbClr val="7f7f7f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4d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2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4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 Schoolbook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 Schoolbook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 Schoolbook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 Schoolbook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 Schoolbook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 Schoolbook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 Schoolbook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Century Schoolbook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FA936-E7E9-44A6-99A6-EE838A81FA0F}" type="slidenum">
              <a:rPr b="1" lang="en-US" sz="1200" spc="-1" strike="noStrike">
                <a:solidFill>
                  <a:srgbClr val="7f7f7f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4d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4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5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7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 Schoolbook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 Schoolbook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 Schoolbook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 Schoolbook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 Schoolbook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 Schoolbook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 Schoolbook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Century Schoolbook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434C5-CF2A-4C36-B7AD-BC24F8582346}" type="slidenum">
              <a:rPr b="1" lang="en-US" sz="1200" spc="-1" strike="noStrike">
                <a:solidFill>
                  <a:srgbClr val="7f7f7f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4d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2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4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 Schoolbook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 Schoolbook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 Schoolbook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 Schoolbook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 Schoolbook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 Schoolbook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 Schoolbook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Century Schoolbook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71FA9-2A42-45AF-8495-0B7141263DCC}" type="slidenum">
              <a:rPr b="1" lang="en-US" sz="1200" spc="-1" strike="noStrike">
                <a:solidFill>
                  <a:srgbClr val="7f7f7f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pic>
        <p:nvPicPr>
          <p:cNvPr id="216" name="Рисунок 3" descr="Картинки по запросу перо домашней птицы фото"/>
          <p:cNvPicPr/>
          <p:nvPr/>
        </p:nvPicPr>
        <p:blipFill>
          <a:blip r:embed="rId1"/>
          <a:stretch/>
        </p:blipFill>
        <p:spPr>
          <a:xfrm>
            <a:off x="312840" y="482760"/>
            <a:ext cx="3919320" cy="283500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4" descr="C:\Users\Kate Matros\Pictures\из облака One Drive\WP_20150925_18_10_54_Pro.jpg"/>
          <p:cNvPicPr/>
          <p:nvPr/>
        </p:nvPicPr>
        <p:blipFill>
          <a:blip r:embed="rId2"/>
          <a:stretch/>
        </p:blipFill>
        <p:spPr>
          <a:xfrm>
            <a:off x="4871880" y="496800"/>
            <a:ext cx="4010040" cy="280836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5" descr="C:\Users\Kate Matros\Desktop\photo302641921_456239346.jpg"/>
          <p:cNvPicPr/>
          <p:nvPr/>
        </p:nvPicPr>
        <p:blipFill>
          <a:blip r:embed="rId3">
            <a:lum bright="10000"/>
          </a:blip>
          <a:stretch/>
        </p:blipFill>
        <p:spPr>
          <a:xfrm>
            <a:off x="312840" y="3755880"/>
            <a:ext cx="3946320" cy="281952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6" descr="C:\Users\Kate Matros\Pictures\из облака One Drive\WP_20160514_19_28_51_Pro.jpg"/>
          <p:cNvPicPr/>
          <p:nvPr/>
        </p:nvPicPr>
        <p:blipFill>
          <a:blip r:embed="rId4">
            <a:lum bright="10000"/>
          </a:blip>
          <a:stretch/>
        </p:blipFill>
        <p:spPr>
          <a:xfrm>
            <a:off x="4735440" y="3762360"/>
            <a:ext cx="411480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444600" y="249120"/>
            <a:ext cx="8218440" cy="91440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3" descr="C:\Users\Kate Matros\Pictures\из облака One Drive\WP_20150807_14_41_07_Pro.jpg"/>
          <p:cNvPicPr/>
          <p:nvPr/>
        </p:nvPicPr>
        <p:blipFill>
          <a:blip r:embed="rId2"/>
          <a:stretch/>
        </p:blipFill>
        <p:spPr>
          <a:xfrm>
            <a:off x="314280" y="1309680"/>
            <a:ext cx="4152960" cy="232236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4" descr="C:\Users\Kate Matros\Desktop\photo302641921_456239427.jpg"/>
          <p:cNvPicPr/>
          <p:nvPr/>
        </p:nvPicPr>
        <p:blipFill>
          <a:blip r:embed="rId3"/>
          <a:stretch/>
        </p:blipFill>
        <p:spPr>
          <a:xfrm>
            <a:off x="4637160" y="1266840"/>
            <a:ext cx="4244760" cy="232560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5" descr="C:\Users\Kate Matros\Desktop\photo302641921_456239422.jpg"/>
          <p:cNvPicPr/>
          <p:nvPr/>
        </p:nvPicPr>
        <p:blipFill>
          <a:blip r:embed="rId4"/>
          <a:stretch/>
        </p:blipFill>
        <p:spPr>
          <a:xfrm>
            <a:off x="209520" y="3722760"/>
            <a:ext cx="4297320" cy="283536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6" descr="C:\Users\Kate Matros\Desktop\photo302641921_456239425.jpg"/>
          <p:cNvPicPr/>
          <p:nvPr/>
        </p:nvPicPr>
        <p:blipFill>
          <a:blip r:embed="rId5"/>
          <a:stretch/>
        </p:blipFill>
        <p:spPr>
          <a:xfrm>
            <a:off x="4664160" y="3774960"/>
            <a:ext cx="432252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 Schoolbook"/>
            </a:endParaRPr>
          </a:p>
        </p:txBody>
      </p:sp>
      <p:pic>
        <p:nvPicPr>
          <p:cNvPr id="227" name="Рисунок 5" descr="C:\Users\Kate Matros\Desktop\photo302641921_456239394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222120" y="379440"/>
            <a:ext cx="4075200" cy="280836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6" descr="C:\Users\Kate Matros\AppData\Local\Packages\Microsoft.Windows.Photos_8wekyb3d8bbwe\TempState\ShareCache\WP_20160424_20_46_06_Pro.jpg"/>
          <p:cNvPicPr/>
          <p:nvPr/>
        </p:nvPicPr>
        <p:blipFill>
          <a:blip r:embed="rId2"/>
          <a:stretch/>
        </p:blipFill>
        <p:spPr>
          <a:xfrm>
            <a:off x="157320" y="3517920"/>
            <a:ext cx="4140000" cy="283032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7" descr="C:\Users\Kate Matros\Pictures\из облака One Drive\WP_20150522_18_21_30_Pro.jpg"/>
          <p:cNvPicPr/>
          <p:nvPr/>
        </p:nvPicPr>
        <p:blipFill>
          <a:blip r:embed="rId3">
            <a:lum bright="20000"/>
          </a:blip>
          <a:stretch/>
        </p:blipFill>
        <p:spPr>
          <a:xfrm>
            <a:off x="4664160" y="299880"/>
            <a:ext cx="4167000" cy="277020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8" descr="photo302641921_456239432.jpg"/>
          <p:cNvPicPr/>
          <p:nvPr/>
        </p:nvPicPr>
        <p:blipFill>
          <a:blip r:embed="rId4">
            <a:lum bright="10000"/>
          </a:blip>
          <a:stretch/>
        </p:blipFill>
        <p:spPr>
          <a:xfrm>
            <a:off x="4702320" y="3552840"/>
            <a:ext cx="42195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6T21:39:42Z</dcterms:created>
  <dc:creator>Kate Matros</dc:creator>
  <dc:description/>
  <dc:language>en-US</dc:language>
  <cp:lastModifiedBy>Балашова Н.А.</cp:lastModifiedBy>
  <dcterms:modified xsi:type="dcterms:W3CDTF">2020-07-17T16:27:55Z</dcterms:modified>
  <cp:revision>44</cp:revision>
  <dc:subject/>
  <dc:title>PowerPoint Presentation</dc:title>
</cp:coreProperties>
</file>