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1EE-B359-4789-9241-F2DC045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AB0-A280-4CF6-9298-1E1DB71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B68-CFD1-42EC-A5DB-A7F46381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8D8-FBA4-4FFA-83A4-5B0CE980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831-9520-49EA-8B43-9A6A9505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6C0-F075-4EB8-A051-B223C8B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991-7224-4898-AE2F-EE78ECAE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D383-C27B-4EAC-A0AB-CC963CE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40AB-ACBA-47B3-BF07-348D85FB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1CBF-79C7-4EA9-9A0E-37189D4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08D9-5E6F-40A9-8795-D9B68AF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849-0E41-402D-BFB1-18C245CD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799-EA89-4717-9DFF-74A04A6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4A5-792D-4D0D-B60C-BEE9F8F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12AF-F0DB-4421-9506-5ED240C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8D47-044C-4D30-99C7-DAD62FA4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C3B-F0C9-4E6B-AF8E-CB587EDB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89E-47CF-4325-B871-920F5FF0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9AA-60A6-4BCB-8CB4-1BD0215A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407-C014-44DD-A78D-BD74F0C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CED-A952-42EF-B731-EB57F142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743-3DB6-47D7-A644-77F084A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198-9F02-424A-B811-109811B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CCB-0E8A-4898-B6E8-2CD9580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771B-9E06-4374-B46A-6B0AE118F4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123-CCE8-43B5-A5D4-F127084F29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7"/>
          <p:cNvSpPr/>
          <p:nvPr/>
        </p:nvSpPr>
        <p:spPr>
          <a:xfrm>
            <a:off x="2987640" y="494172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611280" y="292428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  <a:ea typeface="Arial"/>
              </a:rPr>
              <a:t>Произноси правильно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"/>
                <a:ea typeface="Arial"/>
              </a:rPr>
              <a:t>3 класс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275520" y="4811760"/>
            <a:ext cx="2833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готовила учитель начальных класс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ОУ «Гимназия «Исток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Великий Новгород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рина Наталья Анатолье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4724280" y="4946760"/>
            <a:ext cx="36561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шарфы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1641600" y="3290760"/>
            <a:ext cx="36558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шарфы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 flipH="1">
            <a:off x="4579560" y="34941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Прямая соединительная линия 6"/>
          <p:cNvSpPr/>
          <p:nvPr/>
        </p:nvSpPr>
        <p:spPr>
          <a:xfrm flipH="1">
            <a:off x="5940000" y="508464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5003640" y="4508640"/>
            <a:ext cx="35132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шофё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971640" y="3213000"/>
            <a:ext cx="332892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шофе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Прямая соединительная линия 5"/>
          <p:cNvSpPr/>
          <p:nvPr/>
        </p:nvSpPr>
        <p:spPr>
          <a:xfrm flipH="1">
            <a:off x="2050920" y="3357720"/>
            <a:ext cx="14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 flipH="1">
            <a:off x="7451640" y="4581360"/>
            <a:ext cx="1447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2808360" y="4657680"/>
            <a:ext cx="45352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ливовый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2690640" y="2922480"/>
            <a:ext cx="45370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ливовый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Прямая соединительная линия 5"/>
          <p:cNvSpPr/>
          <p:nvPr/>
        </p:nvSpPr>
        <p:spPr>
          <a:xfrm flipH="1">
            <a:off x="4211280" y="47973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Прямая соединительная линия 6"/>
          <p:cNvSpPr/>
          <p:nvPr/>
        </p:nvSpPr>
        <p:spPr>
          <a:xfrm flipH="1">
            <a:off x="5076720" y="3068640"/>
            <a:ext cx="14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1120680" y="444024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вёкл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5070600" y="2852640"/>
            <a:ext cx="33224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векл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Прямая соединительная линия 6"/>
          <p:cNvSpPr/>
          <p:nvPr/>
        </p:nvSpPr>
        <p:spPr>
          <a:xfrm flipH="1">
            <a:off x="7884720" y="302904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Прямая соединительная линия 7"/>
          <p:cNvSpPr/>
          <p:nvPr/>
        </p:nvSpPr>
        <p:spPr>
          <a:xfrm flipH="1">
            <a:off x="2555640" y="449568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Скругленный прямоугольник 3"/>
          <p:cNvSpPr/>
          <p:nvPr/>
        </p:nvSpPr>
        <p:spPr>
          <a:xfrm>
            <a:off x="1465200" y="2887560"/>
            <a:ext cx="45198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красиве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Скругленный прямоугольник 5"/>
          <p:cNvSpPr/>
          <p:nvPr/>
        </p:nvSpPr>
        <p:spPr>
          <a:xfrm>
            <a:off x="3913200" y="4729320"/>
            <a:ext cx="44640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красиве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Прямая соединительная линия 6"/>
          <p:cNvSpPr/>
          <p:nvPr/>
        </p:nvSpPr>
        <p:spPr>
          <a:xfrm flipH="1">
            <a:off x="7308720" y="4869000"/>
            <a:ext cx="14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Прямая соединительная линия 7"/>
          <p:cNvSpPr/>
          <p:nvPr/>
        </p:nvSpPr>
        <p:spPr>
          <a:xfrm flipH="1">
            <a:off x="3924000" y="303228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2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Скругленный прямоугольник 3"/>
          <p:cNvSpPr/>
          <p:nvPr/>
        </p:nvSpPr>
        <p:spPr>
          <a:xfrm>
            <a:off x="3780000" y="4730760"/>
            <a:ext cx="40320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жалюзи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Скругленный прямоугольник 4"/>
          <p:cNvSpPr/>
          <p:nvPr/>
        </p:nvSpPr>
        <p:spPr>
          <a:xfrm>
            <a:off x="1476360" y="2965320"/>
            <a:ext cx="38718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жалюзи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H="1">
            <a:off x="2626920" y="314172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Прямая соединительная линия 6"/>
          <p:cNvSpPr/>
          <p:nvPr/>
        </p:nvSpPr>
        <p:spPr>
          <a:xfrm flipH="1">
            <a:off x="7164000" y="486900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2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Скругленный прямоугольник 3"/>
          <p:cNvSpPr/>
          <p:nvPr/>
        </p:nvSpPr>
        <p:spPr>
          <a:xfrm>
            <a:off x="3924360" y="306864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толя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Скругленный прямоугольник 4"/>
          <p:cNvSpPr/>
          <p:nvPr/>
        </p:nvSpPr>
        <p:spPr>
          <a:xfrm>
            <a:off x="1835280" y="4803840"/>
            <a:ext cx="33303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столя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Прямая соединительная линия 5"/>
          <p:cNvSpPr/>
          <p:nvPr/>
        </p:nvSpPr>
        <p:spPr>
          <a:xfrm flipH="1">
            <a:off x="6300360" y="321948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Прямая соединительная линия 6"/>
          <p:cNvSpPr/>
          <p:nvPr/>
        </p:nvSpPr>
        <p:spPr>
          <a:xfrm flipH="1">
            <a:off x="3213000" y="4944960"/>
            <a:ext cx="144720" cy="146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2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4500720" y="3111480"/>
            <a:ext cx="45352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километ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Скругленный прямоугольник 4"/>
          <p:cNvSpPr/>
          <p:nvPr/>
        </p:nvSpPr>
        <p:spPr>
          <a:xfrm>
            <a:off x="987480" y="4797360"/>
            <a:ext cx="48657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километ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Прямая соединительная линия 6"/>
          <p:cNvSpPr/>
          <p:nvPr/>
        </p:nvSpPr>
        <p:spPr>
          <a:xfrm flipH="1">
            <a:off x="3203280" y="494172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 flipH="1">
            <a:off x="7596000" y="32781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Результат тес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468360" y="450864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Верно: 2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ремя: 0 мин. 50 се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564000" y="452592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алфави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1763640" y="285264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алфави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Прямая соединительная линия 2"/>
          <p:cNvSpPr/>
          <p:nvPr/>
        </p:nvSpPr>
        <p:spPr>
          <a:xfrm>
            <a:off x="7740720" y="4149720"/>
            <a:ext cx="0" cy="0"/>
          </a:xfrm>
          <a:prstGeom prst="line">
            <a:avLst/>
          </a:prstGeom>
          <a:ln w="64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Прямая соединительная линия 6"/>
          <p:cNvSpPr/>
          <p:nvPr/>
        </p:nvSpPr>
        <p:spPr>
          <a:xfrm flipH="1">
            <a:off x="3924000" y="3005280"/>
            <a:ext cx="144360" cy="1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ая соединительная линия 9"/>
          <p:cNvSpPr/>
          <p:nvPr/>
        </p:nvSpPr>
        <p:spPr>
          <a:xfrm flipH="1">
            <a:off x="6803640" y="4724280"/>
            <a:ext cx="1429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2124000" y="296244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звони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3924360" y="472932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звони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Прямая соединительная линия 2"/>
          <p:cNvSpPr/>
          <p:nvPr/>
        </p:nvSpPr>
        <p:spPr>
          <a:xfrm flipH="1">
            <a:off x="4559040" y="306864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 flipH="1">
            <a:off x="5290920" y="486900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424160" y="4917960"/>
            <a:ext cx="36003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понял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971640" y="26668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понял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5024520" y="3645000"/>
            <a:ext cx="34970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понял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Прямая соединительная линия 6"/>
          <p:cNvSpPr/>
          <p:nvPr/>
        </p:nvSpPr>
        <p:spPr>
          <a:xfrm flipH="1">
            <a:off x="1834920" y="278460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Прямая соединительная линия 7"/>
          <p:cNvSpPr/>
          <p:nvPr/>
        </p:nvSpPr>
        <p:spPr>
          <a:xfrm flipH="1">
            <a:off x="7019640" y="380988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Прямая соединительная линия 8"/>
          <p:cNvSpPr/>
          <p:nvPr/>
        </p:nvSpPr>
        <p:spPr>
          <a:xfrm flipH="1">
            <a:off x="4427280" y="492768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1619280" y="4508640"/>
            <a:ext cx="56894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путепровод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1619280" y="2984400"/>
            <a:ext cx="56894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путепровод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 flipH="1">
            <a:off x="6084720" y="4653000"/>
            <a:ext cx="1447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 flipH="1">
            <a:off x="5108400" y="3062160"/>
            <a:ext cx="1447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2960640" y="3773520"/>
            <a:ext cx="439272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докумен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1042920" y="2424240"/>
            <a:ext cx="43768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докумен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4707000" y="5076720"/>
            <a:ext cx="42796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докумен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Прямая соединительная линия 6"/>
          <p:cNvSpPr/>
          <p:nvPr/>
        </p:nvSpPr>
        <p:spPr>
          <a:xfrm flipH="1">
            <a:off x="2889000" y="25653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 flipH="1">
            <a:off x="5695560" y="513540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Прямая соединительная линия 8"/>
          <p:cNvSpPr/>
          <p:nvPr/>
        </p:nvSpPr>
        <p:spPr>
          <a:xfrm flipH="1">
            <a:off x="5867280" y="3933720"/>
            <a:ext cx="1447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124000" y="3141720"/>
            <a:ext cx="351180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банты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Скругленный прямоугольник 4"/>
          <p:cNvSpPr/>
          <p:nvPr/>
        </p:nvSpPr>
        <p:spPr>
          <a:xfrm>
            <a:off x="3879720" y="4873680"/>
            <a:ext cx="33130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банты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Прямая соединительная линия 5"/>
          <p:cNvSpPr/>
          <p:nvPr/>
        </p:nvSpPr>
        <p:spPr>
          <a:xfrm flipH="1">
            <a:off x="3276360" y="3274920"/>
            <a:ext cx="1443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Прямая соединительная линия 6"/>
          <p:cNvSpPr/>
          <p:nvPr/>
        </p:nvSpPr>
        <p:spPr>
          <a:xfrm flipH="1">
            <a:off x="6443280" y="5013360"/>
            <a:ext cx="1429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  <a:ea typeface="Arial"/>
              </a:rPr>
              <a:t>Задание №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3276720" y="486900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щавель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2743200" y="2941560"/>
            <a:ext cx="396072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Arial"/>
                <a:ea typeface="Arial"/>
              </a:rPr>
              <a:t>щавель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Прямая соединительная линия 5"/>
          <p:cNvSpPr/>
          <p:nvPr/>
        </p:nvSpPr>
        <p:spPr>
          <a:xfrm flipH="1">
            <a:off x="4140000" y="297180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Прямая соединительная линия 6"/>
          <p:cNvSpPr/>
          <p:nvPr/>
        </p:nvSpPr>
        <p:spPr>
          <a:xfrm flipH="1">
            <a:off x="5724360" y="4960800"/>
            <a:ext cx="1447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Microsoft</cp:lastModifiedBy>
  <dcterms:modified xsi:type="dcterms:W3CDTF">2017-06-13T17:33:54Z</dcterms:modified>
  <cp:revision>548</cp:revision>
  <dc:subject/>
  <dc:title>Слайд 1</dc:title>
</cp:coreProperties>
</file>