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06918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0520" cy="39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0" y="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4278240" y="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1"/>
          </p:nvPr>
        </p:nvSpPr>
        <p:spPr>
          <a:xfrm>
            <a:off x="4277880" y="10156320"/>
            <a:ext cx="3267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21450-7FCB-404F-B8F3-FA39636531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4"/>
          <p:cNvSpPr/>
          <p:nvPr/>
        </p:nvSpPr>
        <p:spPr>
          <a:xfrm>
            <a:off x="4278240" y="10156680"/>
            <a:ext cx="32670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48E8C-D953-4D6B-90A8-3BEC8C28E9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FF66B-380C-4317-B6AA-1C88C4F3F8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42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4"/>
          <p:cNvSpPr/>
          <p:nvPr/>
        </p:nvSpPr>
        <p:spPr>
          <a:xfrm>
            <a:off x="4278240" y="10156680"/>
            <a:ext cx="32670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814D8-82B6-4C07-BEEE-56FFA2CE1F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76E94-5C19-4053-9387-346A3F1CD1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46080" y="812880"/>
            <a:ext cx="5661000" cy="4003560"/>
          </a:xfrm>
          <a:prstGeom prst="rect">
            <a:avLst/>
          </a:prstGeom>
          <a:ln w="0">
            <a:noFill/>
          </a:ln>
        </p:spPr>
      </p:sp>
      <p:sp>
        <p:nvSpPr>
          <p:cNvPr id="178" name="Text Box 3"/>
          <p:cNvSpPr/>
          <p:nvPr/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4"/>
          <p:cNvSpPr/>
          <p:nvPr/>
        </p:nvSpPr>
        <p:spPr>
          <a:xfrm>
            <a:off x="4278240" y="10156680"/>
            <a:ext cx="32670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8D2E0-A58B-4D3E-A5C3-CBAEC8E8CB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63F5F-94B5-475E-BE33-8B79645E16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46080" y="812880"/>
            <a:ext cx="5661000" cy="4003560"/>
          </a:xfrm>
          <a:prstGeom prst="rect">
            <a:avLst/>
          </a:prstGeom>
          <a:ln w="0">
            <a:noFill/>
          </a:ln>
        </p:spPr>
      </p:sp>
      <p:sp>
        <p:nvSpPr>
          <p:cNvPr id="182" name="Text Box 3"/>
          <p:cNvSpPr/>
          <p:nvPr/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4"/>
          <p:cNvSpPr/>
          <p:nvPr/>
        </p:nvSpPr>
        <p:spPr>
          <a:xfrm>
            <a:off x="4278240" y="10156680"/>
            <a:ext cx="32670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4DE25-F386-40B4-A213-6F665A1778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29CE5-16FC-43A9-97E3-214D7C6B85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46080" y="812880"/>
            <a:ext cx="5661000" cy="4003560"/>
          </a:xfrm>
          <a:prstGeom prst="rect">
            <a:avLst/>
          </a:prstGeom>
          <a:ln w="0">
            <a:noFill/>
          </a:ln>
        </p:spPr>
      </p:sp>
      <p:sp>
        <p:nvSpPr>
          <p:cNvPr id="186" name="Text Box 3"/>
          <p:cNvSpPr/>
          <p:nvPr/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4"/>
          <p:cNvSpPr/>
          <p:nvPr/>
        </p:nvSpPr>
        <p:spPr>
          <a:xfrm>
            <a:off x="4278240" y="10156680"/>
            <a:ext cx="32670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92C53-32C9-4316-A3C7-8D8493D79E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E729B-E3DE-482D-B260-7FCDF357B1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46080" y="812880"/>
            <a:ext cx="5659560" cy="4002120"/>
          </a:xfrm>
          <a:prstGeom prst="rect">
            <a:avLst/>
          </a:prstGeom>
          <a:ln w="0">
            <a:noFill/>
          </a:ln>
        </p:spPr>
      </p:sp>
      <p:sp>
        <p:nvSpPr>
          <p:cNvPr id="190" name="Text Box 3"/>
          <p:cNvSpPr/>
          <p:nvPr/>
        </p:nvSpPr>
        <p:spPr>
          <a:xfrm>
            <a:off x="75564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4"/>
          <p:cNvSpPr/>
          <p:nvPr/>
        </p:nvSpPr>
        <p:spPr>
          <a:xfrm>
            <a:off x="4278240" y="10156680"/>
            <a:ext cx="32670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FDC00-BCDD-4B6B-BE59-F8494A6713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14127-C4D5-4398-8561-EF069881E0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46080" y="812880"/>
            <a:ext cx="5659560" cy="4002120"/>
          </a:xfrm>
          <a:prstGeom prst="rect">
            <a:avLst/>
          </a:prstGeom>
          <a:ln w="0">
            <a:noFill/>
          </a:ln>
        </p:spPr>
      </p:sp>
      <p:sp>
        <p:nvSpPr>
          <p:cNvPr id="194" name="Text Box 3"/>
          <p:cNvSpPr/>
          <p:nvPr/>
        </p:nvSpPr>
        <p:spPr>
          <a:xfrm>
            <a:off x="75564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4"/>
          <p:cNvSpPr/>
          <p:nvPr/>
        </p:nvSpPr>
        <p:spPr>
          <a:xfrm>
            <a:off x="4278240" y="10156680"/>
            <a:ext cx="32670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2B225-7B9B-4F49-A55D-C609B153D7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82A1F-B1A3-4714-B2B4-6A97781C11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46080" y="812880"/>
            <a:ext cx="5659560" cy="4002120"/>
          </a:xfrm>
          <a:prstGeom prst="rect">
            <a:avLst/>
          </a:prstGeom>
          <a:ln w="0">
            <a:noFill/>
          </a:ln>
        </p:spPr>
      </p:sp>
      <p:sp>
        <p:nvSpPr>
          <p:cNvPr id="198" name="Text Box 3"/>
          <p:cNvSpPr/>
          <p:nvPr/>
        </p:nvSpPr>
        <p:spPr>
          <a:xfrm>
            <a:off x="75564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4"/>
          <p:cNvSpPr/>
          <p:nvPr/>
        </p:nvSpPr>
        <p:spPr>
          <a:xfrm>
            <a:off x="4278240" y="10156680"/>
            <a:ext cx="32670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AEDFD-BA7B-4C82-AE98-CCA870D88D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69D53-9104-46BD-B8B0-3AE6D3AFDC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46080" y="812880"/>
            <a:ext cx="5667480" cy="4008240"/>
          </a:xfrm>
          <a:prstGeom prst="rect">
            <a:avLst/>
          </a:prstGeom>
          <a:ln w="0">
            <a:noFill/>
          </a:ln>
        </p:spPr>
      </p:sp>
      <p:sp>
        <p:nvSpPr>
          <p:cNvPr id="146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4"/>
          <p:cNvSpPr/>
          <p:nvPr/>
        </p:nvSpPr>
        <p:spPr>
          <a:xfrm>
            <a:off x="4278240" y="10156680"/>
            <a:ext cx="32670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4599D-A7BF-47B7-B46A-460F921FD4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C746C-610F-4E92-B679-669F5AAF50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46080" y="812880"/>
            <a:ext cx="566748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4278240" y="10156680"/>
            <a:ext cx="32670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57D6F-EC68-4A4A-A840-2BD3F1DAAC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1BF00-BA0F-4801-B007-3D8EE016FB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46080" y="812880"/>
            <a:ext cx="5667480" cy="4008240"/>
          </a:xfrm>
          <a:prstGeom prst="rect">
            <a:avLst/>
          </a:prstGeom>
          <a:ln w="0">
            <a:noFill/>
          </a:ln>
        </p:spPr>
      </p:sp>
      <p:sp>
        <p:nvSpPr>
          <p:cNvPr id="15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4"/>
          <p:cNvSpPr/>
          <p:nvPr/>
        </p:nvSpPr>
        <p:spPr>
          <a:xfrm>
            <a:off x="4278240" y="10156680"/>
            <a:ext cx="32670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510EA-F263-4766-BDB9-6FB641E5FC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56095-FC7A-4984-AF18-33847E9091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46080" y="812880"/>
            <a:ext cx="5667480" cy="4008240"/>
          </a:xfrm>
          <a:prstGeom prst="rect">
            <a:avLst/>
          </a:prstGeom>
          <a:ln w="0">
            <a:noFill/>
          </a:ln>
        </p:spPr>
      </p:sp>
      <p:sp>
        <p:nvSpPr>
          <p:cNvPr id="158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4"/>
          <p:cNvSpPr/>
          <p:nvPr/>
        </p:nvSpPr>
        <p:spPr>
          <a:xfrm>
            <a:off x="4278240" y="10156680"/>
            <a:ext cx="32670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95AF1-1E1A-43B5-BDC2-343EC728EB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92988-4B8C-4CEF-81B0-7C629CCD73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46080" y="812880"/>
            <a:ext cx="566748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4"/>
          <p:cNvSpPr/>
          <p:nvPr/>
        </p:nvSpPr>
        <p:spPr>
          <a:xfrm>
            <a:off x="4278240" y="10156680"/>
            <a:ext cx="32670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85416-E6F3-4DFC-A1F0-C9EE5868EE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2EB18-156A-48A8-88F5-7832427596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46080" y="812880"/>
            <a:ext cx="5662800" cy="4005360"/>
          </a:xfrm>
          <a:prstGeom prst="rect">
            <a:avLst/>
          </a:prstGeom>
          <a:ln w="0">
            <a:noFill/>
          </a:ln>
        </p:spPr>
      </p:sp>
      <p:sp>
        <p:nvSpPr>
          <p:cNvPr id="166" name="Text Box 3"/>
          <p:cNvSpPr/>
          <p:nvPr/>
        </p:nvSpPr>
        <p:spPr>
          <a:xfrm>
            <a:off x="755640" y="5078520"/>
            <a:ext cx="604512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4"/>
          <p:cNvSpPr/>
          <p:nvPr/>
        </p:nvSpPr>
        <p:spPr>
          <a:xfrm>
            <a:off x="4278240" y="10156680"/>
            <a:ext cx="32670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1A470-0F3B-43BF-9CE2-2E8B23C36D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4C30A-CEAB-4C8E-969A-126B4BA252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46080" y="812880"/>
            <a:ext cx="5662800" cy="4005360"/>
          </a:xfrm>
          <a:prstGeom prst="rect">
            <a:avLst/>
          </a:prstGeom>
          <a:ln w="0">
            <a:noFill/>
          </a:ln>
        </p:spPr>
      </p:sp>
      <p:sp>
        <p:nvSpPr>
          <p:cNvPr id="170" name="Text Box 3"/>
          <p:cNvSpPr/>
          <p:nvPr/>
        </p:nvSpPr>
        <p:spPr>
          <a:xfrm>
            <a:off x="755640" y="5078520"/>
            <a:ext cx="604512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4"/>
          <p:cNvSpPr/>
          <p:nvPr/>
        </p:nvSpPr>
        <p:spPr>
          <a:xfrm>
            <a:off x="4278240" y="10156680"/>
            <a:ext cx="32670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83272-8910-4CDB-8303-BDA7195022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514F0-77D9-47C8-82F6-96A817C901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47880" y="812880"/>
            <a:ext cx="5653080" cy="3998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09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979280"/>
            <a:ext cx="991260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604760"/>
            <a:ext cx="991260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09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979280"/>
            <a:ext cx="483732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0120" y="1979280"/>
            <a:ext cx="483732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604760"/>
            <a:ext cx="483732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0120" y="4604760"/>
            <a:ext cx="483732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09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979280"/>
            <a:ext cx="319176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32120" y="1979280"/>
            <a:ext cx="319176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84080" y="1979280"/>
            <a:ext cx="319176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604760"/>
            <a:ext cx="319176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32120" y="4604760"/>
            <a:ext cx="319176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84080" y="4604760"/>
            <a:ext cx="319176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09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979280"/>
            <a:ext cx="99126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09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979280"/>
            <a:ext cx="99126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09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79280"/>
            <a:ext cx="483732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0120" y="1979280"/>
            <a:ext cx="483732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09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4960" y="301680"/>
            <a:ext cx="96091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09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979280"/>
            <a:ext cx="483732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0120" y="1979280"/>
            <a:ext cx="483732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4604760"/>
            <a:ext cx="483732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09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979280"/>
            <a:ext cx="99126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09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979280"/>
            <a:ext cx="483732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0120" y="1979280"/>
            <a:ext cx="483732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0120" y="4604760"/>
            <a:ext cx="483732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09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979280"/>
            <a:ext cx="483732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0120" y="1979280"/>
            <a:ext cx="483732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4604760"/>
            <a:ext cx="991260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09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979280"/>
            <a:ext cx="991260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4604760"/>
            <a:ext cx="991260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09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979280"/>
            <a:ext cx="483732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0120" y="1979280"/>
            <a:ext cx="483732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604760"/>
            <a:ext cx="483732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0120" y="4604760"/>
            <a:ext cx="483732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09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979280"/>
            <a:ext cx="319176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32120" y="1979280"/>
            <a:ext cx="319176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84080" y="1979280"/>
            <a:ext cx="319176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4604760"/>
            <a:ext cx="319176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32120" y="4604760"/>
            <a:ext cx="319176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84080" y="4604760"/>
            <a:ext cx="319176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09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979280"/>
            <a:ext cx="99126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09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979280"/>
            <a:ext cx="483732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0120" y="1979280"/>
            <a:ext cx="483732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09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1680"/>
            <a:ext cx="96091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09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979280"/>
            <a:ext cx="483732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0120" y="1979280"/>
            <a:ext cx="483732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604760"/>
            <a:ext cx="483732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09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979280"/>
            <a:ext cx="483732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0120" y="1979280"/>
            <a:ext cx="483732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0120" y="4604760"/>
            <a:ext cx="483732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09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979280"/>
            <a:ext cx="483732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0120" y="1979280"/>
            <a:ext cx="483732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604760"/>
            <a:ext cx="991260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99280"/>
            <a:ext cx="10690200" cy="360360"/>
          </a:xfrm>
          <a:prstGeom prst="rect">
            <a:avLst/>
          </a:prstGeom>
          <a:solidFill>
            <a:srgbClr val="2c3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10690200" cy="1619280"/>
          </a:xfrm>
          <a:prstGeom prst="rect">
            <a:avLst/>
          </a:prstGeom>
          <a:solidFill>
            <a:srgbClr val="2c3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Freeform 3"/>
          <p:cNvSpPr/>
          <p:nvPr/>
        </p:nvSpPr>
        <p:spPr>
          <a:xfrm>
            <a:off x="9831240" y="6894360"/>
            <a:ext cx="573120" cy="540000"/>
          </a:xfrm>
          <a:custGeom>
            <a:avLst/>
            <a:gdLst>
              <a:gd name="textAreaLeft" fmla="*/ 0 w 573120"/>
              <a:gd name="textAreaRight" fmla="*/ 573480 w 5731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73087" h="539750">
                <a:moveTo>
                  <a:pt x="0" y="750"/>
                </a:moveTo>
                <a:lnTo>
                  <a:pt x="796" y="750"/>
                </a:lnTo>
                <a:lnTo>
                  <a:pt x="180" y="90"/>
                </a:lnTo>
                <a:lnTo>
                  <a:pt x="796" y="750"/>
                </a:lnTo>
                <a:lnTo>
                  <a:pt x="270" y="90"/>
                </a:lnTo>
                <a:lnTo>
                  <a:pt x="0" y="750"/>
                </a:lnTo>
                <a:close/>
              </a:path>
            </a:pathLst>
          </a:custGeom>
          <a:solidFill>
            <a:srgbClr val="1ab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34960" y="1768320"/>
            <a:ext cx="960768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09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7199280"/>
            <a:ext cx="10690200" cy="360360"/>
          </a:xfrm>
          <a:prstGeom prst="rect">
            <a:avLst/>
          </a:prstGeom>
          <a:solidFill>
            <a:srgbClr val="2c3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0"/>
            <a:ext cx="10690200" cy="1619280"/>
          </a:xfrm>
          <a:prstGeom prst="rect">
            <a:avLst/>
          </a:prstGeom>
          <a:solidFill>
            <a:srgbClr val="2c3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9831240" y="6894360"/>
            <a:ext cx="573120" cy="540000"/>
          </a:xfrm>
          <a:custGeom>
            <a:avLst/>
            <a:gdLst>
              <a:gd name="textAreaLeft" fmla="*/ 0 w 573120"/>
              <a:gd name="textAreaRight" fmla="*/ 573480 w 5731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73087" h="539750">
                <a:moveTo>
                  <a:pt x="0" y="750"/>
                </a:moveTo>
                <a:lnTo>
                  <a:pt x="796" y="750"/>
                </a:lnTo>
                <a:lnTo>
                  <a:pt x="180" y="90"/>
                </a:lnTo>
                <a:lnTo>
                  <a:pt x="796" y="750"/>
                </a:lnTo>
                <a:lnTo>
                  <a:pt x="270" y="90"/>
                </a:lnTo>
                <a:lnTo>
                  <a:pt x="0" y="750"/>
                </a:lnTo>
                <a:close/>
              </a:path>
            </a:pathLst>
          </a:custGeom>
          <a:solidFill>
            <a:srgbClr val="1ab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80520" y="1979280"/>
            <a:ext cx="99126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091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380880" y="268200"/>
            <a:ext cx="9926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720720" y="1655640"/>
            <a:ext cx="96217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Социализация детей-инвалидов на уроках математики в условиях дистанционного образова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Краевое бюджетное общеобразовательное учрежд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«Школа дистанционного образования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г. Красноярс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Черкашина О.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534960" y="301680"/>
            <a:ext cx="96188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ры задач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380880" y="1979640"/>
            <a:ext cx="99219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219240"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)Можно ли, имея 450 р., купить 3 кг бананов по 45р. За 1кг, 2кг мандаринов по 86р. за 1кг и 2кг апельсинов по 73р. за 1кг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219240"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)Сделай соответствующие измерения и найди площадь пола своей комнаты. Сколько квадратных метров линолеума понадобиться, чтобы постелить в твою комнату и сколько он будет стоить, если 1м</a:t>
            </a:r>
            <a:r>
              <a:rPr b="0" lang="ru-RU" sz="2200" spc="-1" strike="noStrike" baseline="25000">
                <a:solidFill>
                  <a:srgbClr val="003366"/>
                </a:solidFill>
                <a:latin typeface="Times New Roman"/>
                <a:ea typeface="Times New Roman"/>
              </a:rPr>
              <a:t>2 </a:t>
            </a: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ёх видов линолеума стоит: 460р., 557р. и 645р 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219240"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)Сергей Иванович положил в банк 140 000 р. под 7% годовых. Какая сумма будет у него через год? Через два года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534960" y="301680"/>
            <a:ext cx="96188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проек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360360" y="1800360"/>
            <a:ext cx="9921960" cy="50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ме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ссчитать бюджет новогоднего праздника для своей семьи и составить диаграмм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 Праздничный сто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 Подар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 Развлечения, игры, сюрпризы, костю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677880" y="216000"/>
            <a:ext cx="96184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с текстом учебника и другими источниками дополнительной информ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380880" y="1692360"/>
            <a:ext cx="9921960" cy="53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ме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) Прочитай текст в учебник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)Что интересного и нового ты узнал из прочитанног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)Составь вопросы( или план) к данному текст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жно предложить ученику используя другие источники информации дополнить материал по данному тексту и составить презента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534960" y="301680"/>
            <a:ext cx="961704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здание ситуации выбо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1463480" y="222120"/>
            <a:ext cx="992016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3600" y="3395520"/>
            <a:ext cx="105444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Выбор задания, выбор рационального решения, выбор объёма и уровня сложности контрольного задания, выбор линии поведения в различных ситуациях, всё это развивает ответственность за сделанный выбо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534960" y="301680"/>
            <a:ext cx="961704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здание ситуации успе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80880" y="1979640"/>
            <a:ext cx="9920520" cy="50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оздание ситуации успеха  позволяет ученику достигнуть  определённого собственного успеха, что даёт мотивацию для дальнейшей его активной деятельности, повышения положительного эмоционального фо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233280" y="611280"/>
            <a:ext cx="10068120" cy="640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Социализации детей-инвалидов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это сложный процесс. Успех социализации личности ребенка-инвалида  зависит во многом от влияния, тех кто помогает ему осваивать необходимые социальные роли, ценности, нормы и стереотипы поведения. Огромную и очень важную роль в социализации ребёнка играют родители и педагоги. Только их взаимное сотрудничество даст положительные результаты и возможность ребёнку-инвалиду самоопределится, стать самодостаточным, полноценным, с активной гражданской позицией членом современного общ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380880" y="301680"/>
            <a:ext cx="992664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69720" y="1655640"/>
            <a:ext cx="9926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Социализация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то процесс и результат присвоения ребенком социального опыта по мере его психологического интеллектуального развития, т.е. преобразование под влиянием обучения и воспитания его психических функций, присвоение социально-нравственных ценностей, норм, и правил поведения, формирование мировоззр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380880" y="301680"/>
            <a:ext cx="992664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изации детей-инвалидов при дистанционном образован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57200" y="1800360"/>
            <a:ext cx="992664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2c3e50"/>
                </a:solidFill>
                <a:uFillTx/>
                <a:latin typeface="Times New Roman"/>
                <a:ea typeface="Times New Roman"/>
              </a:rPr>
              <a:t>Дистанционного обучения </a:t>
            </a:r>
            <a:r>
              <a:rPr b="1" lang="ru-RU" sz="3200" spc="-1" strike="noStrike">
                <a:solidFill>
                  <a:srgbClr val="2c3e50"/>
                </a:solidFill>
                <a:latin typeface="Times New Roman"/>
                <a:ea typeface="Times New Roman"/>
              </a:rPr>
              <a:t>— это результативное решение проблемы образования и социализации детей - инвали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5043600" y="3887640"/>
            <a:ext cx="444024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380880" y="301680"/>
            <a:ext cx="992664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истанционное обучение решае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80880" y="1979640"/>
            <a:ext cx="9926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indent="-314280" algn="just">
              <a:lnSpc>
                <a:spcPct val="150000"/>
              </a:lnSpc>
              <a:buClr>
                <a:srgbClr val="2c3e50"/>
              </a:buClr>
              <a:buFont typeface="Times New Roman"/>
              <a:buAutoNum type="arabicParenR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c3e50"/>
                </a:solidFill>
                <a:latin typeface="Times New Roman"/>
                <a:ea typeface="Times New Roman"/>
              </a:rPr>
              <a:t>Психологические проблемы учащего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14280" algn="just">
              <a:lnSpc>
                <a:spcPct val="150000"/>
              </a:lnSpc>
              <a:buClr>
                <a:srgbClr val="2c3e50"/>
              </a:buClr>
              <a:buFont typeface="Times New Roman"/>
              <a:buAutoNum type="arabicParenR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c3e50"/>
                </a:solidFill>
                <a:latin typeface="Times New Roman"/>
                <a:ea typeface="Times New Roman"/>
              </a:rPr>
              <a:t>Психолого-педагогическое сопровождение детей-инвали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14280" algn="just">
              <a:lnSpc>
                <a:spcPct val="150000"/>
              </a:lnSpc>
              <a:buClr>
                <a:srgbClr val="2c3e50"/>
              </a:buClr>
              <a:buFont typeface="Times New Roman"/>
              <a:buAutoNum type="arabicParenR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c3e50"/>
                </a:solidFill>
                <a:latin typeface="Times New Roman"/>
                <a:ea typeface="Times New Roman"/>
              </a:rPr>
              <a:t>Проблему социализации  детей-инвали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14280" algn="just">
              <a:lnSpc>
                <a:spcPct val="150000"/>
              </a:lnSpc>
              <a:buClr>
                <a:srgbClr val="2c3e50"/>
              </a:buClr>
              <a:buFont typeface="Times New Roman"/>
              <a:buAutoNum type="arabicParenR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c3e50"/>
                </a:solidFill>
                <a:latin typeface="Times New Roman"/>
                <a:ea typeface="Times New Roman"/>
              </a:rPr>
              <a:t>Проблемы удаленности от учебных завед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380880" y="301680"/>
            <a:ext cx="992664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истанционное обучение даёт возмож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11280" y="1728720"/>
            <a:ext cx="103089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indent="-314280">
              <a:lnSpc>
                <a:spcPct val="100000"/>
              </a:lnSpc>
              <a:buClr>
                <a:srgbClr val="2c3e50"/>
              </a:buClr>
              <a:buFont typeface="Times New Roman"/>
              <a:buAutoNum type="arabicParenR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c3e50"/>
                </a:solidFill>
                <a:latin typeface="Times New Roman"/>
              </a:rPr>
              <a:t>Получения консультаций различных специалис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14280">
              <a:lnSpc>
                <a:spcPct val="100000"/>
              </a:lnSpc>
              <a:buClr>
                <a:srgbClr val="2c3e50"/>
              </a:buClr>
              <a:buFont typeface="Times New Roman"/>
              <a:buAutoNum type="arabicParenR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c3e50"/>
                </a:solidFill>
                <a:latin typeface="Times New Roman"/>
              </a:rPr>
              <a:t>Участвовать в дистанционных конкурсах, олимпиадах, в различных тематических мероприятиях разного уров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14280">
              <a:lnSpc>
                <a:spcPct val="100000"/>
              </a:lnSpc>
              <a:buClr>
                <a:srgbClr val="2c3e50"/>
              </a:buClr>
              <a:buFont typeface="Times New Roman"/>
              <a:buAutoNum type="arabicParenR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c3e50"/>
                </a:solidFill>
                <a:latin typeface="Times New Roman"/>
              </a:rPr>
              <a:t>Получения профориентации и самоопреде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14280">
              <a:lnSpc>
                <a:spcPct val="100000"/>
              </a:lnSpc>
              <a:buClr>
                <a:srgbClr val="2c3e50"/>
              </a:buClr>
              <a:buFont typeface="Times New Roman"/>
              <a:buAutoNum type="arabicParenR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c3e5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2c3e50"/>
                </a:solidFill>
                <a:latin typeface="Times New Roman"/>
              </a:rPr>
              <a:t>Получения дополнительного образ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14280">
              <a:lnSpc>
                <a:spcPct val="100000"/>
              </a:lnSpc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-8018640" y="1903320"/>
            <a:ext cx="9846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indent="-314280">
              <a:lnSpc>
                <a:spcPct val="100000"/>
              </a:lnSpc>
              <a:buClr>
                <a:srgbClr val="2c3e50"/>
              </a:buClr>
              <a:buFont typeface="Source Sans Pro Semibold"/>
              <a:buAutoNum type="arabicParenR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c3e50"/>
                </a:solidFill>
                <a:latin typeface="Source Sans Pro Semibold"/>
              </a:rPr>
              <a:t>Получения дополнительного о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380880" y="301680"/>
            <a:ext cx="992664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380880" y="1979640"/>
            <a:ext cx="9926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534960" y="301680"/>
            <a:ext cx="96202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ль математики в социализации лич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80880" y="1979640"/>
            <a:ext cx="484344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юдям всегда  требовалось что-то считать, чертить, вычислять, измерять, проектировать, создавать и прогнозиров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465880" y="1979640"/>
            <a:ext cx="484344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6048360" y="4227480"/>
            <a:ext cx="3716280" cy="26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534960" y="284040"/>
            <a:ext cx="962028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380880" y="1979640"/>
            <a:ext cx="484344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5465880" y="1979640"/>
            <a:ext cx="484344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55480" y="2082960"/>
            <a:ext cx="2973600" cy="2957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2303640" y="4248000"/>
            <a:ext cx="4343400" cy="244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6119640" y="2155680"/>
            <a:ext cx="4105440" cy="27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576360" y="216000"/>
            <a:ext cx="904392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условий для успешной социализации детей-инвалидов на уроках математики в условиях дистанционного образ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-9542520" y="2162160"/>
            <a:ext cx="992340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442880" y="1763640"/>
            <a:ext cx="6477120" cy="30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457200" indent="-219240"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)Обсуждение и применение знаний в жизн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219240"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едение с учащимся диалог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219240"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)Решение практико - ориентированных  задач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219240"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)Создание проек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219240"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)Работа с текстом  и другими источникам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219240"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полнительной информац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219240"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5)Создание ситуации выбо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219240"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6)Создание ситуации успех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534960" y="282600"/>
            <a:ext cx="961380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80880" y="1979640"/>
            <a:ext cx="991728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503280" y="2376360"/>
            <a:ext cx="94978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9T15:20:15Z</dcterms:created>
  <dc:creator/>
  <dc:description/>
  <dc:language>en-US</dc:language>
  <cp:lastModifiedBy>teacher</cp:lastModifiedBy>
  <dcterms:modified xsi:type="dcterms:W3CDTF">2020-07-17T13:29:09Z</dcterms:modified>
  <cp:revision>11</cp:revision>
  <dc:subject/>
  <dc:title>Слайд 1</dc:title>
</cp:coreProperties>
</file>