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CDAD-2966-4DFD-AAF6-C18D4677D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66D5-EE28-4A50-9508-A1BDA7FE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1859-7EEB-40C0-8FDF-54656328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4A64-0004-4DFE-AC29-DBAC3D84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A48D-5155-433F-8C1E-9D54B601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7181-C2D6-408A-B33C-664EEC10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699F-8F40-43F4-A36A-35701F58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090E-1B51-417F-82DD-05FFA80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94B3-A885-47EC-A58D-1E3CBF3B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8D72-4043-45D6-A017-7C2FE849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F543-3535-43ED-858A-8ED4B3CA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0C29-D651-48E6-AA63-9C3B1CB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8E53-5EAA-49AC-86B8-EB5B9BD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EDDE-B289-407F-B391-21505053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71C0-9901-4E10-9049-8AFF7A9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9F1D-2F52-4FAF-A899-7CC7CA8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186F-95E5-42CB-8E3B-56A66CF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9146-8E4A-4427-BEE9-62EADA6B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0FBA-EEAD-497B-9DB8-FCC058AA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89B9-1A72-451F-A9E1-63D7428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1B2B-6EDE-45A4-AC13-A3BC253F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136A-2632-4E25-8E21-DCCBCD62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4DD4-CF89-427D-992D-15D2CA54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AC0B-4667-4CD6-A064-74872456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97CB-D5EF-4524-846F-8AE4222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8577-C683-4349-A5F2-FED3047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4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51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5"/>
          <p:cNvGrpSpPr/>
          <p:nvPr/>
        </p:nvGrpSpPr>
        <p:grpSpPr>
          <a:xfrm>
            <a:off x="-3960" y="0"/>
            <a:ext cx="9147960" cy="1676520"/>
            <a:chOff x="-3960" y="0"/>
            <a:chExt cx="9147960" cy="1676520"/>
          </a:xfrm>
        </p:grpSpPr>
        <p:pic>
          <p:nvPicPr>
            <p:cNvPr id="2" name="Picture 149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53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58" descr="123"/>
            <p:cNvPicPr/>
            <p:nvPr/>
          </p:nvPicPr>
          <p:blipFill>
            <a:blip r:embed="rId4"/>
            <a:stretch/>
          </p:blipFill>
          <p:spPr>
            <a:xfrm rot="930000">
              <a:off x="76320" y="130680"/>
              <a:ext cx="86184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C915-00F2-4050-B702-77F170F98B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67" descr="OPENAS_307439 copy"/>
          <p:cNvPicPr/>
          <p:nvPr/>
        </p:nvPicPr>
        <p:blipFill>
          <a:blip r:embed="rId5"/>
          <a:srcRect l="0" t="0" r="3339" b="10162"/>
          <a:stretch/>
        </p:blipFill>
        <p:spPr>
          <a:xfrm>
            <a:off x="6781680" y="5543640"/>
            <a:ext cx="221004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7" descr="1"/>
          <p:cNvPicPr/>
          <p:nvPr/>
        </p:nvPicPr>
        <p:blipFill>
          <a:blip r:embed="rId2"/>
          <a:stretch/>
        </p:blipFill>
        <p:spPr>
          <a:xfrm>
            <a:off x="0" y="1368360"/>
            <a:ext cx="8245440" cy="54896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62"/>
          <p:cNvGrpSpPr/>
          <p:nvPr/>
        </p:nvGrpSpPr>
        <p:grpSpPr>
          <a:xfrm>
            <a:off x="0" y="0"/>
            <a:ext cx="9144000" cy="2971800"/>
            <a:chOff x="0" y="0"/>
            <a:chExt cx="9144000" cy="2971800"/>
          </a:xfrm>
        </p:grpSpPr>
        <p:pic>
          <p:nvPicPr>
            <p:cNvPr id="50" name="Picture 153" descr="7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40" descr="04"/>
            <p:cNvPicPr/>
            <p:nvPr/>
          </p:nvPicPr>
          <p:blipFill>
            <a:blip r:embed="rId4"/>
            <a:stretch/>
          </p:blipFill>
          <p:spPr>
            <a:xfrm>
              <a:off x="5334120" y="0"/>
              <a:ext cx="1361880" cy="108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163" descr="water_2"/>
          <p:cNvPicPr/>
          <p:nvPr/>
        </p:nvPicPr>
        <p:blipFill>
          <a:blip r:embed="rId5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>
            <a:off x="74674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EB2-C713-4B7B-A36F-5E88661A0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2.png"/><Relationship Id="rId8" Type="http://schemas.openxmlformats.org/officeDocument/2006/relationships/image" Target="../media/image15.png"/><Relationship Id="rId9" Type="http://schemas.openxmlformats.org/officeDocument/2006/relationships/image" Target="../media/image14.wmf"/><Relationship Id="rId10" Type="http://schemas.openxmlformats.org/officeDocument/2006/relationships/image" Target="../media/image12.png"/><Relationship Id="rId11" Type="http://schemas.openxmlformats.org/officeDocument/2006/relationships/image" Target="../media/image16.png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47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МУНИЦИПАЛЬНОЕ  ОБЩЕОБРАЗОВАТЕЛЬНОЕ УЧРЕЖДЕНИЕ «СРЕДНЯЯ   ОБЩЕОБРАЗОВАТЕЛЬНАЯ ШКОЛА В ПОС. УСТЬ – ОМЧ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352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трёх поколений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698120" y="1523880"/>
            <a:ext cx="67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2bad"/>
                </a:solidFill>
                <a:latin typeface="Arial"/>
              </a:rPr>
              <a:t>НАУЧНО- ПРАКТИЧЕСКАЯ КОНФЕРЕНЦИЯ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2ba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52bad"/>
                </a:solidFill>
                <a:latin typeface="Arial"/>
              </a:rPr>
              <a:t>«Мы и мир больших пробл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231560" y="2346480"/>
            <a:ext cx="26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кова 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начёв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итин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тин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6720" y="30456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льнейшие наши действи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2649600" y="2031840"/>
            <a:ext cx="3743280" cy="374364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3103560" y="2443320"/>
            <a:ext cx="274968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9"/>
          <p:cNvGrpSpPr/>
          <p:nvPr/>
        </p:nvGrpSpPr>
        <p:grpSpPr>
          <a:xfrm>
            <a:off x="3643200" y="1219320"/>
            <a:ext cx="1919160" cy="1623240"/>
            <a:chOff x="3643200" y="1219320"/>
            <a:chExt cx="1919160" cy="1623240"/>
          </a:xfrm>
        </p:grpSpPr>
        <p:sp>
          <p:nvSpPr>
            <p:cNvPr id="225" name="Oval 10"/>
            <p:cNvSpPr/>
            <p:nvPr/>
          </p:nvSpPr>
          <p:spPr>
            <a:xfrm>
              <a:off x="3693960" y="1289160"/>
              <a:ext cx="1829880" cy="155340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219320"/>
              <a:ext cx="191916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Rectangle 12"/>
          <p:cNvSpPr/>
          <p:nvPr/>
        </p:nvSpPr>
        <p:spPr>
          <a:xfrm>
            <a:off x="3637080" y="1614600"/>
            <a:ext cx="200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  <a:ea typeface="Arial"/>
              </a:rPr>
              <a:t>познаком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  <a:ea typeface="Arial"/>
              </a:rPr>
              <a:t>с работой 4-7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3"/>
          <p:cNvGrpSpPr/>
          <p:nvPr/>
        </p:nvGrpSpPr>
        <p:grpSpPr>
          <a:xfrm>
            <a:off x="1727280" y="3646440"/>
            <a:ext cx="2285640" cy="1968120"/>
            <a:chOff x="1727280" y="3646440"/>
            <a:chExt cx="2285640" cy="1968120"/>
          </a:xfrm>
        </p:grpSpPr>
        <p:sp>
          <p:nvSpPr>
            <p:cNvPr id="229" name="Oval 14"/>
            <p:cNvSpPr/>
            <p:nvPr/>
          </p:nvSpPr>
          <p:spPr>
            <a:xfrm>
              <a:off x="1775520" y="3646440"/>
              <a:ext cx="2179800" cy="19681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1727280" y="3679560"/>
              <a:ext cx="2285640" cy="172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16"/>
          <p:cNvSpPr/>
          <p:nvPr/>
        </p:nvSpPr>
        <p:spPr>
          <a:xfrm>
            <a:off x="2374920" y="423072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7"/>
          <p:cNvGrpSpPr/>
          <p:nvPr/>
        </p:nvGrpSpPr>
        <p:grpSpPr>
          <a:xfrm>
            <a:off x="4791240" y="3429000"/>
            <a:ext cx="3264480" cy="2383560"/>
            <a:chOff x="4791240" y="3429000"/>
            <a:chExt cx="3264480" cy="2383560"/>
          </a:xfrm>
        </p:grpSpPr>
        <p:sp>
          <p:nvSpPr>
            <p:cNvPr id="233" name="Oval 18"/>
            <p:cNvSpPr/>
            <p:nvPr/>
          </p:nvSpPr>
          <p:spPr>
            <a:xfrm>
              <a:off x="4877640" y="3531600"/>
              <a:ext cx="3112560" cy="2280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791240" y="3429000"/>
              <a:ext cx="3264480" cy="20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Rectangle 20"/>
          <p:cNvSpPr/>
          <p:nvPr/>
        </p:nvSpPr>
        <p:spPr>
          <a:xfrm>
            <a:off x="7581960" y="38307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2085480" y="4307040"/>
            <a:ext cx="145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  в Л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4922280" y="4024440"/>
            <a:ext cx="300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торно про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й час на 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О вреде компьютерны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ефонных иг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КТУАЛЬНОСТЬ И ПРОБЛЕМА ИССЛЕДОВАНИЯ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1913040" y="3224160"/>
            <a:ext cx="5451480" cy="1579320"/>
            <a:chOff x="1913040" y="3224160"/>
            <a:chExt cx="5451480" cy="1579320"/>
          </a:xfrm>
        </p:grpSpPr>
        <p:sp>
          <p:nvSpPr>
            <p:cNvPr id="108" name="AutoShape 4"/>
            <p:cNvSpPr/>
            <p:nvPr/>
          </p:nvSpPr>
          <p:spPr>
            <a:xfrm>
              <a:off x="2053080" y="3389040"/>
              <a:ext cx="5311440" cy="14144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c4f58"/>
                  </a:solidFill>
                  <a:latin typeface="Arial"/>
                </a:rPr>
                <a:t>Опыт наших родителей помогае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c4f58"/>
                  </a:solidFill>
                  <a:latin typeface="Arial"/>
                </a:rPr>
                <a:t>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c4f58"/>
                  </a:solidFill>
                  <a:latin typeface="Arial"/>
                </a:rPr>
                <a:t>       </a:t>
              </a:r>
              <a:r>
                <a:rPr b="1" lang="ru-RU" sz="2000" spc="-1" strike="noStrike">
                  <a:solidFill>
                    <a:srgbClr val="0c4f58"/>
                  </a:solidFill>
                  <a:latin typeface="Arial"/>
                </a:rPr>
                <a:t>совершать ошибки в  общен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c4f58"/>
                  </a:solidFill>
                  <a:latin typeface="Arial"/>
                </a:rPr>
                <a:t>со сверстника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913040" y="3224160"/>
              <a:ext cx="5290560" cy="164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bafc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1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13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23"/>
          <p:cNvSpPr/>
          <p:nvPr/>
        </p:nvSpPr>
        <p:spPr>
          <a:xfrm>
            <a:off x="2263680" y="2558880"/>
            <a:ext cx="49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ределить роль игры в жизн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41148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62396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2087640" y="42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5"/>
          <p:cNvSpPr/>
          <p:nvPr/>
        </p:nvSpPr>
        <p:spPr>
          <a:xfrm>
            <a:off x="1066680" y="1219320"/>
            <a:ext cx="655344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67d6"/>
                </a:solidFill>
                <a:latin typeface="Verdana"/>
              </a:rPr>
              <a:t>Игры трех поколений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67d6"/>
                </a:solidFill>
                <a:latin typeface="Verdana"/>
              </a:rPr>
              <a:t>Гипотеза:  узнаем новое о родителях, бабушках и дедушках, наших учителях, сравним в какие игры играли наши родные, учителя и мы, выясним, насколько мы отличаемся, сделаем вывод, какие игры полезнее и нужнее нам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"/>
          <p:cNvGrpSpPr/>
          <p:nvPr/>
        </p:nvGrpSpPr>
        <p:grpSpPr>
          <a:xfrm>
            <a:off x="415800" y="1138320"/>
            <a:ext cx="7127280" cy="1443600"/>
            <a:chOff x="415800" y="1138320"/>
            <a:chExt cx="7127280" cy="1443600"/>
          </a:xfrm>
        </p:grpSpPr>
        <p:sp>
          <p:nvSpPr>
            <p:cNvPr id="124" name="AutoShape 6"/>
            <p:cNvSpPr/>
            <p:nvPr/>
          </p:nvSpPr>
          <p:spPr>
            <a:xfrm>
              <a:off x="510120" y="1138320"/>
              <a:ext cx="7032960" cy="1443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яснить как росли и  развивались физичес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 духовно  взрослые люди в детств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AutoShape 8"/>
            <p:cNvGrpSpPr/>
            <p:nvPr/>
          </p:nvGrpSpPr>
          <p:grpSpPr>
            <a:xfrm>
              <a:off x="415800" y="1358640"/>
              <a:ext cx="194760" cy="996840"/>
              <a:chOff x="415800" y="1358640"/>
              <a:chExt cx="194760" cy="996840"/>
            </a:xfrm>
          </p:grpSpPr>
          <p:pic>
            <p:nvPicPr>
              <p:cNvPr id="126" name="AutoShap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15800" y="1358640"/>
                <a:ext cx="194760" cy="99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429480" y="1681560"/>
                <a:ext cx="29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AutoShape 28"/>
          <p:cNvSpPr/>
          <p:nvPr/>
        </p:nvSpPr>
        <p:spPr>
          <a:xfrm>
            <a:off x="2900520" y="27702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9"/>
          <p:cNvSpPr/>
          <p:nvPr/>
        </p:nvSpPr>
        <p:spPr>
          <a:xfrm>
            <a:off x="3164040" y="3244680"/>
            <a:ext cx="2698560" cy="58428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3204360" y="2816280"/>
            <a:ext cx="1936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сознать их опы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3048120" y="3333600"/>
            <a:ext cx="2930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спользоваться их опы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ЦЕЛЬ ИССЛЕДОВАНИ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79840" y="3241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52600" y="4392720"/>
            <a:ext cx="231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знать, какую роль эти игры имели  в жизн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162840" y="2030400"/>
            <a:ext cx="231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знать, почему в эти игры они играл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143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8bf1d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46ade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bafc3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ТАПЫ ИССЛЕДОВАНИЯ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53836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445788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"/>
          <p:cNvSpPr/>
          <p:nvPr/>
        </p:nvSpPr>
        <p:spPr>
          <a:xfrm flipH="1">
            <a:off x="485784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380880" y="1143000"/>
            <a:ext cx="3156120" cy="1802520"/>
            <a:chOff x="380880" y="1143000"/>
            <a:chExt cx="3156120" cy="1802520"/>
          </a:xfrm>
        </p:grpSpPr>
        <p:sp>
          <p:nvSpPr>
            <p:cNvPr id="152" name="AutoShape 7"/>
            <p:cNvSpPr/>
            <p:nvPr/>
          </p:nvSpPr>
          <p:spPr>
            <a:xfrm>
              <a:off x="380880" y="1143000"/>
              <a:ext cx="3156120" cy="1802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579600" y="1259640"/>
              <a:ext cx="2697840" cy="1473840"/>
            </a:xfrm>
            <a:prstGeom prst="pie">
              <a:avLst/>
            </a:pr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прос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едставителей трех поколений (устный, аудиозаписи с согласия респондента).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2771640" y="1981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809880" y="1133640"/>
            <a:ext cx="2635560" cy="1778760"/>
            <a:chOff x="3809880" y="1133640"/>
            <a:chExt cx="2635560" cy="1778760"/>
          </a:xfrm>
        </p:grpSpPr>
        <p:sp>
          <p:nvSpPr>
            <p:cNvPr id="156" name="AutoShape 11"/>
            <p:cNvSpPr/>
            <p:nvPr/>
          </p:nvSpPr>
          <p:spPr>
            <a:xfrm>
              <a:off x="3809880" y="1133640"/>
              <a:ext cx="2635560" cy="1778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3975840" y="1248840"/>
              <a:ext cx="2469600" cy="888840"/>
            </a:xfrm>
            <a:prstGeom prst="pie">
              <a:avLst/>
            </a:pr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нкетирование (письменная форма, учащихся 6-А и Б классов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6566040" y="1133640"/>
            <a:ext cx="2500560" cy="2717640"/>
            <a:chOff x="6566040" y="1133640"/>
            <a:chExt cx="2500560" cy="2717640"/>
          </a:xfrm>
        </p:grpSpPr>
        <p:sp>
          <p:nvSpPr>
            <p:cNvPr id="159" name="AutoShape 14"/>
            <p:cNvSpPr/>
            <p:nvPr/>
          </p:nvSpPr>
          <p:spPr>
            <a:xfrm>
              <a:off x="6566040" y="1133640"/>
              <a:ext cx="2500560" cy="2717640"/>
            </a:xfrm>
            <a:custGeom>
              <a:avLst/>
              <a:gdLst>
                <a:gd name="textAreaLeft" fmla="*/ 87120 w 2500560"/>
                <a:gd name="textAreaRight" fmla="*/ 2413440 w 2500560"/>
                <a:gd name="textAreaTop" fmla="*/ 87120 h 2717640"/>
                <a:gd name="textAreaBottom" fmla="*/ 2630520 h 2717640"/>
              </a:gdLst>
              <a:ahLst/>
              <a:rect l="textAreaLeft" t="textAreaTop" r="textAreaRight" b="textAreaBottom"/>
              <a:pathLst>
                <a:path w="21600" h="23475">
                  <a:moveTo>
                    <a:pt x="2575" y="0"/>
                  </a:moveTo>
                  <a:arcTo wR="2575" hR="2575" stAng="16200000" swAng="-5400000"/>
                  <a:lnTo>
                    <a:pt x="0" y="20900"/>
                  </a:lnTo>
                  <a:arcTo wR="2575" hR="2575" stAng="10800000" swAng="-5400000"/>
                  <a:lnTo>
                    <a:pt x="19025" y="23475"/>
                  </a:lnTo>
                  <a:arcTo wR="2575" hR="2575" stAng="5400000" swAng="-5400000"/>
                  <a:lnTo>
                    <a:pt x="21600" y="2575"/>
                  </a:lnTo>
                  <a:arcTo wR="2575" hR="2575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6723360" y="1309680"/>
              <a:ext cx="2263680" cy="2494080"/>
            </a:xfrm>
            <a:prstGeom prst="pie">
              <a:avLst/>
            </a:pr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суждение собранного материала (выявление проблемы, определение гипотезы, анализ фактических данных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79600" y="4038480"/>
            <a:ext cx="7280280" cy="1936800"/>
            <a:chOff x="579600" y="4038480"/>
            <a:chExt cx="7280280" cy="1936800"/>
          </a:xfrm>
        </p:grpSpPr>
        <p:sp>
          <p:nvSpPr>
            <p:cNvPr id="162" name="AutoShape 19"/>
            <p:cNvSpPr/>
            <p:nvPr/>
          </p:nvSpPr>
          <p:spPr>
            <a:xfrm>
              <a:off x="231156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2830680" y="4494240"/>
              <a:ext cx="47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зентация исследов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579600" y="4038480"/>
              <a:ext cx="219528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22"/>
            <p:cNvSpPr/>
            <p:nvPr/>
          </p:nvSpPr>
          <p:spPr>
            <a:xfrm>
              <a:off x="838080" y="4687920"/>
              <a:ext cx="159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писание  работы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Нами были опрошены 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7105680" y="2841480"/>
            <a:ext cx="1888920" cy="2422440"/>
            <a:chOff x="7105680" y="2841480"/>
            <a:chExt cx="1888920" cy="2422440"/>
          </a:xfrm>
        </p:grpSpPr>
        <p:sp>
          <p:nvSpPr>
            <p:cNvPr id="168" name="AutoShape 4"/>
            <p:cNvSpPr/>
            <p:nvPr/>
          </p:nvSpPr>
          <p:spPr>
            <a:xfrm>
              <a:off x="7105680" y="2848320"/>
              <a:ext cx="1888920" cy="240192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2401920"/>
                <a:gd name="textAreaBottom" fmla="*/ 2375640 h 2401920"/>
              </a:gdLst>
              <a:ahLst/>
              <a:rect l="textAreaLeft" t="textAreaTop" r="textAreaRight" b="textAreaBottom"/>
              <a:pathLst>
                <a:path w="21600" h="27465">
                  <a:moveTo>
                    <a:pt x="1038" y="0"/>
                  </a:moveTo>
                  <a:arcTo wR="1038" hR="1038" stAng="16200000" swAng="-5400000"/>
                  <a:lnTo>
                    <a:pt x="0" y="26427"/>
                  </a:lnTo>
                  <a:arcTo wR="1038" hR="1038" stAng="10800000" swAng="-5400000"/>
                  <a:lnTo>
                    <a:pt x="20562" y="274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>
              <a:off x="7200720" y="2841480"/>
              <a:ext cx="168696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7126560" y="5164920"/>
              <a:ext cx="183348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7"/>
          <p:cNvGrpSpPr/>
          <p:nvPr/>
        </p:nvGrpSpPr>
        <p:grpSpPr>
          <a:xfrm>
            <a:off x="220320" y="2784240"/>
            <a:ext cx="1920960" cy="2446560"/>
            <a:chOff x="220320" y="2784240"/>
            <a:chExt cx="1920960" cy="2446560"/>
          </a:xfrm>
        </p:grpSpPr>
        <p:sp>
          <p:nvSpPr>
            <p:cNvPr id="172" name="AutoShape 8"/>
            <p:cNvSpPr/>
            <p:nvPr/>
          </p:nvSpPr>
          <p:spPr>
            <a:xfrm>
              <a:off x="252360" y="2798280"/>
              <a:ext cx="1888920" cy="242892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2428920"/>
                <a:gd name="textAreaBottom" fmla="*/ 2402640 h 2428920"/>
              </a:gdLst>
              <a:ahLst/>
              <a:rect l="textAreaLeft" t="textAreaTop" r="textAreaRight" b="textAreaBottom"/>
              <a:pathLst>
                <a:path w="21600" h="27774">
                  <a:moveTo>
                    <a:pt x="1038" y="0"/>
                  </a:moveTo>
                  <a:arcTo wR="1038" hR="1038" stAng="16200000" swAng="-5400000"/>
                  <a:lnTo>
                    <a:pt x="0" y="26736"/>
                  </a:lnTo>
                  <a:arcTo wR="1038" hR="1038" stAng="10800000" swAng="-5400000"/>
                  <a:lnTo>
                    <a:pt x="20562" y="2777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1.Курначёва Ири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2.Подобедова Ан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3.Жукова Ната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 flipV="1">
              <a:off x="286920" y="278424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 flipV="1" rot="60000">
              <a:off x="220680" y="514944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1"/>
          <p:cNvGrpSpPr/>
          <p:nvPr/>
        </p:nvGrpSpPr>
        <p:grpSpPr>
          <a:xfrm>
            <a:off x="2141640" y="2065320"/>
            <a:ext cx="2379240" cy="3358800"/>
            <a:chOff x="2141640" y="2065320"/>
            <a:chExt cx="2379240" cy="3358800"/>
          </a:xfrm>
        </p:grpSpPr>
        <p:sp>
          <p:nvSpPr>
            <p:cNvPr id="176" name="AutoShape 12"/>
            <p:cNvSpPr/>
            <p:nvPr/>
          </p:nvSpPr>
          <p:spPr>
            <a:xfrm>
              <a:off x="2141640" y="2065320"/>
              <a:ext cx="1888560" cy="3250080"/>
            </a:xfrm>
            <a:custGeom>
              <a:avLst/>
              <a:gdLst>
                <a:gd name="textAreaLeft" fmla="*/ 26280 w 1888560"/>
                <a:gd name="textAreaRight" fmla="*/ 1862280 w 1888560"/>
                <a:gd name="textAreaTop" fmla="*/ 26280 h 3250080"/>
                <a:gd name="textAreaBottom" fmla="*/ 3223800 h 3250080"/>
              </a:gdLst>
              <a:ahLst/>
              <a:rect l="textAreaLeft" t="textAreaTop" r="textAreaRight" b="textAreaBottom"/>
              <a:pathLst>
                <a:path w="21600" h="37169">
                  <a:moveTo>
                    <a:pt x="1038" y="0"/>
                  </a:moveTo>
                  <a:arcTo wR="1038" hR="1038" stAng="16200000" swAng="-5400000"/>
                  <a:lnTo>
                    <a:pt x="0" y="36131"/>
                  </a:lnTo>
                  <a:arcTo wR="1038" hR="1038" stAng="10800000" swAng="-5400000"/>
                  <a:lnTo>
                    <a:pt x="20562" y="37169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 flipV="1">
              <a:off x="2655360" y="538308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266508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6"/>
          <p:cNvGrpSpPr/>
          <p:nvPr/>
        </p:nvGrpSpPr>
        <p:grpSpPr>
          <a:xfrm>
            <a:off x="2655720" y="1644480"/>
            <a:ext cx="1065240" cy="1064880"/>
            <a:chOff x="2655720" y="1644480"/>
            <a:chExt cx="1065240" cy="1064880"/>
          </a:xfrm>
        </p:grpSpPr>
        <p:pic>
          <p:nvPicPr>
            <p:cNvPr id="181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2655720" y="1644480"/>
              <a:ext cx="1065240" cy="105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Oval 18"/>
            <p:cNvGrpSpPr/>
            <p:nvPr/>
          </p:nvGrpSpPr>
          <p:grpSpPr>
            <a:xfrm>
              <a:off x="2656800" y="1645920"/>
              <a:ext cx="1054080" cy="1063440"/>
              <a:chOff x="2656800" y="1645920"/>
              <a:chExt cx="1054080" cy="1063440"/>
            </a:xfrm>
          </p:grpSpPr>
          <p:pic>
            <p:nvPicPr>
              <p:cNvPr id="183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656800" y="1645920"/>
                <a:ext cx="1054080" cy="10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2809440" y="1800000"/>
                <a:ext cx="74736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Мы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5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2761560" y="1654560"/>
              <a:ext cx="841680" cy="37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20"/>
          <p:cNvGrpSpPr/>
          <p:nvPr/>
        </p:nvGrpSpPr>
        <p:grpSpPr>
          <a:xfrm>
            <a:off x="4254480" y="1436760"/>
            <a:ext cx="2723760" cy="4046040"/>
            <a:chOff x="4254480" y="1436760"/>
            <a:chExt cx="2723760" cy="4046040"/>
          </a:xfrm>
        </p:grpSpPr>
        <p:sp>
          <p:nvSpPr>
            <p:cNvPr id="187" name="AutoShape 21"/>
            <p:cNvSpPr/>
            <p:nvPr/>
          </p:nvSpPr>
          <p:spPr>
            <a:xfrm>
              <a:off x="4254480" y="1436760"/>
              <a:ext cx="2723760" cy="4046040"/>
            </a:xfrm>
            <a:custGeom>
              <a:avLst/>
              <a:gdLst>
                <a:gd name="textAreaLeft" fmla="*/ 38160 w 2723760"/>
                <a:gd name="textAreaRight" fmla="*/ 2685600 w 2723760"/>
                <a:gd name="textAreaTop" fmla="*/ 38160 h 4046040"/>
                <a:gd name="textAreaBottom" fmla="*/ 4007880 h 4046040"/>
              </a:gdLst>
              <a:ahLst/>
              <a:rect l="textAreaLeft" t="textAreaTop" r="textAreaRight" b="textAreaBottom"/>
              <a:pathLst>
                <a:path w="21600" h="32085">
                  <a:moveTo>
                    <a:pt x="1038" y="0"/>
                  </a:moveTo>
                  <a:arcTo wR="1038" hR="1038" stAng="16200000" swAng="-5400000"/>
                  <a:lnTo>
                    <a:pt x="0" y="31047"/>
                  </a:lnTo>
                  <a:arcTo wR="1038" hR="1038" stAng="10800000" swAng="-5400000"/>
                  <a:lnTo>
                    <a:pt x="20562" y="3208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1.Кунц Павел Иванови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2.Лексина Елена Юрьев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3.Угарова Ольга Михайлов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4.Толстых Павел Владимирови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5.Серёгина Любов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таниславов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6.Панова Лилия Андреев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7.Копыцова Елизавета Олегов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2"/>
            <p:cNvSpPr/>
            <p:nvPr/>
          </p:nvSpPr>
          <p:spPr>
            <a:xfrm>
              <a:off x="4377960" y="1453680"/>
              <a:ext cx="247680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 flipV="1">
              <a:off x="4264200" y="5424480"/>
              <a:ext cx="2689920" cy="511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4278240" y="1441800"/>
              <a:ext cx="2656080" cy="392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4967280" y="895320"/>
            <a:ext cx="1063800" cy="1064880"/>
            <a:chOff x="4967280" y="895320"/>
            <a:chExt cx="1063800" cy="1064880"/>
          </a:xfrm>
        </p:grpSpPr>
        <p:pic>
          <p:nvPicPr>
            <p:cNvPr id="192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4967280" y="895320"/>
              <a:ext cx="1063800" cy="105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Oval 27"/>
            <p:cNvGrpSpPr/>
            <p:nvPr/>
          </p:nvGrpSpPr>
          <p:grpSpPr>
            <a:xfrm>
              <a:off x="4968360" y="896760"/>
              <a:ext cx="1054080" cy="1063440"/>
              <a:chOff x="4968360" y="896760"/>
              <a:chExt cx="1054080" cy="1063440"/>
            </a:xfrm>
          </p:grpSpPr>
          <p:pic>
            <p:nvPicPr>
              <p:cNvPr id="194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4968360" y="896760"/>
                <a:ext cx="1054080" cy="10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5121720" y="1051200"/>
                <a:ext cx="7462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073120" y="905400"/>
              <a:ext cx="840600" cy="37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29"/>
          <p:cNvGrpSpPr/>
          <p:nvPr/>
        </p:nvGrpSpPr>
        <p:grpSpPr>
          <a:xfrm>
            <a:off x="7378560" y="2327400"/>
            <a:ext cx="1064880" cy="1064880"/>
            <a:chOff x="7378560" y="2327400"/>
            <a:chExt cx="1064880" cy="1064880"/>
          </a:xfrm>
        </p:grpSpPr>
        <p:pic>
          <p:nvPicPr>
            <p:cNvPr id="198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381440" y="2327400"/>
              <a:ext cx="1062000" cy="105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Oval 31"/>
            <p:cNvGrpSpPr/>
            <p:nvPr/>
          </p:nvGrpSpPr>
          <p:grpSpPr>
            <a:xfrm>
              <a:off x="7378560" y="2328840"/>
              <a:ext cx="1056960" cy="1063440"/>
              <a:chOff x="7378560" y="2328840"/>
              <a:chExt cx="1056960" cy="1063440"/>
            </a:xfrm>
          </p:grpSpPr>
          <p:pic>
            <p:nvPicPr>
              <p:cNvPr id="200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378560" y="2328840"/>
                <a:ext cx="1056960" cy="10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7535160" y="2482920"/>
                <a:ext cx="74520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Бабушк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2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487280" y="2337480"/>
              <a:ext cx="839160" cy="37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Group 33"/>
          <p:cNvGrpSpPr/>
          <p:nvPr/>
        </p:nvGrpSpPr>
        <p:grpSpPr>
          <a:xfrm>
            <a:off x="663480" y="2216160"/>
            <a:ext cx="1065240" cy="1064880"/>
            <a:chOff x="663480" y="2216160"/>
            <a:chExt cx="1065240" cy="1064880"/>
          </a:xfrm>
        </p:grpSpPr>
        <p:pic>
          <p:nvPicPr>
            <p:cNvPr id="204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663480" y="2216160"/>
              <a:ext cx="1065240" cy="106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Oval 35"/>
            <p:cNvGrpSpPr/>
            <p:nvPr/>
          </p:nvGrpSpPr>
          <p:grpSpPr>
            <a:xfrm>
              <a:off x="664560" y="2219040"/>
              <a:ext cx="1054080" cy="1062000"/>
              <a:chOff x="664560" y="2219040"/>
              <a:chExt cx="1054080" cy="1062000"/>
            </a:xfrm>
          </p:grpSpPr>
          <p:pic>
            <p:nvPicPr>
              <p:cNvPr id="206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64560" y="2219040"/>
                <a:ext cx="1054080" cy="10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818280" y="2372400"/>
                <a:ext cx="74736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8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769320" y="2226240"/>
              <a:ext cx="841680" cy="3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38"/>
          <p:cNvSpPr/>
          <p:nvPr/>
        </p:nvSpPr>
        <p:spPr>
          <a:xfrm>
            <a:off x="692280" y="25257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991040" y="1114560"/>
            <a:ext cx="10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168640" y="2879640"/>
            <a:ext cx="1655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  <a:ea typeface="Arial"/>
              </a:rPr>
              <a:t>1.Москвитина Екатер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  <a:ea typeface="Arial"/>
              </a:rPr>
              <a:t>2.Курначёва Александ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  <a:ea typeface="Arial"/>
              </a:rPr>
              <a:t>3.Жукова Надеж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  <a:ea typeface="Arial"/>
              </a:rPr>
              <a:t>4.Сатина Анаста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095960" y="3392640"/>
            <a:ext cx="16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  <a:ea typeface="Arial"/>
              </a:rPr>
              <a:t>1.Самсонова Га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  <a:ea typeface="Arial"/>
              </a:rPr>
              <a:t>2.Дубенко Т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и родственники и мы определили свои любимые игры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0" y="12189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914400"/>
          <a:ext cx="8381880" cy="57913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абушки, деду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46a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мы, пап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46a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46ade"/>
                    </a:solidFill>
                  </a:tcPr>
                </a:tc>
              </a:tr>
              <a:tr h="52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клы, «Зарница», «Орлёнок», хоккей, баскетбол, футбо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Вышибала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Испорченный телефон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Ручеёк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Море   волнуется -  раз…», прят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лки, лапт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Третий лишний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Штандер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обачка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Угадать название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раски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Индейцы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артизаны и фашисты – войнушки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росо – семена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олечко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чки-матери, прятки, классики, футбол, казаки-разбойники, «колечк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приставки, но ещё не компьютерные иг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лки, прятки,  «Чай-чай,  выручай», баскетбол, футбол, классики, «Резиночка», «Колечко»,  ф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ьютерные и телефонные и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4f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47800" y="3808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ие игры нам и нашим одноклассникам нравятся  ?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309760" y="2319480"/>
          <a:ext cx="3962520" cy="2036520"/>
        </p:xfrm>
        <a:graphic>
          <a:graphicData uri="http://schemas.openxmlformats.org/drawingml/2006/table">
            <a:tbl>
              <a:tblPr/>
              <a:tblGrid>
                <a:gridCol w="2222640"/>
                <a:gridCol w="1739880"/>
              </a:tblGrid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ставля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74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 Box 47"/>
          <p:cNvSpPr/>
          <p:nvPr/>
        </p:nvSpPr>
        <p:spPr>
          <a:xfrm>
            <a:off x="2684520" y="2413080"/>
            <a:ext cx="15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вижны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8"/>
          <p:cNvSpPr/>
          <p:nvPr/>
        </p:nvSpPr>
        <p:spPr>
          <a:xfrm>
            <a:off x="2514600" y="3652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ны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1"/>
          <p:cNvSpPr/>
          <p:nvPr/>
        </p:nvSpPr>
        <p:spPr>
          <a:xfrm>
            <a:off x="4724280" y="3652920"/>
            <a:ext cx="1212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5:07:47Z</dcterms:created>
  <dc:creator>www.themegallery.com</dc:creator>
  <dc:description/>
  <dc:language>en-US</dc:language>
  <cp:lastModifiedBy>User2</cp:lastModifiedBy>
  <dcterms:modified xsi:type="dcterms:W3CDTF">2017-01-28T00:01:18Z</dcterms:modified>
  <cp:revision>36</cp:revision>
  <dc:subject/>
  <dc:title>ThemeGallery PowerTemplate</dc:title>
</cp:coreProperties>
</file>