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91D1-D2B8-4620-8CD4-94926B580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50C1-8268-4C13-A0CA-CE81BB75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4BB3-EA04-4203-8223-F5CB9B320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B50E-6886-4E23-9A4F-B099B028D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2881-D830-4162-B37F-756A5AC3F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B138-43FD-4772-B4A7-442BDB52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17A1-45AD-4984-B724-13FFFC2B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124F-0828-4394-A61C-391F937B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1118-EFF1-4421-A5BA-B4944146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ED9B-701F-45CF-84C2-090934DA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B7D3-4780-409C-A296-2C2DED07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7597-F719-4910-80D8-4877AE9F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703C-4EDD-43DD-9C9C-724D2B88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F1BE-93EC-4BE1-ADF9-DF574E7D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B34C-0248-40CF-BDFF-D4ECF109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9FF5-C4F1-4A93-A6EF-B95BC03CB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2DEE-9158-457C-B72B-5B79BDAF3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1C0AE-24C2-48A7-AFF7-7515E1962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8B0BC-6B40-429F-9343-6FCC5144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88EEA-02DF-48EA-9A71-3E3C5064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25532-01B1-401C-955C-7AC1769A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B4D8D-BCBC-44D3-8B41-9994D384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1C78-84C9-4543-B4F0-AB3AE311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BD97D-CB5E-4405-9F26-9FD4D014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4DB43-5715-40A7-901F-128B1026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F9CE4-A20F-4BF7-8EAA-7F2CDC46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0E629-D1E2-42F1-BF64-543126B9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AC582-F9C3-4FD3-8CED-E47A76D2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D8EB9-6452-48EE-966B-FB6B9B346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A05B4-271C-4321-9B47-EA44A076B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2A9D-3673-4FF5-A645-304CF616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684E-890A-42AE-B2EB-E24E9F67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C9C4-DDA0-4F4A-91D2-304F2868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3FAB-03B5-4865-AF4A-8CDC2134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F210-BFA1-454D-B3BA-18C3785E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900E-ACDF-4EDB-9E77-E4B91787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1EA01F9-10C5-4571-95AC-361F1B1F433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085C14-7003-4846-BDD3-B92FB236B37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A8C96F-776F-4064-9522-7EE73E1E89F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0" y="1794240"/>
            <a:ext cx="8712720" cy="1675440"/>
          </a:xfrm>
          <a:prstGeom prst="rect">
            <a:avLst/>
          </a:prstGeom>
          <a:noFill/>
          <a:ln w="9525"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>
            <a:bevelT w="127000" h="63500"/>
          </a:sp3d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  <a:ea typeface="Times New Roman"/>
              </a:rPr>
              <a:t>« </a:t>
            </a:r>
            <a:r>
              <a:rPr b="1" lang="ru-RU" sz="4000" spc="-1" strike="noStrike">
                <a:solidFill>
                  <a:srgbClr val="c00000"/>
                </a:solidFill>
                <a:latin typeface="Georgia"/>
                <a:ea typeface="Times New Roman"/>
              </a:rPr>
              <a:t>ВОЛШЕБНЫЙ МИР СЕНСОРИКИ</a:t>
            </a:r>
            <a:r>
              <a:rPr b="1" lang="ru-RU" sz="2400" spc="-1" strike="noStrike">
                <a:solidFill>
                  <a:srgbClr val="c00000"/>
                </a:solidFill>
                <a:latin typeface="Georgia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Заголовок 1"/>
          <p:cNvSpPr/>
          <p:nvPr/>
        </p:nvSpPr>
        <p:spPr>
          <a:xfrm>
            <a:off x="0" y="0"/>
            <a:ext cx="9141120" cy="115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МКДОУ «Детский сад №7 общеразвивающего ви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Заголовок 1"/>
          <p:cNvSpPr/>
          <p:nvPr/>
        </p:nvSpPr>
        <p:spPr>
          <a:xfrm>
            <a:off x="285840" y="5214960"/>
            <a:ext cx="9141120" cy="115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Подготовила :воспитатель Минина Е.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285840"/>
            <a:ext cx="9000720" cy="856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онятельные ощущения</a:t>
            </a:r>
            <a:endParaRPr b="0" lang="es-E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s-E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пахи окружающего мира</a:t>
            </a:r>
            <a:endParaRPr b="0" lang="es-E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s-E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http://www.stihi.ru/pics/2016/11/29/1630.jpg"/>
          <p:cNvPicPr/>
          <p:nvPr/>
        </p:nvPicPr>
        <p:blipFill>
          <a:blip r:embed="rId2"/>
          <a:stretch/>
        </p:blipFill>
        <p:spPr>
          <a:xfrm>
            <a:off x="2357280" y="3214800"/>
            <a:ext cx="4643280" cy="30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34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42920" y="428760"/>
            <a:ext cx="9000720" cy="3357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гра-это ведущий вид деятельности маленького человека, главный источник развития</a:t>
            </a:r>
            <a:endParaRPr b="0" lang="es-E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s-E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http://www.kidzblog.ru/wp-content/uploads/2016/04/1-3.jpg"/>
          <p:cNvPicPr/>
          <p:nvPr/>
        </p:nvPicPr>
        <p:blipFill>
          <a:blip r:embed="rId2"/>
          <a:stretch/>
        </p:blipFill>
        <p:spPr>
          <a:xfrm>
            <a:off x="2000160" y="3143160"/>
            <a:ext cx="4714560" cy="34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34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36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ля развития у ребят памяти,  внимания, мышления предлагала такие дидактические игры как «Потерялся шарик» , «Собери бусы» , «Разложи по цвету» и др.    Дидактический материал  вызывал у ребят интерес и желание действовать. Малыши обменивались предметами, сравнивали их, делали умозаключения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24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 постоянно разнообразила дидактический материал  отдавая предпочтения  не приобретению готовых игр, а  играм сделанных своими руками.  Но всё же часть детей оставалась равнодушной , поэтому пришлось использовать игры сюжетного содержания «Спрячь мишку», «Наряди солнышко»- цель которых научить ребят обобщать предметы по сюжету и цвету. 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 по восприятию цвета ,величины и формы проводились с учетом индивидуальных особенностей малышей.  Ребятам, хорошо усвоившим программу, задания усложнялись, а малышам,  трудно усвоившим материал предлагались задания в облегченном варианте.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2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акже проводилась  работа и с родителями Для выявления интересов и знаний родителей воспитанников по вопросам сенсорного развития была разработана анкета которая позволила сделать следующие выводы: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 большинство родителей имеет поверхностное представление о сенсорном воспитании и не могут оценить уровень сенсорного развития своего ребёнка;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практически все родители заинтересованы в получении квалифицированной помощи по данному вопросу.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3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еще, я хочу сказать Очень важно помнить, что занятия должны  создавать у детей хорошее настроение, вызывать радость, т.е ребенок радуется тому, что узнал что то новое, радуется своему достижению, умению произнести слово, что –то сделать, радуется первым совместным с другими детьми действиям и переживаниям. Эта радость является залогом успешного развития детей на ступени раннего детства, и имеет большое значение для дальнейшего воспитания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14240" y="571320"/>
            <a:ext cx="7572240" cy="2356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s-E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2"/>
          <a:stretch/>
        </p:blipFill>
        <p:spPr>
          <a:xfrm>
            <a:off x="3786120" y="2286000"/>
            <a:ext cx="1299960" cy="2785680"/>
          </a:xfrm>
          <a:prstGeom prst="rect">
            <a:avLst/>
          </a:prstGeom>
          <a:ln w="9525">
            <a:noFill/>
          </a:ln>
        </p:spPr>
      </p:pic>
    </p:spTree>
  </p:cSld>
  <p:transition spd="slow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3640" y="260640"/>
            <a:ext cx="8229240" cy="5256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Ребенку исполнилось 3 года. Это важный рубеж в его жизни — переход от раннего к дошкольному детству. Уже можно задуматься над  дальнейшей его судьбой и над тем, что можно сделать для того, чтобы он вырос умным, честным и счастливым  человеком. Именно в этот период закладываются основы будущей личности, формируются предпосылки физического, умственного, нравственного развития ребенка. И чтобы это формирование было полноценным, необходимо постоянное умелое руководство со стороны взрослых» (Л. Венгер)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s-E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4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3640" y="260640"/>
            <a:ext cx="8229240" cy="5256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енсорное   развитие ребенка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от лат.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sensu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– чувство, ощущение) – это развитие его восприятия и формирование представлений о свойствах предметов и различных явлениях.                </a:t>
            </a:r>
            <a:endParaRPr b="0" lang="es-E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4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642960"/>
            <a:ext cx="8929440" cy="13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процессе сенсорного воспитания формируются представления :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7640" y="25650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 ЦВЕТЕ</a:t>
            </a:r>
            <a:endParaRPr b="0" lang="es-E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 ФОРМЕ </a:t>
            </a:r>
            <a:endParaRPr b="0" lang="es-E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 ВЕЛИЧИНЕ</a:t>
            </a:r>
            <a:endParaRPr b="0" lang="es-E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 ПРИЗНАКАХ И СВОЙСТВАХ РАЗЛИЧНЫХ ПРЕДМЕТОВ</a:t>
            </a:r>
            <a:endParaRPr b="0" lang="es-E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6" descr="C:\Users\Хозяин\Desktop\круж\IMG_8441.JPG"/>
          <p:cNvPicPr/>
          <p:nvPr/>
        </p:nvPicPr>
        <p:blipFill>
          <a:blip r:embed="rId2"/>
          <a:stretch/>
        </p:blipFill>
        <p:spPr>
          <a:xfrm>
            <a:off x="4357800" y="2357280"/>
            <a:ext cx="3642840" cy="221436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34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80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енсорное воспитание направлено на развитие: 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7640" y="22050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рительного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ухового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кусового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язательного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нятельного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щущения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http://stupenki.com/wp-content/uploads/2016/11/nab.jpg"/>
          <p:cNvPicPr/>
          <p:nvPr/>
        </p:nvPicPr>
        <p:blipFill>
          <a:blip r:embed="rId2"/>
          <a:stretch/>
        </p:blipFill>
        <p:spPr>
          <a:xfrm>
            <a:off x="3827880" y="1857240"/>
            <a:ext cx="48171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34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14240" y="285840"/>
            <a:ext cx="7929360" cy="856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рительные ощущения</a:t>
            </a:r>
            <a:endParaRPr b="0" lang="es-E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вет и оттенки</a:t>
            </a:r>
            <a:endParaRPr b="0" lang="es-E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орма и величина</a:t>
            </a:r>
            <a:endParaRPr b="0" lang="es-E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личество</a:t>
            </a:r>
            <a:endParaRPr b="0" lang="es-E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сположение в пространстве</a:t>
            </a:r>
            <a:endParaRPr b="0" lang="es-E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http://img-fotki.yandex.ru/get/5602/130884706.1/0_670b7_b3b0fa49_L"/>
          <p:cNvPicPr/>
          <p:nvPr/>
        </p:nvPicPr>
        <p:blipFill>
          <a:blip r:embed="rId2"/>
          <a:stretch/>
        </p:blipFill>
        <p:spPr>
          <a:xfrm>
            <a:off x="5572080" y="4643280"/>
            <a:ext cx="2785680" cy="1855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http://d3mlntcv38ck9k.cloudfront.net/content/konspekt_image/87041/8df50cc0_5da6_0131_0704_22000ae82f90.jpg"/>
          <p:cNvPicPr/>
          <p:nvPr/>
        </p:nvPicPr>
        <p:blipFill>
          <a:blip r:embed="rId3"/>
          <a:stretch/>
        </p:blipFill>
        <p:spPr>
          <a:xfrm>
            <a:off x="857160" y="4643280"/>
            <a:ext cx="3476160" cy="19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34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714240"/>
            <a:ext cx="9000720" cy="856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луховые ощущения</a:t>
            </a:r>
            <a:endParaRPr b="0" lang="es-E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s-E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вуки музыки</a:t>
            </a:r>
            <a:endParaRPr b="0" lang="es-E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вуки природы</a:t>
            </a:r>
            <a:endParaRPr b="0" lang="es-E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вук речи</a:t>
            </a:r>
            <a:endParaRPr b="0" lang="es-E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4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285840"/>
            <a:ext cx="9000720" cy="856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кусовые ощущения</a:t>
            </a:r>
            <a:endParaRPr b="0" lang="es-E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ладкий – соленый</a:t>
            </a:r>
            <a:endParaRPr b="0" lang="es-E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орький - кислый</a:t>
            </a:r>
            <a:endParaRPr b="0" lang="es-E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http://4.bp.blogspot.com/-1GcaAUgp3Mc/VhPw9Rz0O4I/AAAAAAAAHxg/HFjQXmE-_HA/s1600/Rot5.jpg"/>
          <p:cNvPicPr/>
          <p:nvPr/>
        </p:nvPicPr>
        <p:blipFill>
          <a:blip r:embed="rId2"/>
          <a:stretch/>
        </p:blipFill>
        <p:spPr>
          <a:xfrm>
            <a:off x="1071360" y="4143240"/>
            <a:ext cx="3273120" cy="2172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http://direct-press.ru/images/stories/2013/Health/04-2013/01/72.jpg"/>
          <p:cNvPicPr/>
          <p:nvPr/>
        </p:nvPicPr>
        <p:blipFill>
          <a:blip r:embed="rId3"/>
          <a:stretch/>
        </p:blipFill>
        <p:spPr>
          <a:xfrm>
            <a:off x="5214960" y="4214880"/>
            <a:ext cx="3176280" cy="222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34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285840"/>
            <a:ext cx="9000720" cy="856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язательные ощущения</a:t>
            </a:r>
            <a:endParaRPr b="0" lang="es-E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s-E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актура материала</a:t>
            </a:r>
            <a:endParaRPr b="0" lang="es-E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верхности различных по величине и форме предметов</a:t>
            </a:r>
            <a:endParaRPr b="0" lang="es-E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4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Diseño predeterminado">
  <a:themeElements>
    <a:clrScheme name="Diseño predeterminado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Diseño predeterminado">
  <a:themeElements>
    <a:clrScheme name="Diseño predeterminado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Diseño predeterminado">
  <a:themeElements>
    <a:clrScheme name="Diseño predeterminado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2</TotalTime>
  <Application>LibreOffice/7.4.7.2$Linux_X86_64 LibreOffice_project/40$Build-2</Application>
  <AppVersion>15.0000</AppVersion>
  <Words>479</Words>
  <Paragraphs>52</Paragraphs>
  <Company>Toshib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вышивка</cp:lastModifiedBy>
  <dcterms:modified xsi:type="dcterms:W3CDTF">2017-04-09T15:54:52Z</dcterms:modified>
  <cp:revision>788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6</vt:r8>
  </property>
</Properties>
</file>