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CD9-BC2F-49A3-A9E3-CE66650F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890-CCFE-4481-A40D-37CF3A1C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B66-90D9-46B1-97B4-C56CD88A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DA1-346D-4359-8733-74EABBF2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4833-BC7F-45F0-B96D-0F8C3EE9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47A7-59D9-4FCC-86D9-4EE91BF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A603-40D4-48D6-9436-66D9EAD3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A108-A005-47AB-8A8F-1A301DCF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3597-5F6F-470C-8C36-AF2E103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B873-F5A5-48DD-9688-214C9458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5D2D-4108-4A3A-9943-BE11EC0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283-0B2B-4369-A16B-B1D3246F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A2F3-53A3-47CF-854C-45825AF7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E70E-2EDE-490B-803F-48EE7F80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5BB3-BED3-4A46-9FD9-46E999E8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3BA-51AF-420C-8EE4-0679B016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DC4D-4ECF-4D27-8B29-0FEE64B0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32BE-F177-40F0-94DC-E825DD65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AADC-6CF1-4001-B8A8-08CB5849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F76F-AC51-4BB6-8668-A4A2D7F9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2A01-E74C-4F66-AD73-0A70C6B5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5639-15F9-4B09-86B1-25FED75C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BDE-5913-43CF-8AC0-03246F8A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0C63-8858-4C13-8C0B-ADCEF794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02DA-5EAB-42D0-B56E-5FB1C05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F594-709F-456E-9F0F-7227201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C405-98B7-4F99-95B8-B0CA679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8406-4427-4A26-B1D3-B7135445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5516-BAAD-416F-A9BE-DBC6B1D6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C3D8-71D2-4D63-8388-06462803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60C4-69DF-41C1-AA5F-3A9B7879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698A-BF08-4C05-96F7-ED98C0F7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BEF84-9196-4420-80D9-831D97A9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277-3500-4116-A866-193E515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8530-6C2F-4AF6-85FA-15CEAFF5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ACAB-8500-4585-927B-E38F9279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0AA9-D773-44DF-8FAE-50BC0EA2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E6DE-097D-499B-97F9-7277C0B7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11E9-533B-4987-9E85-DEF57EA8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AA89-7869-40FA-939C-1D62810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8DF7-F45D-409A-869A-DA790AC8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82C7-023C-4A1C-BD29-CF3E1EC6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57BD2-41C1-48EA-B986-72861AE2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6074F-E0CD-424C-85E6-0C01B48B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F8A-3851-4921-9584-C7EBA266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3EB0-93FC-4D8B-93D2-CDBAC21E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F8DA5-A3DD-4654-88C5-7EDE8E6F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273F7-E17A-42C5-A984-3840BF9C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3F6E-94DA-426D-93D1-17A54A7A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FF8F3-0FC6-448C-9836-079D704B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0250F-DD68-453D-863B-3A0A3F0B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011C6-9657-4C5D-A567-6F1678C0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40CA-53EA-420C-B5B3-1CAA033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2561-31F1-4EA1-A0AF-9ED9154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3E02-9A97-42CE-9016-1A9EE316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0A2-EFA2-4774-8D55-3908C70C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890FD-2778-433D-9F85-2DE87456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087EE-7406-4064-A34D-3823D78E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52BEF-BA2B-4030-96CF-394FAAEE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90BE-65A3-452F-845C-1E53B5DA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1136-3485-4AD5-A9A3-264DD907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05689-B681-4A4D-B110-BBBA1F50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C8E9D-F3DA-4689-B116-42DABDA0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9DF3-1D1B-4831-A05E-B0D31D9F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94929-9BA4-4A7A-A907-10633AFD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54443-DD0E-4FC4-89D9-E0CF6AF1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4DA-8622-48E1-B805-B14CD212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02F35-4079-471F-9F96-25D70F21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DDDA0-2275-4366-9CE9-FA0CE959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D405-8E22-4506-80A0-C8C90F9E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EBFF7-A0EA-49F1-865D-67C83211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D9DB-5B5E-4684-B183-411AB3F5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7060C-C87F-450D-8A7C-25E276F5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BAD76-BFA4-4240-8993-11522084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894F6-227A-4E95-84A6-0980E5A2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4BCC8-7BE7-4FEB-8565-A8E80CE3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51E83-8E86-424C-AD39-AD44D422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8A9-AED7-437F-807B-F220CDA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07335-E609-41A4-B3DE-197461E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27C94-FE52-476C-95F8-7204E00C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4DD5A-D8D7-4800-A691-25416166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E5C3F-C887-4695-8DA6-8E30314A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C3E86-C554-44B9-AD34-E591559C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96E-A02A-434B-B0FC-5A7D1E61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C926-CE47-42F5-BB56-CB4724075F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CDFA-4DF5-4ED7-93EF-FF2E5EC836E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754A-088A-4AE0-9527-3FE6E810A4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D998-8EC8-43DA-A37A-18DBC56B0F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9E1D-6187-4E97-8F44-A3D72A3EC3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8470-7A13-4BD9-9C75-298F586B81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F7FB-01C4-42BD-B903-92F6201538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2;&#1091;&#1082;&#1086;&#1083;%20&#1080;&#1079;%20&#1092;&#1072;&#1088;&#1092;&#1086;&#1088;&#1072;&amp;fp=0&amp;pos=0&amp;uinfo=ww-1903-wh-985-fw-1678-fh-598-pd-1&amp;rpt=simage&amp;img_url=http://s44.radikal.ru/i103/0904/45/4fed5b4acbf7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2;&#1072;&#1088;&#1090;&#1080;&#1085;&#1082;&#1080;%20&#1082;&#1091;&#1082;&#1086;&#1083;%20&#1080;&#1079;%20&#1074;&#1077;&#1085;&#1080;&#1082;&#1086;&#1074;&amp;fp=2&amp;img_url=http://apollon.biz.ua/products_pictures/domovichok-kuzya-krasnaya-rubaha-781.jpg&amp;pos=65&amp;uinfo=ww-1903-wh-985-fw-1678-fh-598-pd-1&amp;rpt=simage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71400" y="356760"/>
            <a:ext cx="688644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нформационный  проект </a:t>
            </a:r>
            <a:br>
              <a:rPr sz="6000"/>
            </a:br>
            <a:r>
              <a:rPr b="0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ма: «КУКЛЫ» 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143160" y="4214520"/>
            <a:ext cx="542952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сполнитель: Осипова Али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                             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ученица 3 «а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МАОУ «СОШ №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</a:rPr>
              <a:t>26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» г.Сыктывка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уклы, изготовленные деть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395cbb16"/>
          <p:cNvPicPr/>
          <p:nvPr/>
        </p:nvPicPr>
        <p:blipFill>
          <a:blip r:embed="rId2"/>
          <a:stretch/>
        </p:blipFill>
        <p:spPr>
          <a:xfrm>
            <a:off x="971640" y="1197000"/>
            <a:ext cx="7921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язаные кукл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5" descr="1-21f317ae375a610d5f6f5fab9ea6d1340a1ebbdf"/>
          <p:cNvPicPr/>
          <p:nvPr/>
        </p:nvPicPr>
        <p:blipFill>
          <a:blip r:embed="rId1"/>
          <a:stretch/>
        </p:blipFill>
        <p:spPr>
          <a:xfrm>
            <a:off x="684360" y="2852640"/>
            <a:ext cx="2950920" cy="3456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61384928_1278780006_8bd6ec0eaef5"/>
          <p:cNvPicPr/>
          <p:nvPr/>
        </p:nvPicPr>
        <p:blipFill>
          <a:blip r:embed="rId2"/>
          <a:stretch/>
        </p:blipFill>
        <p:spPr>
          <a:xfrm>
            <a:off x="3924360" y="1341360"/>
            <a:ext cx="4824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Куклы из ваты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5" descr="2e013193703-kukly-igrushki-elochnye-igrushki-iz-vaty-n9793"/>
          <p:cNvPicPr/>
          <p:nvPr/>
        </p:nvPicPr>
        <p:blipFill>
          <a:blip r:embed="rId1"/>
          <a:stretch/>
        </p:blipFill>
        <p:spPr>
          <a:xfrm>
            <a:off x="1258920" y="981000"/>
            <a:ext cx="3960720" cy="3456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94855716_large_300912_1428"/>
          <p:cNvPicPr/>
          <p:nvPr/>
        </p:nvPicPr>
        <p:blipFill>
          <a:blip r:embed="rId2"/>
          <a:stretch/>
        </p:blipFill>
        <p:spPr>
          <a:xfrm>
            <a:off x="5292720" y="3068640"/>
            <a:ext cx="360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ожаные куклы</a:t>
            </a: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уклы из сосн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Picture 4" descr="http://img4.searchmasterclass.net/uploads/posts/2013-06-21/image_616081.jpg"/>
          <p:cNvPicPr/>
          <p:nvPr/>
        </p:nvPicPr>
        <p:blipFill>
          <a:blip r:embed="rId1"/>
          <a:stretch/>
        </p:blipFill>
        <p:spPr>
          <a:xfrm>
            <a:off x="2143080" y="642960"/>
            <a:ext cx="1752480" cy="2628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doll1680"/>
          <p:cNvPicPr/>
          <p:nvPr/>
        </p:nvPicPr>
        <p:blipFill>
          <a:blip r:embed="rId2"/>
          <a:stretch/>
        </p:blipFill>
        <p:spPr>
          <a:xfrm>
            <a:off x="5429160" y="3000240"/>
            <a:ext cx="25671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арфоро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ревя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Содержимое 3" descr="http://img1.liveinternet.ru/images/attach/c/3/75/726/75726537_4268234_3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214200"/>
            <a:ext cx="2857680" cy="3605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ttp://cs403924.userapi.com/v403924926/3c03/FQNkUssrJt4.jpg"/>
          <p:cNvPicPr/>
          <p:nvPr/>
        </p:nvPicPr>
        <p:blipFill>
          <a:blip r:embed="rId3"/>
          <a:stretch/>
        </p:blipFill>
        <p:spPr>
          <a:xfrm>
            <a:off x="4932360" y="2997360"/>
            <a:ext cx="2162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99920" y="274680"/>
            <a:ext cx="54342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     </a:t>
            </a:r>
            <a:r>
              <a:rPr b="1" lang="ru-RU" sz="3500" spc="-1" strike="noStrike">
                <a:solidFill>
                  <a:srgbClr val="572314"/>
                </a:solidFill>
                <a:latin typeface="Corbel"/>
              </a:rPr>
              <a:t>Кукла - матрёшка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1" name="Picture 4" descr="995b84d5895f16b3b3118e3c22698f4cbig"/>
          <p:cNvPicPr/>
          <p:nvPr/>
        </p:nvPicPr>
        <p:blipFill>
          <a:blip r:embed="rId1"/>
          <a:stretch/>
        </p:blipFill>
        <p:spPr>
          <a:xfrm>
            <a:off x="1258920" y="1989000"/>
            <a:ext cx="74991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Кукла - неваляш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3" name="Picture 4" descr="nevalyashka_00032555_zoom"/>
          <p:cNvPicPr/>
          <p:nvPr/>
        </p:nvPicPr>
        <p:blipFill>
          <a:blip r:embed="rId1"/>
          <a:stretch/>
        </p:blipFill>
        <p:spPr>
          <a:xfrm>
            <a:off x="1332000" y="1557360"/>
            <a:ext cx="3228840" cy="3421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2407094-l"/>
          <p:cNvPicPr/>
          <p:nvPr/>
        </p:nvPicPr>
        <p:blipFill>
          <a:blip r:embed="rId2"/>
          <a:stretch/>
        </p:blipFill>
        <p:spPr>
          <a:xfrm>
            <a:off x="5724360" y="1557360"/>
            <a:ext cx="2133720" cy="2200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835608f0ab5a"/>
          <p:cNvPicPr/>
          <p:nvPr/>
        </p:nvPicPr>
        <p:blipFill>
          <a:blip r:embed="rId3"/>
          <a:stretch/>
        </p:blipFill>
        <p:spPr>
          <a:xfrm>
            <a:off x="4211640" y="400536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овременные куклы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: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езиновые и пластмассовые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7" name="Picture 4" descr="3981dbb4a2ef"/>
          <p:cNvPicPr/>
          <p:nvPr/>
        </p:nvPicPr>
        <p:blipFill>
          <a:blip r:embed="rId1"/>
          <a:stretch/>
        </p:blipFill>
        <p:spPr>
          <a:xfrm rot="20971800">
            <a:off x="1363680" y="1819080"/>
            <a:ext cx="2303280" cy="4197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i-44"/>
          <p:cNvPicPr/>
          <p:nvPr/>
        </p:nvPicPr>
        <p:blipFill>
          <a:blip r:embed="rId2"/>
          <a:stretch/>
        </p:blipFill>
        <p:spPr>
          <a:xfrm rot="382800">
            <a:off x="4598640" y="1989000"/>
            <a:ext cx="4133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Бумажные кукл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0" name="Picture 4" descr="image032"/>
          <p:cNvPicPr/>
          <p:nvPr/>
        </p:nvPicPr>
        <p:blipFill>
          <a:blip r:embed="rId1"/>
          <a:stretch/>
        </p:blipFill>
        <p:spPr>
          <a:xfrm>
            <a:off x="2214720" y="1000080"/>
            <a:ext cx="6357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тегории кукол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лекционны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атра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гро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венир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ль: узнать откуда появились куклы и какими они бываю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нет- источни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циклопеди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Коллекционные куклы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4" name="Picture 4" descr="http://cs3.livemaster.ru/zhurnalfoto/d/4/9/130504123629.jpg"/>
          <p:cNvPicPr/>
          <p:nvPr/>
        </p:nvPicPr>
        <p:blipFill>
          <a:blip r:embed="rId1"/>
          <a:stretch/>
        </p:blipFill>
        <p:spPr>
          <a:xfrm rot="21262800">
            <a:off x="539640" y="980640"/>
            <a:ext cx="2592360" cy="2952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130504123630"/>
          <p:cNvPicPr/>
          <p:nvPr/>
        </p:nvPicPr>
        <p:blipFill>
          <a:blip r:embed="rId2"/>
          <a:stretch/>
        </p:blipFill>
        <p:spPr>
          <a:xfrm rot="371400">
            <a:off x="6156000" y="836280"/>
            <a:ext cx="2016000" cy="273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babiki.ru/uploads/images/c/e/1/c/804/8349709a77.jpg"/>
          <p:cNvPicPr/>
          <p:nvPr/>
        </p:nvPicPr>
        <p:blipFill>
          <a:blip r:embed="rId3"/>
          <a:stretch/>
        </p:blipFill>
        <p:spPr>
          <a:xfrm rot="21078600">
            <a:off x="6659640" y="3933360"/>
            <a:ext cx="1923840" cy="2543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33"/>
          <p:cNvPicPr/>
          <p:nvPr/>
        </p:nvPicPr>
        <p:blipFill>
          <a:blip r:embed="rId4"/>
          <a:stretch/>
        </p:blipFill>
        <p:spPr>
          <a:xfrm>
            <a:off x="3492360" y="2997360"/>
            <a:ext cx="2087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Театральные куклы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9" name="Picture 4" descr="598"/>
          <p:cNvPicPr/>
          <p:nvPr/>
        </p:nvPicPr>
        <p:blipFill>
          <a:blip r:embed="rId1"/>
          <a:stretch/>
        </p:blipFill>
        <p:spPr>
          <a:xfrm rot="199800">
            <a:off x="1186920" y="1197000"/>
            <a:ext cx="3467160" cy="4800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medium_15"/>
          <p:cNvPicPr/>
          <p:nvPr/>
        </p:nvPicPr>
        <p:blipFill>
          <a:blip r:embed="rId2"/>
          <a:stretch/>
        </p:blipFill>
        <p:spPr>
          <a:xfrm rot="21141600">
            <a:off x="4642920" y="215568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Игровые куклы </a:t>
            </a:r>
            <a:br>
              <a:rPr sz="3500"/>
            </a:b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Пупсы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4" descr="f0e09a81321e"/>
          <p:cNvPicPr/>
          <p:nvPr/>
        </p:nvPicPr>
        <p:blipFill>
          <a:blip r:embed="rId1"/>
          <a:stretch/>
        </p:blipFill>
        <p:spPr>
          <a:xfrm>
            <a:off x="1643040" y="1500120"/>
            <a:ext cx="3505320" cy="4191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540_2010"/>
          <p:cNvPicPr/>
          <p:nvPr/>
        </p:nvPicPr>
        <p:blipFill>
          <a:blip r:embed="rId2"/>
          <a:stretch/>
        </p:blipFill>
        <p:spPr>
          <a:xfrm>
            <a:off x="5651640" y="2565360"/>
            <a:ext cx="273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увенирные кукл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5" name="Рисунок 4" descr="http://dom-berendej.ru/wp-content/gallery/slavyanskie-kukly-i-oberegi/375-proskovya-petrovna.jpg"/>
          <p:cNvPicPr/>
          <p:nvPr/>
        </p:nvPicPr>
        <p:blipFill>
          <a:blip r:embed="rId1"/>
          <a:stretch/>
        </p:blipFill>
        <p:spPr>
          <a:xfrm>
            <a:off x="1285920" y="2428920"/>
            <a:ext cx="3151080" cy="3790800"/>
          </a:xfrm>
          <a:prstGeom prst="rect">
            <a:avLst/>
          </a:prstGeom>
          <a:ln w="0">
            <a:noFill/>
          </a:ln>
        </p:spPr>
      </p:pic>
      <p:pic>
        <p:nvPicPr>
          <p:cNvPr id="386" name="Содержимое 3" descr="http://dom-berendej.ru/wp-content/gallery/slavyanskie-kukly-i-oberegi/302-kukla-na-chajnik-marfa-vasilevna.jpg"/>
          <p:cNvPicPr/>
          <p:nvPr/>
        </p:nvPicPr>
        <p:blipFill>
          <a:blip r:embed="rId2"/>
          <a:stretch/>
        </p:blipFill>
        <p:spPr>
          <a:xfrm>
            <a:off x="5429160" y="1071720"/>
            <a:ext cx="304812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Авторская художественная кукла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8" name="Picture 4" descr="1-kurs-po-izgotovleniyu-avtorskoj-kuklyi"/>
          <p:cNvPicPr/>
          <p:nvPr/>
        </p:nvPicPr>
        <p:blipFill>
          <a:blip r:embed="rId1"/>
          <a:stretch/>
        </p:blipFill>
        <p:spPr>
          <a:xfrm>
            <a:off x="4932360" y="2133720"/>
            <a:ext cx="3311640" cy="3936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0b1434a1281c9cb57eef79232f239d9d"/>
          <p:cNvPicPr/>
          <p:nvPr/>
        </p:nvPicPr>
        <p:blipFill>
          <a:blip r:embed="rId2"/>
          <a:stretch/>
        </p:blipFill>
        <p:spPr>
          <a:xfrm>
            <a:off x="1332000" y="1125360"/>
            <a:ext cx="28098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28840"/>
            <a:ext cx="74995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32d2e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ревнеегипетские кукл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7" descr="http://stat17.privet.ru/lr/091d188529a5d505437b688428b910ed"/>
          <p:cNvPicPr/>
          <p:nvPr/>
        </p:nvPicPr>
        <p:blipFill>
          <a:blip r:embed="rId1"/>
          <a:stretch/>
        </p:blipFill>
        <p:spPr>
          <a:xfrm>
            <a:off x="1692360" y="1989000"/>
            <a:ext cx="2592360" cy="381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018385"/>
          <p:cNvPicPr/>
          <p:nvPr/>
        </p:nvPicPr>
        <p:blipFill>
          <a:blip r:embed="rId2"/>
          <a:stretch/>
        </p:blipFill>
        <p:spPr>
          <a:xfrm>
            <a:off x="5508720" y="1268280"/>
            <a:ext cx="27352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52360"/>
            <a:ext cx="749952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4" descr="11_html_m44102540"/>
          <p:cNvPicPr/>
          <p:nvPr/>
        </p:nvPicPr>
        <p:blipFill>
          <a:blip r:embed="rId1"/>
          <a:stretch/>
        </p:blipFill>
        <p:spPr>
          <a:xfrm>
            <a:off x="928800" y="0"/>
            <a:ext cx="82152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леопатра и кукл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5" descr="kleo1"/>
          <p:cNvPicPr/>
          <p:nvPr/>
        </p:nvPicPr>
        <p:blipFill>
          <a:blip r:embed="rId1"/>
          <a:stretch/>
        </p:blipFill>
        <p:spPr>
          <a:xfrm>
            <a:off x="6804000" y="1052640"/>
            <a:ext cx="1724040" cy="2162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artlib_gallery-15565-b"/>
          <p:cNvPicPr/>
          <p:nvPr/>
        </p:nvPicPr>
        <p:blipFill>
          <a:blip r:embed="rId2"/>
          <a:stretch/>
        </p:blipFill>
        <p:spPr>
          <a:xfrm>
            <a:off x="1476360" y="2565360"/>
            <a:ext cx="5184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Древние игровые кукл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4" descr="2cde31"/>
          <p:cNvPicPr/>
          <p:nvPr/>
        </p:nvPicPr>
        <p:blipFill>
          <a:blip r:embed="rId1"/>
          <a:stretch/>
        </p:blipFill>
        <p:spPr>
          <a:xfrm>
            <a:off x="206280" y="1208160"/>
            <a:ext cx="2808360" cy="406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x_95689640"/>
          <p:cNvPicPr/>
          <p:nvPr/>
        </p:nvPicPr>
        <p:blipFill>
          <a:blip r:embed="rId2"/>
          <a:stretch/>
        </p:blipFill>
        <p:spPr>
          <a:xfrm>
            <a:off x="6140520" y="960480"/>
            <a:ext cx="2836800" cy="4411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i?id=110293820-00-72&amp;n=21"/>
          <p:cNvPicPr/>
          <p:nvPr/>
        </p:nvPicPr>
        <p:blipFill>
          <a:blip r:embed="rId3"/>
          <a:stretch/>
        </p:blipFill>
        <p:spPr>
          <a:xfrm>
            <a:off x="3214800" y="2143080"/>
            <a:ext cx="2666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Древнеславянская кукла – зольная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«Баба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4" descr="3286"/>
          <p:cNvPicPr/>
          <p:nvPr/>
        </p:nvPicPr>
        <p:blipFill>
          <a:blip r:embed="rId1"/>
          <a:stretch/>
        </p:blipFill>
        <p:spPr>
          <a:xfrm>
            <a:off x="2195640" y="1143000"/>
            <a:ext cx="619272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уклы-оберег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http://im1-tub-ru.yandex.net/i?id=287955236-1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928800"/>
            <a:ext cx="2357640" cy="2786040"/>
          </a:xfrm>
          <a:prstGeom prst="rect">
            <a:avLst/>
          </a:prstGeom>
          <a:ln w="0">
            <a:noFill/>
          </a:ln>
        </p:spPr>
      </p:pic>
      <p:pic>
        <p:nvPicPr>
          <p:cNvPr id="338" name="Содержимое 3" descr="http://www.rukukla.ru/file/0001/9099.jpg"/>
          <p:cNvPicPr/>
          <p:nvPr/>
        </p:nvPicPr>
        <p:blipFill>
          <a:blip r:embed="rId3"/>
          <a:stretch/>
        </p:blipFill>
        <p:spPr>
          <a:xfrm>
            <a:off x="6072120" y="928800"/>
            <a:ext cx="2887560" cy="285732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3" descr="http://www.rukukla.ru/file/0001/9097.jpg"/>
          <p:cNvPicPr/>
          <p:nvPr/>
        </p:nvPicPr>
        <p:blipFill>
          <a:blip r:embed="rId4"/>
          <a:stretch/>
        </p:blipFill>
        <p:spPr>
          <a:xfrm>
            <a:off x="3429000" y="3143160"/>
            <a:ext cx="3000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Куклы - стригушки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4" descr="http://img3.proshkolu.ru/content/media/pic/std/1000000/885000/884372-5e77e71b14f95a5e.jpg"/>
          <p:cNvPicPr/>
          <p:nvPr/>
        </p:nvPicPr>
        <p:blipFill>
          <a:blip r:embed="rId1"/>
          <a:stretch/>
        </p:blipFill>
        <p:spPr>
          <a:xfrm>
            <a:off x="755640" y="234936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NK30"/>
          <p:cNvPicPr/>
          <p:nvPr/>
        </p:nvPicPr>
        <p:blipFill>
          <a:blip r:embed="rId2"/>
          <a:stretch/>
        </p:blipFill>
        <p:spPr>
          <a:xfrm>
            <a:off x="5867280" y="2924280"/>
            <a:ext cx="2664000" cy="3617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NC4EEECE32C7E"/>
          <p:cNvPicPr/>
          <p:nvPr/>
        </p:nvPicPr>
        <p:blipFill>
          <a:blip r:embed="rId3"/>
          <a:stretch/>
        </p:blipFill>
        <p:spPr>
          <a:xfrm>
            <a:off x="3708360" y="907920"/>
            <a:ext cx="2724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6:48:48Z</dcterms:created>
  <dc:creator>Вера</dc:creator>
  <dc:description/>
  <dc:language>en-US</dc:language>
  <cp:lastModifiedBy>Пользователь</cp:lastModifiedBy>
  <dcterms:modified xsi:type="dcterms:W3CDTF">2020-07-19T19:33:43Z</dcterms:modified>
  <cp:revision>57</cp:revision>
  <dc:subject/>
  <dc:title>Творческий проект тема: «КУКЛЫ»</dc:title>
</cp:coreProperties>
</file>