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97C-2DFA-4CE4-85C5-8AB415D5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76D-9E7E-41C8-B50D-19D48AF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0FC-8A50-4A9E-B77A-CD9AEF11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D74-0330-4CF5-9302-CB024F42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C6A-900F-4709-89F5-082459C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250-D09F-4DA4-AD35-D42872C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6A5-C267-4C87-A828-96C8A67E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FF4-4739-4F53-89D3-9192BC6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31E-416F-4754-BFCA-98EFBD8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EBC-70E9-4487-A582-D39DFB4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A49-35E2-4011-8D13-2A0BDB6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D99-2A1E-4115-8CFF-6C854C0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C9F9-7196-4BE3-8EE9-D904B8AA0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pics.livejournal.com/anzee/pic/0008brk3/g31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684360" y="1628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трана, открывшая путь в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КОСМОС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211640" y="407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к уроку окружающего мира в 4 кла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9" descr="02титов"/>
          <p:cNvPicPr/>
          <p:nvPr/>
        </p:nvPicPr>
        <p:blipFill>
          <a:blip r:embed="rId2"/>
          <a:stretch/>
        </p:blipFill>
        <p:spPr>
          <a:xfrm>
            <a:off x="324000" y="836640"/>
            <a:ext cx="1209600" cy="1728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1547640" y="765000"/>
            <a:ext cx="3168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тов Герман Степ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ил один космический полёт. Самый молодой космонавт: в день старта ему было 25 лет 10 месяцев 25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03nikolaev"/>
          <p:cNvPicPr/>
          <p:nvPr/>
        </p:nvPicPr>
        <p:blipFill>
          <a:blip r:embed="rId3"/>
          <a:stretch/>
        </p:blipFill>
        <p:spPr>
          <a:xfrm>
            <a:off x="4716360" y="907920"/>
            <a:ext cx="1351080" cy="201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56360" y="765000"/>
            <a:ext cx="2808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колаев Андриян Григорь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ил два космических полёта. Участник первого в мире группового полёта пилотируемых космических кораб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04popovich"/>
          <p:cNvPicPr/>
          <p:nvPr/>
        </p:nvPicPr>
        <p:blipFill>
          <a:blip r:embed="rId4"/>
          <a:stretch/>
        </p:blipFill>
        <p:spPr>
          <a:xfrm>
            <a:off x="250920" y="2708280"/>
            <a:ext cx="1311120" cy="1873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1476360" y="2637000"/>
            <a:ext cx="3095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ович Павел Роман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ил два космических полёта. Участник первого в мире группового полёта космических кораблей участник первого в мире космического полёта в военных це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" descr="05егоров"/>
          <p:cNvPicPr/>
          <p:nvPr/>
        </p:nvPicPr>
        <p:blipFill>
          <a:blip r:embed="rId5"/>
          <a:stretch/>
        </p:blipFill>
        <p:spPr>
          <a:xfrm>
            <a:off x="179280" y="4724280"/>
            <a:ext cx="150660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7"/>
          <p:cNvSpPr/>
          <p:nvPr/>
        </p:nvSpPr>
        <p:spPr>
          <a:xfrm>
            <a:off x="1763640" y="5054760"/>
            <a:ext cx="288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 октября 1964 г. вместе с Владимиром Комаровым и Константином Феоктисто-вым он совершил полёт на космическом корабле Вос-ход-1 и стал первым вра-чом, полетевшим в косм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692360" y="4581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ри́с Бори́сович Его́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9" descr="bykovsky_s"/>
          <p:cNvPicPr/>
          <p:nvPr/>
        </p:nvPicPr>
        <p:blipFill>
          <a:blip r:embed="rId6"/>
          <a:stretch/>
        </p:blipFill>
        <p:spPr>
          <a:xfrm>
            <a:off x="4500720" y="270828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6084720" y="2637000"/>
            <a:ext cx="3203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але́рий Фёдорович Быко́в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лётчик-космонавт СССР, дважды Герой Советского Союза. Выполнил совместный полет с КК «Восток-6», который пилотировала 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еш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1" descr="komarov"/>
          <p:cNvPicPr/>
          <p:nvPr/>
        </p:nvPicPr>
        <p:blipFill>
          <a:blip r:embed="rId7"/>
          <a:stretch/>
        </p:blipFill>
        <p:spPr>
          <a:xfrm>
            <a:off x="4500720" y="4797360"/>
            <a:ext cx="133344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2"/>
          <p:cNvSpPr/>
          <p:nvPr/>
        </p:nvSpPr>
        <p:spPr>
          <a:xfrm>
            <a:off x="5867280" y="4724280"/>
            <a:ext cx="327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аров Владимир Михайл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гиб во время своего второго космического полёта. Командир первого многоместного космического корабля. Участник первого космического полёта без скафанд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6" descr="belyaev01"/>
          <p:cNvPicPr/>
          <p:nvPr/>
        </p:nvPicPr>
        <p:blipFill>
          <a:blip r:embed="rId2"/>
          <a:stretch/>
        </p:blipFill>
        <p:spPr>
          <a:xfrm>
            <a:off x="55440" y="836640"/>
            <a:ext cx="1516320" cy="223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1547640" y="765000"/>
            <a:ext cx="72723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́вел Ива́нович Беля́е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етский космонавт № 10, во время полёта второй пилот корабл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ексе́й Архи́пович Лео́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ершил первый в мире выход в открытый космос. При посадке корабля «Восход-2», из-за отклонений в работе корабля, П. И. Беляев вручную сориентировал корабль и включил тормозной двигатель. Эти операции были выполнены впервые в мире. Космонавтов нашли в 30 км от г. Березники Пермской области. Две ночи космонавтам пришлось провести одним в диком лесу при сильном морозе. Только на третий день к ним пробились по глубокому снегу спасатели . Полёт продолжался 1 сутки 2 часа 2 минуты 1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0069-075-18-marta-1965-goda-nachalsja-polet-korablja-Voskhod-2-komandirom"/>
          <p:cNvPicPr/>
          <p:nvPr/>
        </p:nvPicPr>
        <p:blipFill>
          <a:blip r:embed="rId3"/>
          <a:stretch/>
        </p:blipFill>
        <p:spPr>
          <a:xfrm>
            <a:off x="6838920" y="3573360"/>
            <a:ext cx="2011320" cy="2671920"/>
          </a:xfrm>
          <a:prstGeom prst="rect">
            <a:avLst/>
          </a:prstGeom>
          <a:ln w="0">
            <a:noFill/>
          </a:ln>
        </p:spPr>
      </p:pic>
      <p:pic>
        <p:nvPicPr>
          <p:cNvPr id="135" name="леонов.wmv" descr=""/>
          <p:cNvPicPr/>
          <p:nvPr/>
        </p:nvPicPr>
        <p:blipFill>
          <a:blip r:embed="rId4"/>
          <a:stretch/>
        </p:blipFill>
        <p:spPr>
          <a:xfrm>
            <a:off x="1258920" y="2825640"/>
            <a:ext cx="537516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НЩИНЫ - 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6" descr="220px-RIAN_archive_612748_Valentina_Tereshkova"/>
          <p:cNvPicPr/>
          <p:nvPr/>
        </p:nvPicPr>
        <p:blipFill>
          <a:blip r:embed="rId2"/>
          <a:stretch/>
        </p:blipFill>
        <p:spPr>
          <a:xfrm>
            <a:off x="7164360" y="1700280"/>
            <a:ext cx="1784520" cy="1800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24000" y="765000"/>
            <a:ext cx="849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ff"/>
                </a:solidFill>
                <a:latin typeface="Arial"/>
              </a:rPr>
              <a:t>После первых успешных полётов советских космонавтов в СССР появилась идея запустить в космос женщину-космонавта. В начале 1962 года начался поиск претенденток по следующим критериям: парашютистка, возрастом до 30 лет, ростом до 170 см и весом до 70 кг. Из сотен кандидатур были выбраны пятеро: Жанна Ёркина, Татьяна Кузнецова, Валентина Пономарёва, Ирина Соловьёва и Валентина Тереш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92360" y="1916280"/>
            <a:ext cx="5688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Arial"/>
              </a:rPr>
              <a:t>Валенти́на Влади́мировна Терешко́ва</a:t>
            </a:r>
            <a:r>
              <a:rPr b="1" lang="ru-RU" sz="1800" spc="-1" strike="noStrike">
                <a:solidFill>
                  <a:srgbClr val="33ccff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тский космонавт, первая в мире женщина-космонавт, первая в России женщина - генерал-майор, Герой Советского Сою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050920" y="321300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ff"/>
                </a:solidFill>
                <a:latin typeface="Arial"/>
              </a:rPr>
              <a:t>Светла́на Евге́ньевна Сави́цк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тский космонавт, вторая женщина-космонавт в мире и первая в мире женщина-космонавт, вышедшая в открытый космос, дважды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USSR_Stamp_1983_SouzT7_Salyut7_SouzT5_Cosmonauts"/>
          <p:cNvPicPr/>
          <p:nvPr/>
        </p:nvPicPr>
        <p:blipFill>
          <a:blip r:embed="rId3"/>
          <a:stretch/>
        </p:blipFill>
        <p:spPr>
          <a:xfrm>
            <a:off x="108000" y="2781360"/>
            <a:ext cx="169056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30031957"/>
          <p:cNvPicPr/>
          <p:nvPr/>
        </p:nvPicPr>
        <p:blipFill>
          <a:blip r:embed="rId4"/>
          <a:stretch/>
        </p:blipFill>
        <p:spPr>
          <a:xfrm>
            <a:off x="7067520" y="4365720"/>
            <a:ext cx="1886040" cy="2241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324000" y="5229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ff"/>
                </a:solidFill>
                <a:latin typeface="Arial"/>
              </a:rPr>
              <a:t>Еле́на Влади́мировна Кондако́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и на данный момент единственна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оссий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женщина-космонавт и первая женщина, совершившая длительный полёт в космос ( 5 месяцев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октября 1994— 22 марта 1995 г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84360" y="472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8900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стоящее время российская космонавтика переживает не лучшие дни. Резко снижено финансирование космических программ, ряд предприятий находятся в крайне тяжелом положении. Но российская космическая наука не стоит на месте. Даже в этих сложных условиях российские ученые проектируют космические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350px-Mir_on_12_June_1998"/>
          <p:cNvPicPr/>
          <p:nvPr/>
        </p:nvPicPr>
        <p:blipFill>
          <a:blip r:embed="rId2"/>
          <a:stretch/>
        </p:blipFill>
        <p:spPr>
          <a:xfrm>
            <a:off x="324000" y="1773360"/>
            <a:ext cx="3457440" cy="3309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800px-STS-133_International_Space_Station_after_undocking"/>
          <p:cNvPicPr/>
          <p:nvPr/>
        </p:nvPicPr>
        <p:blipFill>
          <a:blip r:embed="rId3"/>
          <a:stretch/>
        </p:blipFill>
        <p:spPr>
          <a:xfrm>
            <a:off x="4140360" y="1700280"/>
            <a:ext cx="4859280" cy="3298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179280" y="5157720"/>
            <a:ext cx="36734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КС «МИ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Находилась на околоземной орбите с февраля 1986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2 марта 2001 года затоплена в Тихом оке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995640" y="5084640"/>
            <a:ext cx="514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Междунаро́дная косми́ческая ста́нция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— пилотируемая орбитальная станция, используемая как многоцелевой космический исследовательский комплекс. МКС — совместный международный проект, в котором участвуют 15 стран Управление МКС осуществляется: из Центра управления космическими полётами в Королёве (Россия), из Центра управления полётами в Хьюстоне (США). Между Центрами идёт ежедневный обмен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KorolyovSergeyPavlovich"/>
          <p:cNvPicPr/>
          <p:nvPr/>
        </p:nvPicPr>
        <p:blipFill>
          <a:blip r:embed="rId2"/>
          <a:stretch/>
        </p:blipFill>
        <p:spPr>
          <a:xfrm>
            <a:off x="179280" y="189000"/>
            <a:ext cx="2382840" cy="331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411280" y="1159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Arial"/>
              </a:rPr>
              <a:t>Сергей Павлович Коро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43280" y="836640"/>
            <a:ext cx="6121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етства увлекся новой тогда авиационной техн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17 лет разрабатывал модели самолетов. После встречи с Циолковским увлекся идеями о полете человека в кос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месте с Цандером разрабатывал реактивные двигатели и крылатые р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3068640"/>
            <a:ext cx="87854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прессирован в 1938 году, и до 1944 года работает. в «шарашках» над созданием новых самолетов Ту-2, Пе-2, над проектами управляемой аэроторпеды и нового варианта ракетного перехват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чала 50-х годов работает над проектами покорения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7 –  запуск первого искусственного спутника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60 –  полет собак Белки и Стрелки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61 –   первый полет человека в космос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й Королёв был генератором многих неординарных идей и прародителем выдающихся конструкторских коллективов, работающих в области ракетно-космической техники, его вклад в развитие пилотируемой космонавтики является решаю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179280" y="1890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Arial"/>
              </a:rPr>
              <a:t>ПЕРВЫЙ ИСКУССТВЕННЫЙ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0920" y="1197000"/>
            <a:ext cx="554508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 октября 1957 года был запущен на околоземную орбиту первый в истории человечеств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го полёт имел ошеломляющий успех и создал Советскому Союзу высокий международный автор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Monotype Corsiva"/>
              </a:rPr>
              <a:t>«</a:t>
            </a:r>
            <a:r>
              <a:rPr b="1" i="1" lang="ru-RU" sz="2400" spc="-1" strike="noStrike">
                <a:solidFill>
                  <a:srgbClr val="ccecff"/>
                </a:solidFill>
                <a:latin typeface="Monotype Corsiva"/>
              </a:rPr>
              <a:t>Он был мал, этот самый первый искусственный спутник нашей старой планеты, но его звонкие позывные разнеслись по всем материкам и среди всех народов как воплощение дерзновенной мечты человечества</a:t>
            </a:r>
            <a:r>
              <a:rPr b="1" lang="ru-RU" sz="2400" spc="-1" strike="noStrike">
                <a:solidFill>
                  <a:srgbClr val="ccecff"/>
                </a:solidFill>
                <a:latin typeface="Monotype Corsiva"/>
              </a:rPr>
              <a:t>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— сказал позже С. П. Королё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765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рогу в космос человеку проложили наши "братья меньшие" - собаки. Часто ценой своих жизней они доказывали, что живое существо может находиться в космическо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016"/>
          <p:cNvPicPr/>
          <p:nvPr/>
        </p:nvPicPr>
        <p:blipFill>
          <a:blip r:embed="rId2"/>
          <a:stretch/>
        </p:blipFill>
        <p:spPr>
          <a:xfrm>
            <a:off x="108000" y="1413000"/>
            <a:ext cx="1744560" cy="247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pics.livejournal.com/anzee/pic/0008pwt8/t9678z"/>
          <p:cNvPicPr/>
          <p:nvPr/>
        </p:nvPicPr>
        <p:blipFill>
          <a:blip r:embed="rId3"/>
          <a:stretch/>
        </p:blipFill>
        <p:spPr>
          <a:xfrm rot="21050400">
            <a:off x="1908000" y="1773360"/>
            <a:ext cx="2391120" cy="191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с2"/>
          <p:cNvPicPr/>
          <p:nvPr/>
        </p:nvPicPr>
        <p:blipFill>
          <a:blip r:embed="rId4"/>
          <a:stretch/>
        </p:blipFill>
        <p:spPr>
          <a:xfrm>
            <a:off x="7020000" y="1413000"/>
            <a:ext cx="1893960" cy="37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Новый рисунок (8)"/>
          <p:cNvPicPr/>
          <p:nvPr/>
        </p:nvPicPr>
        <p:blipFill>
          <a:blip r:embed="rId5"/>
          <a:stretch/>
        </p:blipFill>
        <p:spPr>
          <a:xfrm rot="618000">
            <a:off x="4211280" y="1844640"/>
            <a:ext cx="2754360" cy="163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pics.livejournal.com/anzee/pic/0008brk3/t9678z">
            <a:hlinkClick r:id="rId6"/>
          </p:cNvPr>
          <p:cNvPicPr/>
          <p:nvPr/>
        </p:nvPicPr>
        <p:blipFill>
          <a:blip r:embed="rId7"/>
          <a:stretch/>
        </p:blipFill>
        <p:spPr>
          <a:xfrm rot="21029400">
            <a:off x="0" y="3860280"/>
            <a:ext cx="2301840" cy="184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ttp://www.vokrugsveta.ru/img/cmn/2007/11/02/015.jpg"/>
          <p:cNvPicPr/>
          <p:nvPr/>
        </p:nvPicPr>
        <p:blipFill>
          <a:blip r:embed="rId8"/>
          <a:stretch/>
        </p:blipFill>
        <p:spPr>
          <a:xfrm rot="394800">
            <a:off x="2050560" y="371592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собачья тележка"/>
          <p:cNvPicPr/>
          <p:nvPr/>
        </p:nvPicPr>
        <p:blipFill>
          <a:blip r:embed="rId9"/>
          <a:stretch/>
        </p:blipFill>
        <p:spPr>
          <a:xfrm>
            <a:off x="4643280" y="3500280"/>
            <a:ext cx="2327400" cy="220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катапультная кабина"/>
          <p:cNvPicPr/>
          <p:nvPr/>
        </p:nvPicPr>
        <p:blipFill>
          <a:blip r:embed="rId10"/>
          <a:stretch/>
        </p:blipFill>
        <p:spPr>
          <a:xfrm>
            <a:off x="6877080" y="4869000"/>
            <a:ext cx="2127240" cy="1866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324000" y="58053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ые, исследователи искренне любили своих питомцев, каждая трагедия на испытаниях воспринималась как личное г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395280" y="260280"/>
            <a:ext cx="82803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Picture 8" descr="laika-space-tourist"/>
          <p:cNvPicPr/>
          <p:nvPr/>
        </p:nvPicPr>
        <p:blipFill>
          <a:blip r:embed="rId2"/>
          <a:stretch/>
        </p:blipFill>
        <p:spPr>
          <a:xfrm>
            <a:off x="3708360" y="3357720"/>
            <a:ext cx="4875120" cy="330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IMG_2882"/>
          <p:cNvPicPr/>
          <p:nvPr/>
        </p:nvPicPr>
        <p:blipFill>
          <a:blip r:embed="rId3"/>
          <a:stretch/>
        </p:blipFill>
        <p:spPr>
          <a:xfrm>
            <a:off x="539640" y="3357720"/>
            <a:ext cx="2656080" cy="329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468360" y="1052640"/>
            <a:ext cx="8280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йка стала первым животным, выведенным на орбиту Земли. Была запущена в космос 3 ноября 1957 года на советском корабле «Спутник-2» с нового космодрома Тюратам (Байконур). На тот момент Лайке было около двух лет, и вес — около 6 килограммов. Возвращение Лайки на Землю было ещё технически невозможно. Собака погибла во время полёта — через 5—7 часов после старта. Она умерла от стресса и перегрева, хотя предполагалось, что она проживёт около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708360" y="981000"/>
            <a:ext cx="543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 августа 1960 года собаки Белка и Стрелка стали первыми живыми существами, совершившими суточный орбитальный полёт и благополучно вернувшимися обратно. За это время корабль совершил 17 полных оборотов вокруг Земли. Через некоторое время после приземления Стрелка принесла здоровое потомство — шесть щенков, один из которых был отправлен в подарок жене президента США Жаклин Кенн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Belka_and_Strelka"/>
          <p:cNvPicPr/>
          <p:nvPr/>
        </p:nvPicPr>
        <p:blipFill>
          <a:blip r:embed="rId2"/>
          <a:stretch/>
        </p:blipFill>
        <p:spPr>
          <a:xfrm>
            <a:off x="179280" y="1052640"/>
            <a:ext cx="3492720" cy="263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400px-Soviet_Space_Dogs"/>
          <p:cNvPicPr/>
          <p:nvPr/>
        </p:nvPicPr>
        <p:blipFill>
          <a:blip r:embed="rId3"/>
          <a:stretch/>
        </p:blipFill>
        <p:spPr>
          <a:xfrm>
            <a:off x="5435640" y="4184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4"/>
          <a:stretch/>
        </p:blipFill>
        <p:spPr>
          <a:xfrm>
            <a:off x="179280" y="4273560"/>
            <a:ext cx="3961080" cy="2584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468360" y="260280"/>
            <a:ext cx="820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24360" y="436572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laneta-zemlya-vid-iz-kosmosa_1600x12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468360" y="260280"/>
            <a:ext cx="820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8" descr="Chernushka"/>
          <p:cNvPicPr/>
          <p:nvPr/>
        </p:nvPicPr>
        <p:blipFill>
          <a:blip r:embed="rId3"/>
          <a:stretch/>
        </p:blipFill>
        <p:spPr>
          <a:xfrm>
            <a:off x="6516720" y="765000"/>
            <a:ext cx="2254320" cy="231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Zvyozdochka"/>
          <p:cNvPicPr/>
          <p:nvPr/>
        </p:nvPicPr>
        <p:blipFill>
          <a:blip r:embed="rId4"/>
          <a:stretch/>
        </p:blipFill>
        <p:spPr>
          <a:xfrm>
            <a:off x="179280" y="4437000"/>
            <a:ext cx="1738440" cy="2205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250920" y="765000"/>
            <a:ext cx="60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мотря на требование правительства СССР о срочном запуске в космос человека, С. П. Королёв принял решение осуществить его только после двух подряд успешных пусков кораблей с собаками. На этот раз предполагались одиночные одновитковые полёты. 9 марта 1961 года был осуществлён удачный полёт собаки Чернушки и манекена, прозванного «Иваном Ивановичем» на корабле «Восток ЗКА № 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446200" y="3860640"/>
            <a:ext cx="669780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 марта 1961 года состоялся полёт собаки Удача, которой первый космонавт Ю. А. Гагарин перед стартом дал имя Звёздочка. Одновитковый полёт на корабле «Восток ЗКА № 2» прошёл успешно. Вместе с собакой летал и манекен «Иван Иванович». Попутно была испытана фоторазведывательная аппаратура над земными объек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Arial"/>
              </a:rPr>
              <a:t>До полёта в космос первого человека оставалось всего 18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Picture 6" descr="с4"/>
          <p:cNvPicPr/>
          <p:nvPr/>
        </p:nvPicPr>
        <p:blipFill>
          <a:blip r:embed="rId2"/>
          <a:stretch/>
        </p:blipFill>
        <p:spPr>
          <a:xfrm>
            <a:off x="179280" y="1916280"/>
            <a:ext cx="360072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14920" y="836640"/>
            <a:ext cx="532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2 февраля 1966 года, в рамках проекта подготовки длительного полёта человека в космосе, на корабле-биоспутнике «Космос-110» совершили полёт беспородные собаки Ветерок и Уголёк. Его продолжительность составила 23 дня. До сих пор этот полёт является самым продолжительным для собак. Ветерок и Уголёк вернулись крайне измотанными, со стёртой до кожи шерстью, и пролежнями. Они не могли стоять на ногах и испытывали постоянную жажду. Однако, через некоторое время, их состояние вернулось к исходному. Впоследствии они дали здоровое потомство и дожили в виварии Института авиационной и космической медицины до конца своих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planeta-zemlya-vid-iz-kosmosa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79280" y="692280"/>
            <a:ext cx="885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том 1960 года выделена группа из шести космонавтов: Юрий Гагарин, Герман Титов, Андриян Николаев, Павел Попович, Григорий Нелюбов и Валерий Быковский,- они продолжили непос-редственную подготовку к первому полёту человека в космос. Все эти шесть космонавтов успешно сдали экзамен для первого полёта в космос.  </a:t>
            </a:r>
            <a:r>
              <a:rPr b="1" lang="ru-RU" sz="1400" spc="-1" strike="noStrike">
                <a:solidFill>
                  <a:srgbClr val="33ccff"/>
                </a:solidFill>
                <a:latin typeface="Arial"/>
              </a:rPr>
              <a:t>12 апреля 1961 год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первый космический полёт совершил </a:t>
            </a:r>
            <a:r>
              <a:rPr b="1" lang="ru-RU" sz="1400" spc="-1" strike="noStrike">
                <a:solidFill>
                  <a:srgbClr val="33ccff"/>
                </a:solidFill>
                <a:latin typeface="Arial"/>
              </a:rPr>
              <a:t>Юрий Гагарин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его дублёром был Герман Титов, резервным космонавтом был Григорий Нелю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468360" y="260280"/>
            <a:ext cx="820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ЫЕ КОСМОНАВТЫ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гагарин.wmv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300px-%D0%97%D0%B0%D0%BF%D0%B8%D1%81%D0%BA%D0%B0_%D0%93%D0%B0%D0%B3%D0%B0%D1%80%D0%B8%D0%BD%D0%B0"/>
          <p:cNvPicPr/>
          <p:nvPr/>
        </p:nvPicPr>
        <p:blipFill>
          <a:blip r:embed="rId3"/>
          <a:stretch/>
        </p:blipFill>
        <p:spPr>
          <a:xfrm rot="1118400">
            <a:off x="107640" y="4365720"/>
            <a:ext cx="305892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2:24:52Z</dcterms:created>
  <dc:creator>Саша</dc:creator>
  <dc:description/>
  <dc:language>en-US</dc:language>
  <cp:lastModifiedBy>Уитель</cp:lastModifiedBy>
  <dcterms:modified xsi:type="dcterms:W3CDTF">2020-04-22T05:02:30Z</dcterms:modified>
  <cp:revision>18</cp:revision>
  <dc:subject/>
  <dc:title>Слайд 1</dc:title>
</cp:coreProperties>
</file>