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F9D4-5622-4454-BDA7-CA7A654AC8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бразовательный портал Мой университет - www.moi-universitet.ru, факультет "Реформа образования" - www.edu-reforma.ru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88A-9296-4A10-90F4-2943FB9BD8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226-D060-45BE-BFDC-4F51E088B2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4EF-9571-4410-9595-E18DB33889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0FC5-6AE3-457C-B06A-222140BA22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7AE8-6188-4CFB-836E-414076EDD0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731-D2E2-45E2-8461-912697E3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88C-BBCF-44D6-BF27-8220A883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5B9-AB81-4038-8399-75878921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47A-FF53-4945-B2DF-18255AC4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BD9D-FF9E-40A9-A5C7-4EC77C64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83D6-15B2-4D90-9A84-C7526A97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09D8-2CA4-4E31-9212-FD006B8F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9A4B-0560-47D5-BA85-8098052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8319-AEF9-4C35-A709-44F8DEB4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2197-4836-40CE-9733-497B5835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9BD4-4775-469F-9FB7-EC2C920A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124-545D-43DA-A38B-80C3A82C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56A2-599D-428C-B962-FAD4C5D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A212-24B0-4692-987F-B1DD0A7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CCB0-7EF4-4387-B766-459DFC87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88CD-C364-4B37-BD23-0025B0CB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34C-7AC7-41A4-82AD-91FA4DB5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758-727D-41F7-9F48-52747D7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13B-8ADC-4871-A661-533FADE3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676-78E1-4629-BCBE-BF99DB65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DAA-75AC-4494-B363-AA929E79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A32-DB30-49CD-9100-74087D6C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F94-687D-40F6-B1B2-CA32275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DC3-3ECF-4CED-9647-F61A602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3185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24AD-56B5-43FA-969A-DE1493EB3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3185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ED29-F551-451A-8587-CCAE01736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4700520"/>
            <a:ext cx="566244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237960" y="804960"/>
            <a:ext cx="845532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274680"/>
          <a:ext cx="9144000" cy="5014800"/>
        </p:xfrm>
        <a:graphic>
          <a:graphicData uri="http://schemas.openxmlformats.org/drawingml/2006/table">
            <a:tbl>
              <a:tblPr/>
              <a:tblGrid>
                <a:gridCol w="735120"/>
                <a:gridCol w="1676160"/>
                <a:gridCol w="1224000"/>
                <a:gridCol w="1946520"/>
                <a:gridCol w="1249200"/>
                <a:gridCol w="2313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ВОЛ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ВОР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ЧЁ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274680"/>
          <a:ext cx="9144000" cy="5014800"/>
        </p:xfrm>
        <a:graphic>
          <a:graphicData uri="http://schemas.openxmlformats.org/drawingml/2006/table">
            <a:tbl>
              <a:tblPr/>
              <a:tblGrid>
                <a:gridCol w="735120"/>
                <a:gridCol w="1676160"/>
                <a:gridCol w="1224000"/>
                <a:gridCol w="1946520"/>
                <a:gridCol w="1249200"/>
                <a:gridCol w="2313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ВОЛ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ВОР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ПАП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ЧЁ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 ОК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571680"/>
          <a:ext cx="9144000" cy="5214600"/>
        </p:xfrm>
        <a:graphic>
          <a:graphicData uri="http://schemas.openxmlformats.org/drawingml/2006/table">
            <a:tbl>
              <a:tblPr/>
              <a:tblGrid>
                <a:gridCol w="851040"/>
                <a:gridCol w="1941480"/>
                <a:gridCol w="1417680"/>
                <a:gridCol w="2253960"/>
                <a:gridCol w="26798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ВОЛ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ВОР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ЧЁ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571680"/>
          <a:ext cx="9144000" cy="5214600"/>
        </p:xfrm>
        <a:graphic>
          <a:graphicData uri="http://schemas.openxmlformats.org/drawingml/2006/table">
            <a:tbl>
              <a:tblPr/>
              <a:tblGrid>
                <a:gridCol w="851040"/>
                <a:gridCol w="1941480"/>
                <a:gridCol w="1417680"/>
                <a:gridCol w="2253960"/>
                <a:gridCol w="26798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ВОЛ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ВОР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ЧЁ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Д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ТЕН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5294160"/>
        </p:xfrm>
        <a:graphic>
          <a:graphicData uri="http://schemas.openxmlformats.org/drawingml/2006/table">
            <a:tbl>
              <a:tblPr/>
              <a:tblGrid>
                <a:gridCol w="1500120"/>
                <a:gridCol w="1428840"/>
                <a:gridCol w="1500120"/>
                <a:gridCol w="1785960"/>
                <a:gridCol w="1285920"/>
                <a:gridCol w="16430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 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Прямоугольник 2" descr=""/>
          <p:cNvPicPr/>
          <p:nvPr/>
        </p:nvPicPr>
        <p:blipFill>
          <a:blip r:embed="rId1"/>
          <a:stretch/>
        </p:blipFill>
        <p:spPr>
          <a:xfrm>
            <a:off x="0" y="5284800"/>
            <a:ext cx="9455040" cy="6462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2"/>
          <a:stretch/>
        </p:blipFill>
        <p:spPr>
          <a:xfrm>
            <a:off x="0" y="5999040"/>
            <a:ext cx="94550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144000" cy="5294160"/>
        </p:xfrm>
        <a:graphic>
          <a:graphicData uri="http://schemas.openxmlformats.org/drawingml/2006/table">
            <a:tbl>
              <a:tblPr/>
              <a:tblGrid>
                <a:gridCol w="1500120"/>
                <a:gridCol w="1428840"/>
                <a:gridCol w="1500120"/>
                <a:gridCol w="1785960"/>
                <a:gridCol w="1285920"/>
                <a:gridCol w="16430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 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24" name="Прямоугольник 2" descr=""/>
          <p:cNvPicPr/>
          <p:nvPr/>
        </p:nvPicPr>
        <p:blipFill>
          <a:blip r:embed="rId1"/>
          <a:stretch/>
        </p:blipFill>
        <p:spPr>
          <a:xfrm>
            <a:off x="0" y="5284800"/>
            <a:ext cx="945504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3" descr=""/>
          <p:cNvPicPr/>
          <p:nvPr/>
        </p:nvPicPr>
        <p:blipFill>
          <a:blip r:embed="rId2"/>
          <a:stretch/>
        </p:blipFill>
        <p:spPr>
          <a:xfrm>
            <a:off x="0" y="5999040"/>
            <a:ext cx="94550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1000080"/>
          <a:ext cx="9144000" cy="3786120"/>
        </p:xfrm>
        <a:graphic>
          <a:graphicData uri="http://schemas.openxmlformats.org/drawingml/2006/table">
            <a:tbl>
              <a:tblPr/>
              <a:tblGrid>
                <a:gridCol w="3149640"/>
                <a:gridCol w="3279600"/>
                <a:gridCol w="2714760"/>
              </a:tblGrid>
              <a:tr h="19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Прямоугольни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500040"/>
          <a:ext cx="9144000" cy="5294160"/>
        </p:xfrm>
        <a:graphic>
          <a:graphicData uri="http://schemas.openxmlformats.org/drawingml/2006/table">
            <a:tbl>
              <a:tblPr/>
              <a:tblGrid>
                <a:gridCol w="1500120"/>
                <a:gridCol w="1428840"/>
                <a:gridCol w="1500120"/>
                <a:gridCol w="1785960"/>
                <a:gridCol w="1285920"/>
                <a:gridCol w="16430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 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1000080"/>
          <a:ext cx="9144000" cy="4657680"/>
        </p:xfrm>
        <a:graphic>
          <a:graphicData uri="http://schemas.openxmlformats.org/drawingml/2006/table">
            <a:tbl>
              <a:tblPr/>
              <a:tblGrid>
                <a:gridCol w="3149640"/>
                <a:gridCol w="3279600"/>
                <a:gridCol w="2714760"/>
              </a:tblGrid>
              <a:tr h="19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500040"/>
          <a:ext cx="9144000" cy="5294160"/>
        </p:xfrm>
        <a:graphic>
          <a:graphicData uri="http://schemas.openxmlformats.org/drawingml/2006/table">
            <a:tbl>
              <a:tblPr/>
              <a:tblGrid>
                <a:gridCol w="1500120"/>
                <a:gridCol w="1428840"/>
                <a:gridCol w="1500120"/>
                <a:gridCol w="1785960"/>
                <a:gridCol w="1285920"/>
                <a:gridCol w="16430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 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792520" y="480960"/>
            <a:ext cx="4078080" cy="1006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684360" y="1916280"/>
            <a:ext cx="8208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хали на автобус.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мпот из земляник.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оворили о смело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1000080"/>
          <a:ext cx="9144000" cy="4686480"/>
        </p:xfrm>
        <a:graphic>
          <a:graphicData uri="http://schemas.openxmlformats.org/drawingml/2006/table">
            <a:tbl>
              <a:tblPr/>
              <a:tblGrid>
                <a:gridCol w="3203640"/>
                <a:gridCol w="3529080"/>
                <a:gridCol w="2411280"/>
              </a:tblGrid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3"/>
          <p:cNvSpPr/>
          <p:nvPr/>
        </p:nvSpPr>
        <p:spPr>
          <a:xfrm>
            <a:off x="5000760" y="31431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500040"/>
          <a:ext cx="9144000" cy="5294160"/>
        </p:xfrm>
        <a:graphic>
          <a:graphicData uri="http://schemas.openxmlformats.org/drawingml/2006/table">
            <a:tbl>
              <a:tblPr/>
              <a:tblGrid>
                <a:gridCol w="1500120"/>
                <a:gridCol w="1428840"/>
                <a:gridCol w="1500120"/>
                <a:gridCol w="1785960"/>
                <a:gridCol w="1285920"/>
                <a:gridCol w="16430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Ь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ЛИС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КОТ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ПАП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 ОК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Д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ТЕН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1000080"/>
          <a:ext cx="9144000" cy="4686480"/>
        </p:xfrm>
        <a:graphic>
          <a:graphicData uri="http://schemas.openxmlformats.org/drawingml/2006/table">
            <a:tbl>
              <a:tblPr/>
              <a:tblGrid>
                <a:gridCol w="3149640"/>
                <a:gridCol w="3510000"/>
                <a:gridCol w="2484360"/>
              </a:tblGrid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Прямоугольни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5000760" y="31431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8143920" y="314316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1000080"/>
          <a:ext cx="9144000" cy="491508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4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8036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5.55042E-007 L -0.34636 0.36725 E">
                                      <p:cBhvr>
                                        <p:cTn id="10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1000080"/>
          <a:ext cx="9144000" cy="503712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55412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58557E-007 L 0.31007 0.35985 E">
                                      <p:cBhvr>
                                        <p:cTn id="11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000080"/>
          <a:ext cx="9144000" cy="503712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59084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8557E-007 L -0.34549 0.47526 E">
                                      <p:cBhvr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1000080"/>
          <a:ext cx="9144000" cy="503712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63368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58557E-007 L 0.00677 0.35985 E">
                                      <p:cBhvr>
                                        <p:cTn id="12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000080"/>
          <a:ext cx="9144000" cy="503712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26684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58557E-007 L -0.00347 0.47526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0" y="1000080"/>
          <a:ext cx="9144000" cy="503712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87164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58557E-007 L 0.00087 0.55921 E">
                                      <p:cBhvr>
                                        <p:cTn id="13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1000080"/>
          <a:ext cx="9144000" cy="503712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Д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9494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58557E-007 L 0.3066 0.47526 E">
                                      <p:cBhvr>
                                        <p:cTn id="14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573120" y="639720"/>
            <a:ext cx="816300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547640" y="4221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4360" y="4076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Открываем новый секрет имени существительного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1000080"/>
          <a:ext cx="9144000" cy="528336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ЫШ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Д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6812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58557E-007 L 0.31024 0.56961 E">
                                      <p:cBhvr>
                                        <p:cTn id="14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00080"/>
          <a:ext cx="9144000" cy="528336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ЫШ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Д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В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71288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58557E-007 L -0.32083 0.55921 E">
                                      <p:cBhvr>
                                        <p:cTn id="15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1000080"/>
          <a:ext cx="9144000" cy="528336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ЫШ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Д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В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268128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58557E-007 L -0.33837 0.67461 E">
                                      <p:cBhvr>
                                        <p:cTn id="16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1000080"/>
          <a:ext cx="9144000" cy="528336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ЫШ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Д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В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Д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177948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58557E-007 L 0.30382 0.68501 E">
                                      <p:cBhvr>
                                        <p:cTn id="16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1000080"/>
          <a:ext cx="9144000" cy="5283360"/>
        </p:xfrm>
        <a:graphic>
          <a:graphicData uri="http://schemas.openxmlformats.org/drawingml/2006/table">
            <a:tbl>
              <a:tblPr/>
              <a:tblGrid>
                <a:gridCol w="3313080"/>
                <a:gridCol w="2952720"/>
                <a:gridCol w="287820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-А, -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. Р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. Р.  -О, 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. 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ЯД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ЫШ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Д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В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Д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А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Прямоугольник 2"/>
          <p:cNvSpPr/>
          <p:nvPr/>
        </p:nvSpPr>
        <p:spPr>
          <a:xfrm>
            <a:off x="4572000" y="171468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7643880" y="178596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Прямоугольник 5" descr=""/>
          <p:cNvPicPr/>
          <p:nvPr/>
        </p:nvPicPr>
        <p:blipFill>
          <a:blip r:embed="rId1"/>
          <a:stretch/>
        </p:blipFill>
        <p:spPr>
          <a:xfrm>
            <a:off x="3786120" y="139680"/>
            <a:ext cx="20970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00486 0.67523 E">
                                      <p:cBhvr>
                                        <p:cTn id="173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4"/>
          <p:cNvSpPr/>
          <p:nvPr/>
        </p:nvSpPr>
        <p:spPr>
          <a:xfrm>
            <a:off x="684360" y="90792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хали на автобу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79280" y="24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мпот из земляни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50920" y="414972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оворили о смело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Прямоугольник 3" descr=""/>
          <p:cNvPicPr/>
          <p:nvPr/>
        </p:nvPicPr>
        <p:blipFill>
          <a:blip r:embed="rId1"/>
          <a:stretch/>
        </p:blipFill>
        <p:spPr>
          <a:xfrm>
            <a:off x="7875720" y="4157640"/>
            <a:ext cx="714240" cy="101124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9"/>
          <p:cNvSpPr txBox="1"/>
          <p:nvPr/>
        </p:nvSpPr>
        <p:spPr>
          <a:xfrm>
            <a:off x="5076720" y="62064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скл., П. п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20"/>
          <p:cNvSpPr txBox="1"/>
          <p:nvPr/>
        </p:nvSpPr>
        <p:spPr>
          <a:xfrm>
            <a:off x="5364000" y="227664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скл., Р. п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21"/>
          <p:cNvSpPr txBox="1"/>
          <p:nvPr/>
        </p:nvSpPr>
        <p:spPr>
          <a:xfrm>
            <a:off x="5651640" y="3860640"/>
            <a:ext cx="17240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 скл., П. п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5" name="Прямоугольник 3" descr=""/>
          <p:cNvPicPr/>
          <p:nvPr/>
        </p:nvPicPr>
        <p:blipFill>
          <a:blip r:embed="rId2"/>
          <a:stretch/>
        </p:blipFill>
        <p:spPr>
          <a:xfrm>
            <a:off x="7748640" y="2487600"/>
            <a:ext cx="712800" cy="10177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3"/>
          <a:stretch/>
        </p:blipFill>
        <p:spPr>
          <a:xfrm>
            <a:off x="7327800" y="920880"/>
            <a:ext cx="706680" cy="10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712800" y="1359000"/>
            <a:ext cx="7797960" cy="17492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712800" y="3071880"/>
            <a:ext cx="7765920" cy="175572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4711680"/>
            <a:ext cx="7230960" cy="17557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6" descr=""/>
          <p:cNvPicPr/>
          <p:nvPr/>
        </p:nvPicPr>
        <p:blipFill>
          <a:blip r:embed="rId4"/>
          <a:stretch/>
        </p:blipFill>
        <p:spPr>
          <a:xfrm>
            <a:off x="1139760" y="0"/>
            <a:ext cx="2286000" cy="15667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7" descr=""/>
          <p:cNvPicPr/>
          <p:nvPr/>
        </p:nvPicPr>
        <p:blipFill>
          <a:blip r:embed="rId5"/>
          <a:stretch/>
        </p:blipFill>
        <p:spPr>
          <a:xfrm>
            <a:off x="4780080" y="0"/>
            <a:ext cx="3193920" cy="15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14240" y="714240"/>
          <a:ext cx="7894800" cy="5004000"/>
        </p:xfrm>
        <a:graphic>
          <a:graphicData uri="http://schemas.openxmlformats.org/drawingml/2006/table">
            <a:tbl>
              <a:tblPr/>
              <a:tblGrid>
                <a:gridCol w="735120"/>
                <a:gridCol w="1676520"/>
                <a:gridCol w="1224000"/>
                <a:gridCol w="1946160"/>
                <a:gridCol w="2313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3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ВОЛ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ВОР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14240" y="714240"/>
          <a:ext cx="7894800" cy="5004000"/>
        </p:xfrm>
        <a:graphic>
          <a:graphicData uri="http://schemas.openxmlformats.org/drawingml/2006/table">
            <a:tbl>
              <a:tblPr/>
              <a:tblGrid>
                <a:gridCol w="735120"/>
                <a:gridCol w="1676520"/>
                <a:gridCol w="1224000"/>
                <a:gridCol w="1946160"/>
                <a:gridCol w="2313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ВОЛ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ВОР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ЛИС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КОТ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927000" y="360360"/>
            <a:ext cx="6838920" cy="19382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1000080" y="2646360"/>
            <a:ext cx="6838920" cy="1938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684360" y="4724280"/>
            <a:ext cx="835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Определите род и падеж выделенных имён 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Сравните окончания.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1139760"/>
            <a:ext cx="3895920" cy="101772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4998960" y="1139760"/>
            <a:ext cx="35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573120" y="3267000"/>
            <a:ext cx="3328920" cy="1092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6" descr=""/>
          <p:cNvPicPr/>
          <p:nvPr/>
        </p:nvPicPr>
        <p:blipFill>
          <a:blip r:embed="rId4"/>
          <a:stretch/>
        </p:blipFill>
        <p:spPr>
          <a:xfrm>
            <a:off x="5211720" y="3279600"/>
            <a:ext cx="2962440" cy="11527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5"/>
          <a:stretch/>
        </p:blipFill>
        <p:spPr>
          <a:xfrm>
            <a:off x="1359000" y="785880"/>
            <a:ext cx="2097000" cy="58572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9" descr=""/>
          <p:cNvPicPr/>
          <p:nvPr/>
        </p:nvPicPr>
        <p:blipFill>
          <a:blip r:embed="rId6"/>
          <a:stretch/>
        </p:blipFill>
        <p:spPr>
          <a:xfrm>
            <a:off x="5718240" y="785880"/>
            <a:ext cx="2097000" cy="5857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0" descr=""/>
          <p:cNvPicPr/>
          <p:nvPr/>
        </p:nvPicPr>
        <p:blipFill>
          <a:blip r:embed="rId7"/>
          <a:stretch/>
        </p:blipFill>
        <p:spPr>
          <a:xfrm>
            <a:off x="1212840" y="2871720"/>
            <a:ext cx="210348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1" descr=""/>
          <p:cNvPicPr/>
          <p:nvPr/>
        </p:nvPicPr>
        <p:blipFill>
          <a:blip r:embed="rId8"/>
          <a:stretch/>
        </p:blipFill>
        <p:spPr>
          <a:xfrm>
            <a:off x="5499000" y="2871720"/>
            <a:ext cx="2102040" cy="620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8001000" y="3716280"/>
            <a:ext cx="4287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731960"/>
            <a:ext cx="8217000" cy="330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3:24:54Z</dcterms:created>
  <dc:creator>User</dc:creator>
  <dc:description/>
  <dc:language>en-US</dc:language>
  <cp:lastModifiedBy>Виктор</cp:lastModifiedBy>
  <dcterms:modified xsi:type="dcterms:W3CDTF">2020-07-19T12:45:50Z</dcterms:modified>
  <cp:revision>82</cp:revision>
  <dc:subject/>
  <dc:title>Слайд 1</dc:title>
</cp:coreProperties>
</file>