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FBE-9FFA-4E9B-B6EB-DBBBE451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4AF-32FA-4848-B091-C6277E61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E2B-AB78-4CCF-8B80-0103E524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6D8-F6D3-401F-86E3-E88FC6FB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E444-570F-490F-852C-3C099519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C587-F401-49A2-9F80-6FEB95D0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49AC-ED7F-4A28-BB45-D5409EC2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42AA-D7A4-4C78-9C03-0BBCBE3E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20B1-4BC3-4C8E-A790-FF2632B9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4851-D6D1-4762-B5E2-F55601C0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E068-9C0A-4D56-8D2D-BD0640EE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12A-9DB6-4A44-8FE4-BB31761B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2F47-26FE-4A3B-97F5-EADE1DA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C4A1-BC16-4222-B29A-673FAA2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F602-7914-4A5C-882C-24783D85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DBAE-329D-4E2C-A220-55183C02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C1A8-86BA-444E-B206-AFA51455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B67-9D67-4E95-95A0-96972044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F51-36D5-4991-A752-DBA000BF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8F2-C33A-4F5E-8F68-49280075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165-9C5F-4DB6-8291-F05EB75F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022-EFB1-47C9-9E9A-D8DA3C9E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745-9A5E-430E-8A28-6162AE36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836-0CD7-453B-A737-9BCB6352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6E76-62F3-4B5A-8871-0471E89406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9F26-4124-4EEC-A690-22CDC77403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Третья страница:</a:t>
            </a:r>
            <a:br>
              <a:rPr sz="4000"/>
            </a:br>
            <a:r>
              <a:rPr b="0" lang="ru-RU" sz="4000" spc="-1" strike="noStrike">
                <a:solidFill>
                  <a:srgbClr val="1dbd15"/>
                </a:solidFill>
                <a:latin typeface="Arial"/>
              </a:rPr>
              <a:t>«С русским языком можно творить чудеса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3141360"/>
            <a:ext cx="8713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, которые одинаково читаются слева направо и справа налево, называются палиндро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граммы- нужно в слове переставить буквы или поменять их мес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zumangadaioh_19_1024"/>
          <p:cNvPicPr/>
          <p:nvPr/>
        </p:nvPicPr>
        <p:blipFill>
          <a:blip r:embed="rId1"/>
          <a:stretch/>
        </p:blipFill>
        <p:spPr>
          <a:xfrm>
            <a:off x="0" y="0"/>
            <a:ext cx="1763640" cy="1322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j0088542"/>
          <p:cNvPicPr/>
          <p:nvPr/>
        </p:nvPicPr>
        <p:blipFill>
          <a:blip r:embed="rId2"/>
          <a:stretch/>
        </p:blipFill>
        <p:spPr>
          <a:xfrm>
            <a:off x="0" y="6281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j0088542"/>
          <p:cNvPicPr/>
          <p:nvPr/>
        </p:nvPicPr>
        <p:blipFill>
          <a:blip r:embed="rId3"/>
          <a:stretch/>
        </p:blipFill>
        <p:spPr>
          <a:xfrm>
            <a:off x="4583160" y="62816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Arial"/>
              </a:rPr>
              <a:t>Разгадай анаграм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дыша в моей т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я ты летом часто хвали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буквы переставь мо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целый лес ты мною свали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ипа – пи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Не раз в оркестрах я звуч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Мой голос струнный так певу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Но «ф» мое поставь снач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И я во тьму направлю лу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(арфа – фар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f266"/>
                </a:solidFill>
                <a:latin typeface="Arial"/>
              </a:rPr>
              <a:t>Взглянув на карту, ты узна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f266"/>
                </a:solidFill>
                <a:latin typeface="Arial"/>
              </a:rPr>
              <a:t>Что я французская р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f266"/>
                </a:solidFill>
                <a:latin typeface="Arial"/>
              </a:rPr>
              <a:t>Но, если буквы перестави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f266"/>
                </a:solidFill>
                <a:latin typeface="Arial"/>
              </a:rPr>
              <a:t>Укрою я в себе звер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f266"/>
                </a:solidFill>
                <a:latin typeface="Arial"/>
              </a:rPr>
              <a:t>(Рона – н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024x768star"/>
          <p:cNvPicPr/>
          <p:nvPr/>
        </p:nvPicPr>
        <p:blipFill>
          <a:blip r:embed="rId1"/>
          <a:stretch/>
        </p:blipFill>
        <p:spPr>
          <a:xfrm>
            <a:off x="5003640" y="3860640"/>
            <a:ext cx="3384720" cy="253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0158007"/>
          <p:cNvPicPr/>
          <p:nvPr/>
        </p:nvPicPr>
        <p:blipFill>
          <a:blip r:embed="rId2"/>
          <a:stretch/>
        </p:blipFill>
        <p:spPr>
          <a:xfrm>
            <a:off x="0" y="5950080"/>
            <a:ext cx="456876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cc"/>
                </a:solidFill>
                <a:latin typeface="Arial"/>
              </a:rPr>
              <a:t>««Шарады»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3776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 Black"/>
              </a:rPr>
              <a:t>Три буквы облаками ре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 Black"/>
              </a:rPr>
              <a:t>Две виснут на мужском л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 Black"/>
              </a:rPr>
              <a:t>А целое бел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 Black"/>
              </a:rPr>
              <a:t>В тумане моря голу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7640" y="105264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 Black"/>
              </a:rPr>
              <a:t>Начало деревом зовё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 Black"/>
              </a:rPr>
              <a:t>Конец – читатели мо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 Black"/>
              </a:rPr>
              <a:t>Здесь в книге целое найдё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 Black"/>
              </a:rPr>
              <a:t>И в каждой строчке есть 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j0158007"/>
          <p:cNvPicPr/>
          <p:nvPr/>
        </p:nvPicPr>
        <p:blipFill>
          <a:blip r:embed="rId1"/>
          <a:stretch/>
        </p:blipFill>
        <p:spPr>
          <a:xfrm>
            <a:off x="4427640" y="6093000"/>
            <a:ext cx="4568760" cy="537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158007"/>
          <p:cNvPicPr/>
          <p:nvPr/>
        </p:nvPicPr>
        <p:blipFill>
          <a:blip r:embed="rId2"/>
          <a:stretch/>
        </p:blipFill>
        <p:spPr>
          <a:xfrm>
            <a:off x="4575240" y="189000"/>
            <a:ext cx="4568760" cy="53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39640" y="3068640"/>
            <a:ext cx="2160720" cy="2552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5621400" y="2973240"/>
            <a:ext cx="2181240" cy="31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cc"/>
                </a:solidFill>
                <a:latin typeface="Arial"/>
              </a:rPr>
              <a:t>««Шарады»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Начало – голос пт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Конец – на дне пр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А целое в муз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Найдется без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ервый слог  найдешь средь но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одолженье – бык нес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очешь целое най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ак ищи его в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1835280" y="3573360"/>
            <a:ext cx="2027160" cy="2981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2043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етвертая страница: «Поговорка - цветочек, а пословица - ягодка!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763640" y="7029000"/>
            <a:ext cx="64008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Мышонок"/>
          <p:cNvPicPr/>
          <p:nvPr/>
        </p:nvPicPr>
        <p:blipFill>
          <a:blip r:embed="rId1"/>
          <a:stretch/>
        </p:blipFill>
        <p:spPr>
          <a:xfrm>
            <a:off x="5435640" y="2349360"/>
            <a:ext cx="3132000" cy="40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27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ый конь борозды не испор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танцевать от пе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пи казак, атаманом стан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писано пером, того не вырубишь топ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 платежом кра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петит приходит во время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ихом омуте черти водя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ьги счёт люб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 кошка, чьё сало съ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лся груздем, полезай в ку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ужой роток не накинешь пла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 свои сани не сад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ff"/>
                </a:solidFill>
                <a:latin typeface="Arial"/>
              </a:rPr>
              <a:t>Страница «Грамотеи»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рт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люз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метр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он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он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Arial"/>
              </a:rPr>
              <a:t>В работах наших школьников встречаются ошибк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ошадь, утомившаяся от зноя, опустила уши, глаза и шмыгнула ноздр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усты нежно прижались к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Щенок молебно зав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Мальчики купались в реке до уто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0:25:53Z</dcterms:created>
  <dc:creator>Teslya</dc:creator>
  <dc:description/>
  <dc:language>en-US</dc:language>
  <cp:lastModifiedBy>Анна</cp:lastModifiedBy>
  <dcterms:modified xsi:type="dcterms:W3CDTF">2020-07-19T07:04:27Z</dcterms:modified>
  <cp:revision>27</cp:revision>
  <dc:subject/>
  <dc:title>Устный журнал «СЛОВО»</dc:title>
</cp:coreProperties>
</file>