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CFADB-F3AF-4873-A6D5-280E213A03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564CB-66D3-4EF1-AC78-A2DC2B0D95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0892-BE79-45AF-9A33-8F672FC18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4F13-71BF-4EB2-BEC9-C35946EFB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4EAF-9628-42C9-9B0C-BF57AD3B3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6ADE-3296-4315-B287-B5A38DDD6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B5AA-1765-4868-BA18-D9EB3C15A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719C-20BE-47AC-8563-2E2883CC8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459E-1459-4CD7-95C6-1B943685D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513E-E878-48B7-9D62-BBF7C6F86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A217-EF1C-49C7-B86B-025C8E201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07B3-2CD3-489F-AB7E-3F4C39A0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1798-9BEA-4482-9928-B81BBCAA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7C5A-FA6D-4B31-B0CE-4CAC8399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F1105-5B3B-4388-87A8-85DD6DE2C7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C:\Documents and Settings\Administrator\Рабочий стол\1. дни рождения  ЖКХ-1-19\3мб на сайт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C:\Documents and Settings\Administrator\Рабочий стол\1. дни рождения  ЖКХ-1-19\3мб на сайт\10.JPG"/>
          <p:cNvPicPr/>
          <p:nvPr/>
        </p:nvPicPr>
        <p:blipFill>
          <a:blip r:embed="rId1"/>
          <a:stretch/>
        </p:blipFill>
        <p:spPr>
          <a:xfrm>
            <a:off x="0" y="0"/>
            <a:ext cx="91854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8" descr="C:\Documents and Settings\Administrator\Рабочий стол\1. дни рождения  ЖКХ-1-19\3мб на сайт\11.JPG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C:\Documents and Settings\Administrator\Рабочий стол\1. дни рождения  ЖКХ-1-19\3мб на сайт\12.JPG"/>
          <p:cNvPicPr/>
          <p:nvPr/>
        </p:nvPicPr>
        <p:blipFill>
          <a:blip r:embed="rId1"/>
          <a:stretch/>
        </p:blipFill>
        <p:spPr>
          <a:xfrm>
            <a:off x="-11160" y="-4680"/>
            <a:ext cx="9155160" cy="686268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C:\Documents and Settings\Administrator\Рабочий стол\1. дни рождения  ЖКХ-1-19\3мб на сайт\2.JPG"/>
          <p:cNvPicPr/>
          <p:nvPr/>
        </p:nvPicPr>
        <p:blipFill>
          <a:blip r:embed="rId1"/>
          <a:stretch/>
        </p:blipFill>
        <p:spPr>
          <a:xfrm>
            <a:off x="-22320" y="0"/>
            <a:ext cx="916632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9" descr="C:\Documents and Settings\Administrator\Рабочий стол\1. дни рождения  ЖКХ-1-19\3мб на сайт\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0" descr="C:\Documents and Settings\Administrator\Рабочий стол\1. дни рождения  ЖКХ-1-19\3мб на сайт\4.JPG"/>
          <p:cNvPicPr/>
          <p:nvPr/>
        </p:nvPicPr>
        <p:blipFill>
          <a:blip r:embed="rId1"/>
          <a:stretch/>
        </p:blipFill>
        <p:spPr>
          <a:xfrm>
            <a:off x="0" y="0"/>
            <a:ext cx="913464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8" descr="C:\Documents and Settings\Administrator\Рабочий стол\1. дни рождения  ЖКХ-1-19\3мб на сайт\5.JPG"/>
          <p:cNvPicPr/>
          <p:nvPr/>
        </p:nvPicPr>
        <p:blipFill>
          <a:blip r:embed="rId1"/>
          <a:stretch/>
        </p:blipFill>
        <p:spPr>
          <a:xfrm>
            <a:off x="0" y="0"/>
            <a:ext cx="911376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7" descr="C:\Documents and Settings\Administrator\Рабочий стол\1. дни рождения  ЖКХ-1-19\3мб на сайт\6.JPG"/>
          <p:cNvPicPr/>
          <p:nvPr/>
        </p:nvPicPr>
        <p:blipFill>
          <a:blip r:embed="rId1"/>
          <a:stretch/>
        </p:blipFill>
        <p:spPr>
          <a:xfrm>
            <a:off x="0" y="-66600"/>
            <a:ext cx="9144000" cy="69246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8" descr="C:\Documents and Settings\Administrator\Рабочий стол\1. дни рождения  ЖКХ-1-19\3мб на сайт\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1" descr="C:\Documents and Settings\Administrator\Рабочий стол\1. дни рождения  ЖКХ-1-19\3мб на сайт\8.JPG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9" descr="C:\Documents and Settings\Administrator\Рабочий стол\1. дни рождения  ЖКХ-1-19\3мб на сайт\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trpunkt_ord1</cp:lastModifiedBy>
  <dcterms:modified xsi:type="dcterms:W3CDTF">2020-07-20T08:18:23Z</dcterms:modified>
  <cp:revision>76</cp:revision>
  <dc:subject/>
  <dc:title>Дни рождения ЖКХ-1-19</dc:title>
</cp:coreProperties>
</file>