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77E-0AEF-4483-8AF0-00BE1258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789-CF12-4EB4-9BEF-FEC6C64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5A4-3C2F-46AD-8768-6F3B5CCC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2EB-2014-4979-85A5-80621AB5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125-F34A-4D2A-B148-1BAD980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C96-9ECA-4867-8A7C-148D828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F76-4128-4E28-9B3F-B0FC5181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D3F-D9AE-46FE-9EF9-0606C12F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D1B-303B-40B7-90B4-E3B5977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853-F3F1-447A-8090-1EFBC286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603-79AA-40F5-9EE2-337C51AF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842-1C18-40CB-BB88-1A5D1E2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600F-D3ED-4138-9BA5-8308DE4305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5157720"/>
            <a:ext cx="28800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i?id=570050893-32-72&amp;n=21"/>
          <p:cNvPicPr/>
          <p:nvPr/>
        </p:nvPicPr>
        <p:blipFill>
          <a:blip r:embed="rId1"/>
          <a:stretch/>
        </p:blipFill>
        <p:spPr>
          <a:xfrm>
            <a:off x="395280" y="263520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95280" y="33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«Центр развития ребёнка «Алёнушка» - детский сад №3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065480" y="4943520"/>
            <a:ext cx="4572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среда ДОУ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ДО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следовательской деятельности могут быть выбраны доступные и интересные детям старшего дошкольного возраста типы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ная деятель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для детей, сформулированное в вид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ую детскую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взаимодействия детей с воспитателем, друг с другом,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деятельности как найденный детьми способ решения пробл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дошкольников может бы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ткосрочные проекты(1 неделя- пол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срочные (полгода - несколько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5219640" y="4508640"/>
            <a:ext cx="2087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Содержимое 4" descr=""/>
          <p:cNvPicPr/>
          <p:nvPr/>
        </p:nvPicPr>
        <p:blipFill>
          <a:blip r:embed="rId1"/>
          <a:stretch/>
        </p:blipFill>
        <p:spPr>
          <a:xfrm>
            <a:off x="457200" y="1706400"/>
            <a:ext cx="8253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ых условиях развитие человека невозможно без построения системы формирования его здоровья. Выбор здоровьесберегающих педагогических технологий завис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ипа дошкольного учрежд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должительности пребывания в нем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граммы, по которой работают педаго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кретных условий ДО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компетентности педагог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ей здоровь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i?id=982326287-43-72&amp;n=21"/>
          <p:cNvPicPr/>
          <p:nvPr/>
        </p:nvPicPr>
        <p:blipFill>
          <a:blip r:embed="rId1"/>
          <a:stretch/>
        </p:blipFill>
        <p:spPr>
          <a:xfrm>
            <a:off x="5508720" y="5272200"/>
            <a:ext cx="1797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836640"/>
          <a:ext cx="8280360" cy="5116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3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 ежеднев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ремя НОД, 3-5 мин. По мере утомления детей со 2-й младше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по 3-5 мин. В зависимости от интенсивности нагрузки, может включаться в физкультминутки во время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зных формах физкультурно-оздоровительной работы, начиная с младш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24000" y="333360"/>
          <a:ext cx="8351640" cy="508968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дрящ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в группе, ежедне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мощью сухого обти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 как часть оздоровительных мероприятий со средн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аливающие мероприятия, дорожки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, ежедневно, начиная с младшего возраста. Во время НОД по физической куль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 спортивные игры (элементы спортивных иг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асть НОД по физической культуре, на прогулке, в группе (средней и малой степени подвижности),ежедневно, все возрастные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836640"/>
          <a:ext cx="8229600" cy="580716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куляцион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руппах компенсирующей направленности в режимных процессах и как часть НОД по 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Ninss</cp:lastModifiedBy>
  <dcterms:modified xsi:type="dcterms:W3CDTF">2020-07-20T18:03:33Z</dcterms:modified>
  <cp:revision>112</cp:revision>
  <dc:subject/>
  <dc:title>Слайд 1</dc:title>
</cp:coreProperties>
</file>