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9D8E-3671-4F3C-9536-FCB0638A3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DD22-F400-4141-8597-FD156C555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EEE6-B11E-4300-9C56-9BF2D0878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4B9-F563-4AC2-A20B-9081001B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969-8B3C-4930-B535-24DA2107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F6D-AC3F-44D9-A911-CA0E5D86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B8F-5D12-4097-B44F-01E367DB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4D6-974F-4946-A022-E16F3CA4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46F-5737-4981-AA66-BBC95E37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D95-0634-4126-BE00-98C54CE3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B22-7BCD-4E9F-A8B2-60E0513B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755-9083-4865-A2FE-6C74BC5A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8E9-CDEE-46E2-9D4F-E630B188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FAF-B8CC-4827-B6E9-7673498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884-0EFD-46E9-A6AA-F6E5E48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2FCC-5AE0-4BEF-A8F0-033B6FD2B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116000" y="1916280"/>
            <a:ext cx="6915240" cy="17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аптация детей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детскому са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763640" y="40464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«Центр развития ребёнка «Алёнушка» - детский сад №3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2193840" y="5230800"/>
            <a:ext cx="45720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Запаситесь терпением, и детский сад будет привычным и уютным миром для вашего малы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Documents and Settings\Людмила\Рабочий стол\Хорошо-плохо\малыш с игрушками.png"/>
          <p:cNvPicPr/>
          <p:nvPr/>
        </p:nvPicPr>
        <p:blipFill>
          <a:blip r:embed="rId1"/>
          <a:stretch/>
        </p:blipFill>
        <p:spPr>
          <a:xfrm>
            <a:off x="2571840" y="2714760"/>
            <a:ext cx="37148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900000" y="2421000"/>
            <a:ext cx="712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eorgia"/>
              </a:rPr>
              <a:t>Чтобы детский сад действительно оказался приятным и полезным местом для Вашего реб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eorgia"/>
              </a:rPr>
              <a:t>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хорошо подумать и понять, для чего именно он нужен Вам  и вашему ребен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:\САЙТ\Логотип\мальчик и девочка.png"/>
          <p:cNvPicPr/>
          <p:nvPr/>
        </p:nvPicPr>
        <p:blipFill>
          <a:blip r:embed="rId1"/>
          <a:stretch/>
        </p:blipFill>
        <p:spPr>
          <a:xfrm>
            <a:off x="5429160" y="4714920"/>
            <a:ext cx="2935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Зачем идти ребенку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в детский сад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детском саду ребенок имеет возможность общаться со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Ребенок приобретает навыки общения с взрослыми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детском саду ребенок знакомится с определенными правилами и учится соблюд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Ребенок получает возможность интеллектуального и физического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c607259162c"/>
          <p:cNvPicPr/>
          <p:nvPr/>
        </p:nvPicPr>
        <p:blipFill>
          <a:blip r:embed="rId1"/>
          <a:stretch/>
        </p:blipFill>
        <p:spPr>
          <a:xfrm>
            <a:off x="4429080" y="5791320"/>
            <a:ext cx="118116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F:\Адаптация\Новая папка\70054606_on_i_ona_v_kresle.gif"/>
          <p:cNvPicPr/>
          <p:nvPr/>
        </p:nvPicPr>
        <p:blipFill>
          <a:blip r:embed="rId2"/>
          <a:stretch/>
        </p:blipFill>
        <p:spPr>
          <a:xfrm>
            <a:off x="6929280" y="1500120"/>
            <a:ext cx="10065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Длительность и течение адаптации зависит от многих фактор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особенностей высшей нервной деятельности (темперамен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озраста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состояния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разницы в обстановке, в которой ребенок находился дома, и той, в которой находится в детском са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условий в дошкольном учреж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поведения и эмоционального состояния взрослых (тревожность, негативизм к детскому саду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к подготовить ребенка к посещению детског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Увеличьте круг общения вашего малыша с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Ребенок, который отправился в детский сад, должен обладать определенными культурно-гигиеническими навыками и навыками самообслуж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Позаботьтесь об укреплении здоровья малыша (прогулки, правильное питание, соблюдение режима, летний отдых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Беседы о детском сад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9640" y="1773360"/>
            <a:ext cx="8064720" cy="44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F:\Картинки\Анимация\Люди, дети\10.gif"/>
          <p:cNvPicPr/>
          <p:nvPr/>
        </p:nvPicPr>
        <p:blipFill>
          <a:blip r:embed="rId1"/>
          <a:stretch/>
        </p:blipFill>
        <p:spPr>
          <a:xfrm>
            <a:off x="6643800" y="5791320"/>
            <a:ext cx="1042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ачиная подготовку малыша к походу в детский сад, придерживайтесь режима близкого к режиму в дет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Примерный режим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ием детей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         до 8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Завтрак                                       8.30–9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Игры, занятия, прогулка      9.00–11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дготовка к обеду, обед     11.45–12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дготовка ко сну, сон         12.20–15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дъем, оздоровление, гигие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оцедуры, полдник              15.00–1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Активное бодрствование     16.00–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огулка. Игры                        17.00–18.00(19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Уход домой  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          17.30–19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F:\Картинки\Анимация\Люди, дети\5.gif"/>
          <p:cNvPicPr/>
          <p:nvPr/>
        </p:nvPicPr>
        <p:blipFill>
          <a:blip r:embed="rId1"/>
          <a:stretch/>
        </p:blipFill>
        <p:spPr>
          <a:xfrm>
            <a:off x="6858000" y="2928960"/>
            <a:ext cx="14889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Приблизьте домашний режим питания к детсадовскому. Переходите на новый режим питания постепенно, чтобы перемены были не слишком ощут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Помните, что в первый месяц посещения детского сада пребывание в группе  будет увеличиваться постепенно, на 2–3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7"/>
          <p:cNvPicPr/>
          <p:nvPr/>
        </p:nvPicPr>
        <p:blipFill>
          <a:blip r:embed="rId1"/>
          <a:stretch/>
        </p:blipFill>
        <p:spPr>
          <a:xfrm>
            <a:off x="6643800" y="1643040"/>
            <a:ext cx="1290600" cy="133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9"/>
          <p:cNvPicPr/>
          <p:nvPr/>
        </p:nvPicPr>
        <p:blipFill>
          <a:blip r:embed="rId2"/>
          <a:stretch/>
        </p:blipFill>
        <p:spPr>
          <a:xfrm>
            <a:off x="928800" y="5143680"/>
            <a:ext cx="114300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Заранее подготовьте  детский гардеро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Старайтесь общаться с воспитателями доброжелательно, избегайте конфликтов по пустя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Мамино сердце разрывается при звуках отчаянного плача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Уходя – уходи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Не совершайте ошибки и не делайте перерывов в посе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Подготовка родителей.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Поведение родителей в период адаптации детей к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беспечьте малышу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эмоциональную стабильность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ут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звольте малышу взять в детский сад эмоциональный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якорь (игруш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С ребенком обязательно надо попрощаться, но помните о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золотой се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И улыбнитесь друг дру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1285920" y="214200"/>
            <a:ext cx="65721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ИТИВНОГО РАССТАВА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6" descr="F:\Картинки\Анимация\Люди, дети\a3be690535b275d3a3afdf50a72ecd48.gif"/>
          <p:cNvPicPr/>
          <p:nvPr/>
        </p:nvPicPr>
        <p:blipFill>
          <a:blip r:embed="rId1"/>
          <a:stretch/>
        </p:blipFill>
        <p:spPr>
          <a:xfrm>
            <a:off x="6929280" y="50720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3:47:29Z</dcterms:created>
  <dc:creator>ЛЮДМИЛА</dc:creator>
  <dc:description/>
  <dc:language>en-US</dc:language>
  <cp:lastModifiedBy>Ninss</cp:lastModifiedBy>
  <dcterms:modified xsi:type="dcterms:W3CDTF">2020-07-20T18:12:46Z</dcterms:modified>
  <cp:revision>38</cp:revision>
  <dc:subject/>
  <dc:title>Адаптация детей  к детскому саду</dc:title>
</cp:coreProperties>
</file>