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D06-0D62-4BA7-900C-9B8B9893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F0B-2A9D-4734-807F-AF504F60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761-23D2-4200-A0FA-396AFEC8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200-C786-4A10-94E6-5E607F48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E3D8-8CBB-415B-95CF-37ED2F02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504-4402-44B4-9700-F5D56467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7F4D-A773-4980-971A-9AA8BE3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FC10-85A9-465E-A8B3-D91DAC16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98A4-7A25-4F7F-A592-6560B3E0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57CE-EFDA-491B-8056-65FF85E6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A1DA-8FAF-4878-9D0F-8C98041B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AEE-AE44-4F03-B193-09D48047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7588-8D1E-4716-AC0A-516BA692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DF0D-61AB-445B-98C5-C3DF9B96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955E-52A2-46C1-AD81-3C7063DD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D356-9BA4-4DB2-9F03-1D4945C4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E8A1-6F91-49A6-89F4-05AF3F7B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C7D-F188-477F-BAA5-EA5B846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680-C57F-4EEC-91D2-A9C0CC12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122-A965-425F-B009-12D59CCF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6AB-82F5-4264-AD95-0DE6AA69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28D-E621-4745-8F55-DC7F027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101-9DE2-49B2-835E-3898B350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BDA-1A78-4EF7-951C-0D9CA8F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BBE3-7230-41E0-813A-F9A166DA698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B639-E708-461F-ABC0-A50815FF29A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4076280"/>
            <a:ext cx="5154840" cy="12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Декупаж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195640" y="5300280"/>
            <a:ext cx="652464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ЛФЕТОЧНАЯ ТЕХ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ы учащихся 7 класса МЭ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от что у нас получилось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4" descr="IMG_2049"/>
          <p:cNvPicPr/>
          <p:nvPr/>
        </p:nvPicPr>
        <p:blipFill>
          <a:blip r:embed="rId1"/>
          <a:stretch/>
        </p:blipFill>
        <p:spPr>
          <a:xfrm>
            <a:off x="1666800" y="1600200"/>
            <a:ext cx="5810400" cy="4456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IMG_2049"/>
          <p:cNvPicPr/>
          <p:nvPr/>
        </p:nvPicPr>
        <p:blipFill>
          <a:blip r:embed="rId2"/>
          <a:stretch/>
        </p:blipFill>
        <p:spPr>
          <a:xfrm>
            <a:off x="1714680" y="1643040"/>
            <a:ext cx="581004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 работы Олеси Кузнецовой и Лены Трошиной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5" descr="IMG_2056"/>
          <p:cNvPicPr/>
          <p:nvPr/>
        </p:nvPicPr>
        <p:blipFill>
          <a:blip r:embed="rId1"/>
          <a:stretch/>
        </p:blipFill>
        <p:spPr>
          <a:xfrm>
            <a:off x="0" y="2060640"/>
            <a:ext cx="5464080" cy="409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MG_2055"/>
          <p:cNvPicPr/>
          <p:nvPr/>
        </p:nvPicPr>
        <p:blipFill>
          <a:blip r:embed="rId2"/>
          <a:stretch/>
        </p:blipFill>
        <p:spPr>
          <a:xfrm>
            <a:off x="5330880" y="1773360"/>
            <a:ext cx="381312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99"/>
                </a:solidFill>
                <a:latin typeface="Verdana"/>
              </a:rPr>
              <a:t>СПАСИБО ЗА ВНИМАНИЕ!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ЕКУПАЖ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алфеточная техни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купаж - это аппликация, но аппликация особенная – покрытая лаком, она выглядит, как роспис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в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upag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ранцузского происхождения, обозначает «вырезать». Следовательно , техника декупажа – техника украшения, декорирования, оформления с помощью вырезанных бумажных мотивов. Такая техника украшения была изобретена китайскими крестьянами 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еке. Именно они сделали тонкую красочную бумагу и стали украшать с её помощью различные предметы. В настоящее время самым популярным материалом стали трехслойные салфетки. Поэтому во многих языках декупаж получил название – салфеточная тех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4240" y="1999800"/>
            <a:ext cx="7777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учиться технике декупаж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поднести лицею подарок, сделанный своими ру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 этап раб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2385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чищаем или шкурим поверхность(это зависит от того с каким предметом вы работаете).Грунтуем поверхность с помощью акрилового художественного грунта. Суши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IMG_2005"/>
          <p:cNvPicPr/>
          <p:nvPr/>
        </p:nvPicPr>
        <p:blipFill>
          <a:blip r:embed="rId1"/>
          <a:stretch/>
        </p:blipFill>
        <p:spPr>
          <a:xfrm>
            <a:off x="5076720" y="1052640"/>
            <a:ext cx="3589560" cy="2692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648320" y="3903480"/>
            <a:ext cx="403848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2 этап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рыва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стинку акриловой крас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14" descr="IMG_2007"/>
          <p:cNvPicPr/>
          <p:nvPr/>
        </p:nvPicPr>
        <p:blipFill>
          <a:blip r:embed="rId1"/>
          <a:stretch/>
        </p:blipFill>
        <p:spPr>
          <a:xfrm>
            <a:off x="3635280" y="1700280"/>
            <a:ext cx="5508720" cy="41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 этап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полного высыхания наносим кракелюрный лак плоской кистью в одном направлен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4" descr="IMG_2007"/>
          <p:cNvPicPr/>
          <p:nvPr/>
        </p:nvPicPr>
        <p:blipFill>
          <a:blip r:embed="rId1"/>
          <a:stretch/>
        </p:blipFill>
        <p:spPr>
          <a:xfrm>
            <a:off x="3635280" y="1700280"/>
            <a:ext cx="5508720" cy="41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4 этап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 того как лак высох покрываем вторым слоем краски. Наблюдаем волшебный процесс появления трещ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 пока все высохнет или сушим фен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IMG_2033"/>
          <p:cNvPicPr/>
          <p:nvPr/>
        </p:nvPicPr>
        <p:blipFill>
          <a:blip r:embed="rId1"/>
          <a:stretch/>
        </p:blipFill>
        <p:spPr>
          <a:xfrm>
            <a:off x="5076720" y="1773360"/>
            <a:ext cx="334800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IMG_2033"/>
          <p:cNvPicPr/>
          <p:nvPr/>
        </p:nvPicPr>
        <p:blipFill>
          <a:blip r:embed="rId2"/>
          <a:stretch/>
        </p:blipFill>
        <p:spPr>
          <a:xfrm>
            <a:off x="5072040" y="178596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5 этап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резаем мотив из бумаги отделяем верхний слой. Приклеиваем с помощью клея П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6 этап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авляем бронзовый или золотой конту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3903480"/>
            <a:ext cx="403848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7 этап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рываем лак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лия</cp:lastModifiedBy>
  <dcterms:modified xsi:type="dcterms:W3CDTF">2020-07-19T23:25:51Z</dcterms:modified>
  <cp:revision>21</cp:revision>
  <dc:subject/>
  <dc:title>PowerPoint Presentation</dc:title>
</cp:coreProperties>
</file>