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7.wmf" ContentType="image/x-wmf"/>
  <Override PartName="/ppt/media/image4.wmf" ContentType="image/x-wmf"/>
  <Override PartName="/ppt/media/image12.jpeg" ContentType="image/jpeg"/>
  <Override PartName="/ppt/media/image28.wmf" ContentType="image/x-wmf"/>
  <Override PartName="/ppt/media/image18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3.wmf" ContentType="image/x-wmf"/>
  <Override PartName="/ppt/media/image1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30.gif" ContentType="image/gif"/>
  <Override PartName="/ppt/media/image14.jpeg" ContentType="image/jpeg"/>
  <Override PartName="/ppt/media/image23.jpeg" ContentType="image/jpeg"/>
  <Override PartName="/ppt/media/image19.jpeg" ContentType="image/jpeg"/>
  <Override PartName="/ppt/media/image29.wmf" ContentType="image/x-wmf"/>
  <Override PartName="/ppt/media/image7.jpeg" ContentType="image/jpeg"/>
  <Override PartName="/ppt/media/image31.wmf" ContentType="image/x-wmf"/>
  <Override PartName="/ppt/media/image1.wmf" ContentType="image/x-wmf"/>
  <Override PartName="/ppt/media/image5.wmf" ContentType="image/x-wmf"/>
  <Override PartName="/ppt/media/image16.jpeg" ContentType="image/jpeg"/>
  <Override PartName="/ppt/media/image17.jpeg" ContentType="image/jpeg"/>
  <Override PartName="/ppt/media/image20.jpeg" ContentType="image/jpeg"/>
  <Override PartName="/ppt/media/image2.wmf" ContentType="image/x-wmf"/>
  <Override PartName="/ppt/media/image21.jpeg" ContentType="image/jpeg"/>
  <Override PartName="/ppt/media/image22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3A6F-442C-4C66-940A-8856C8F5ED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031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3E32-C70F-4747-B60F-A8DF02D6463A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031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147F-80BC-4C12-954D-E7278AEBEE45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31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690C-1872-473E-A7C5-27275B38A7C3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31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8F40-09FC-4947-8225-A97CD89E157C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7037-F5CB-47FA-A810-23C30984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B4D-36BB-45FF-A55C-0A6DCFBB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D2D7-27A5-442E-B756-5D2A151A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303-9380-4FCA-88A8-3C739B91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B7B4-16C5-490B-AEC8-FE56F4C3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EF99-8894-4CA9-B532-FF6B5B01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EF94-507F-4BB3-8630-0F3FA0F3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4836-8275-4E94-A9C2-1F86B578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299E-CC6B-4672-9993-77F1FBCA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F063-4191-4454-83A7-DADB52C4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9097-C312-496B-B504-EB7B0159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4EA-3BCE-4B43-B7FE-4C996D6D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35E9-5DCE-4B71-BE90-26BA2D54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BD08-0675-4C02-A8CC-A1B925EC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4783-8D10-4547-AE3E-2F70861C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410E-9221-4B40-A7B0-A782A441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D3A0-5F85-4AA3-A192-76DF23E8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050-C767-4D4E-9610-8EA67C04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3B7-6113-4606-B0BD-29D0D5A2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7583-5A9A-4754-AA20-1C0DCD3D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C36-EA34-4907-A94B-F0B06E3B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47C-FD20-49B3-9BEC-59FAD3AC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6F02-09C9-4429-B4DE-B28939C2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019E-FB76-44FB-9938-818B5967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D891-28A7-4EB5-A17D-6CAD2970686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6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1027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029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030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031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E36E-C89A-4CA9-ABE5-6EE62E0B7F1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image" Target="../media/image26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14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" Target="slide22.xml"/><Relationship Id="rId13" Type="http://schemas.openxmlformats.org/officeDocument/2006/relationships/slide" Target="slide23.xml"/><Relationship Id="rId14" Type="http://schemas.openxmlformats.org/officeDocument/2006/relationships/slide" Target="slide24.xml"/><Relationship Id="rId15" Type="http://schemas.openxmlformats.org/officeDocument/2006/relationships/slide" Target="slide25.xml"/><Relationship Id="rId16" Type="http://schemas.openxmlformats.org/officeDocument/2006/relationships/slide" Target="slide32.xml"/><Relationship Id="rId17" Type="http://schemas.openxmlformats.org/officeDocument/2006/relationships/slide" Target="slide33.xml"/><Relationship Id="rId18" Type="http://schemas.openxmlformats.org/officeDocument/2006/relationships/slide" Target="slide32.xml"/><Relationship Id="rId19" Type="http://schemas.openxmlformats.org/officeDocument/2006/relationships/image" Target="../media/image2.wmf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43000" y="2819520"/>
            <a:ext cx="2266920" cy="22161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76640" y="22824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Добро Пожаловать!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     Welcom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Book Antiqua"/>
              </a:rPr>
              <a:t>Technical English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Book Antiqua"/>
              </a:rPr>
              <a:t>Технический перевод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нкурс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. На лучший перевод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а)научно –популярного текст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б) отрывка из публицистической литератур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в) отрывка из художественного произведени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.На коррекцию стилистических ошибо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. Лучший эксперт перевода единиц английской и американской систем мер в десятичную  систему измерен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. Перевод текста на слух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8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ек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. Интернационализмы и «ложные» друзья переводчи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. Что такое рекламные и фирменные материалы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. Перевод инструкций как неотъемлемый компонент использования бытовой, измерительной и другой техник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. Последовательный и синхронный переводы в дипломатической практике и в сфере деятельности международных организаций (ООН, ЮНЕСКО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. Русские и английские «Кулибины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Фрагменты наглядности открытого урока по техническому переводу в 9 классе на тему «Особенности перевода технических описаний»: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41623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потребление страдательного залог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спользование существительного в роли определ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хнология перевода «правила ряда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ор правильного значения интернационализм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508720" y="2421000"/>
            <a:ext cx="2603520" cy="152388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pic>
        <p:nvPicPr>
          <p:cNvPr id="143" name="Picture 6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859280" y="4724280"/>
            <a:ext cx="1068480" cy="129564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44" name="Picture 7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7885080" y="4508640"/>
            <a:ext cx="976320" cy="141444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pic>
        <p:nvPicPr>
          <p:cNvPr id="145" name="Picture 8" descr=""/>
          <p:cNvPicPr/>
          <p:nvPr/>
        </p:nvPicPr>
        <p:blipFill>
          <a:blip r:embed="rId4">
            <a:grayscl/>
            <a:lum contrast="-6000"/>
          </a:blip>
          <a:stretch/>
        </p:blipFill>
        <p:spPr>
          <a:xfrm>
            <a:off x="6156360" y="4221000"/>
            <a:ext cx="1511280" cy="89244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sp>
        <p:nvSpPr>
          <p:cNvPr id="146" name="AutoShape 9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549000"/>
            <a:ext cx="76899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Основные положения курса технического перевода   включают перевод информации по различным аспектам науки, техники, экономики, публицистики и т.д. (инструкции, рекламные проспекты, техническое описание приборов, механизмов и устройств)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6281640" y="2362320"/>
            <a:ext cx="1284480" cy="1714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009800" cy="987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3"/>
          <a:stretch/>
        </p:blipFill>
        <p:spPr>
          <a:xfrm>
            <a:off x="4859280" y="2421000"/>
            <a:ext cx="1089000" cy="1655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4"/>
          <a:stretch/>
        </p:blipFill>
        <p:spPr>
          <a:xfrm>
            <a:off x="3419640" y="2421000"/>
            <a:ext cx="1182600" cy="1584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"/>
          <p:cNvPicPr/>
          <p:nvPr/>
        </p:nvPicPr>
        <p:blipFill>
          <a:blip r:embed="rId5"/>
          <a:stretch/>
        </p:blipFill>
        <p:spPr>
          <a:xfrm>
            <a:off x="2124000" y="2421000"/>
            <a:ext cx="1079640" cy="1655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"/>
          <p:cNvPicPr/>
          <p:nvPr/>
        </p:nvPicPr>
        <p:blipFill>
          <a:blip r:embed="rId6"/>
          <a:stretch/>
        </p:blipFill>
        <p:spPr>
          <a:xfrm>
            <a:off x="826920" y="2421000"/>
            <a:ext cx="1100160" cy="1655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"/>
          <p:cNvPicPr/>
          <p:nvPr/>
        </p:nvPicPr>
        <p:blipFill>
          <a:blip r:embed="rId7"/>
          <a:stretch/>
        </p:blipFill>
        <p:spPr>
          <a:xfrm>
            <a:off x="971640" y="4221000"/>
            <a:ext cx="741240" cy="1074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"/>
          <p:cNvPicPr/>
          <p:nvPr/>
        </p:nvPicPr>
        <p:blipFill>
          <a:blip r:embed="rId8"/>
          <a:stretch/>
        </p:blipFill>
        <p:spPr>
          <a:xfrm>
            <a:off x="5580000" y="4292640"/>
            <a:ext cx="968400" cy="1407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7" descr=""/>
          <p:cNvPicPr/>
          <p:nvPr/>
        </p:nvPicPr>
        <p:blipFill>
          <a:blip r:embed="rId9"/>
          <a:stretch/>
        </p:blipFill>
        <p:spPr>
          <a:xfrm>
            <a:off x="6732720" y="4292640"/>
            <a:ext cx="855360" cy="1311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8" descr=""/>
          <p:cNvPicPr/>
          <p:nvPr/>
        </p:nvPicPr>
        <p:blipFill>
          <a:blip r:embed="rId10"/>
          <a:stretch/>
        </p:blipFill>
        <p:spPr>
          <a:xfrm>
            <a:off x="1332000" y="5229360"/>
            <a:ext cx="836640" cy="1187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9" descr=""/>
          <p:cNvPicPr/>
          <p:nvPr/>
        </p:nvPicPr>
        <p:blipFill>
          <a:blip r:embed="rId11"/>
          <a:stretch/>
        </p:blipFill>
        <p:spPr>
          <a:xfrm>
            <a:off x="2050920" y="4221000"/>
            <a:ext cx="814680" cy="115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1" descr=""/>
          <p:cNvPicPr/>
          <p:nvPr/>
        </p:nvPicPr>
        <p:blipFill>
          <a:blip r:embed="rId12"/>
          <a:stretch/>
        </p:blipFill>
        <p:spPr>
          <a:xfrm>
            <a:off x="5724360" y="5734080"/>
            <a:ext cx="667080" cy="687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2" descr=""/>
          <p:cNvPicPr/>
          <p:nvPr/>
        </p:nvPicPr>
        <p:blipFill>
          <a:blip r:embed="rId13"/>
          <a:stretch/>
        </p:blipFill>
        <p:spPr>
          <a:xfrm>
            <a:off x="6732720" y="5805360"/>
            <a:ext cx="614160" cy="720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3" descr=""/>
          <p:cNvPicPr/>
          <p:nvPr/>
        </p:nvPicPr>
        <p:blipFill>
          <a:blip r:embed="rId14"/>
          <a:stretch/>
        </p:blipFill>
        <p:spPr>
          <a:xfrm>
            <a:off x="7812000" y="2349360"/>
            <a:ext cx="951120" cy="18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4" descr=""/>
          <p:cNvPicPr/>
          <p:nvPr/>
        </p:nvPicPr>
        <p:blipFill>
          <a:blip r:embed="rId15"/>
          <a:stretch/>
        </p:blipFill>
        <p:spPr>
          <a:xfrm>
            <a:off x="7956720" y="4365720"/>
            <a:ext cx="790560" cy="1512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5" descr=""/>
          <p:cNvPicPr/>
          <p:nvPr/>
        </p:nvPicPr>
        <p:blipFill>
          <a:blip r:embed="rId16"/>
          <a:stretch/>
        </p:blipFill>
        <p:spPr>
          <a:xfrm>
            <a:off x="3635280" y="4292640"/>
            <a:ext cx="770040" cy="1743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6" descr=""/>
          <p:cNvPicPr/>
          <p:nvPr/>
        </p:nvPicPr>
        <p:blipFill>
          <a:blip r:embed="rId17"/>
          <a:stretch/>
        </p:blipFill>
        <p:spPr>
          <a:xfrm>
            <a:off x="4572000" y="4292640"/>
            <a:ext cx="831960" cy="1942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"/>
          <p:cNvPicPr/>
          <p:nvPr/>
        </p:nvPicPr>
        <p:blipFill>
          <a:blip r:embed="rId18"/>
          <a:stretch/>
        </p:blipFill>
        <p:spPr>
          <a:xfrm>
            <a:off x="2627280" y="5373720"/>
            <a:ext cx="703440" cy="11239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2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000"/>
                            </p:stCondLst>
                            <p:childTnLst>
                              <p:par>
                                <p:cTn id="4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9000"/>
                            </p:stCondLst>
                            <p:childTnLst>
                              <p:par>
                                <p:cTn id="4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50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1000"/>
                            </p:stCondLst>
                            <p:childTnLst>
                              <p:par>
                                <p:cTn id="4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1500"/>
                            </p:stCondLst>
                            <p:childTnLst>
                              <p:par>
                                <p:cTn id="4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0920" y="2362320"/>
            <a:ext cx="830412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5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лассификация по качеству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365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I.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лассификация по переводимому материал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365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II.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лассификация по видам перев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1009440" cy="9874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1042920" y="765000"/>
            <a:ext cx="69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900000" y="765000"/>
            <a:ext cx="6696360" cy="126972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</a:rPr>
              <a:t>Классификация перевода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AutoShape 1029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6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.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лассификация по качеству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5170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словный перевод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уквальный перевод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льный или авторизованный перевод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декватный перевод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Picture 4" descr="bd07215_"/>
          <p:cNvPicPr/>
          <p:nvPr/>
        </p:nvPicPr>
        <p:blipFill>
          <a:blip r:embed="rId1"/>
          <a:stretch/>
        </p:blipFill>
        <p:spPr>
          <a:xfrm>
            <a:off x="6156360" y="2852640"/>
            <a:ext cx="2627280" cy="210204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5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I.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лассификация по переводимому материал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Художественный перевод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ревод литературных произведе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тивный перевод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ревод, главным в котором является передача на другом языке всей полноты информации без её искаж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II.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лассификация по видам перевод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640" y="2362320"/>
            <a:ext cx="815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Устный перевод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) последовательный односторонний перевод на слу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) последовательный односторонний перевод с лис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) двухсторонний перевод бесед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г) синхронный перево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) выборочный консультативный перево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2. Письменный перевод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) полный письменный перево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) Реферативный перево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) перевод типа «экспресс- информации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г) аннотационный перево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мечание: Основным видом технического  перевода является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лный письменный перево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0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6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80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400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eys to Success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(ключи к успеху)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владеть переводом можно только на базе чтения, письма, аудирования и говорения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письменного перевода с русского на английский, надо уметь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исать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-английск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письменного перевода с английского на русский, надо уметь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читат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о-английск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устного перевода английской речи на русский язык, надо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меть воспринимать английскую речь на слу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устного перевода с русского на английский, надо уметь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говорить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-английс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AutoShape 1028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400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6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8000"/>
                            </p:stCondLst>
                            <p:childTnLst>
                              <p:par>
                                <p:cTn id="6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ебования к практическому владению навыками перевод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831708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Необходимо переводить не слова, а то, что они выражают. Например: «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tre Dame de Paris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» при дословном переводе звучит как «Наша дама из Парижа», тогда как это знаменитый «Собор Парижской богоматер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Вывод: нельзя изолированно переводить слова, фразы в отрыве от контекста, это 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</a:rPr>
              <a:t>дословный перевод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2.  То, что мы восприняли на английском языке, мы должны выразить по-русски, т.е. с помощью другой системы условных знаков, имеющей свои собственные законы, отличные от законов языка оригинала. (Оригинал – материал, подлежащий переводу. Всякий перевод должен быть адекватен оригиналу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3. В зависимости от вида перевода нужно соблюдать стиль (качество изложения) оригинал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4. Технический переводчик должен знать: названия основных деталей машин и механизмов, процессов обработки материалов, основных химических реакций, основных радиотехнических и электротехнических устройств и приборов, номенклатур, мер и вес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5.Неумение отвлечься от конкретных форм слов и неумение пользоваться контекстом для уяснения их смысла – одна из типичных причин ошибок при перевод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3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3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3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3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3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3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971640" y="2349360"/>
            <a:ext cx="763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66"/>
              </a:buClr>
              <a:buFont typeface="Times New Roman"/>
              <a:buAutoNum type="arabicPeriod"/>
              <a:tabLst>
                <a:tab algn="l" pos="449280"/>
                <a:tab algn="l" pos="3313080"/>
                <a:tab algn="l" pos="3675240"/>
                <a:tab algn="l" pos="4313160"/>
                <a:tab algn="l" pos="4848120"/>
                <a:tab algn="l" pos="5021280"/>
                <a:tab algn="l" pos="5106960"/>
                <a:tab algn="l" pos="5554800"/>
                <a:tab algn="l" pos="5641920"/>
                <a:tab algn="l" pos="6004080"/>
                <a:tab algn="l" pos="6900840"/>
                <a:tab algn="l" pos="73501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Some facts from the history of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3" action="ppaction://hlinksldjump"/>
              </a:rPr>
              <a:t>Technical English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/>
              <a:tabLst>
                <a:tab algn="l" pos="449280"/>
                <a:tab algn="l" pos="3313080"/>
                <a:tab algn="l" pos="3675240"/>
                <a:tab algn="l" pos="4313160"/>
                <a:tab algn="l" pos="4848120"/>
                <a:tab algn="l" pos="5021280"/>
                <a:tab algn="l" pos="5106960"/>
                <a:tab algn="l" pos="5554800"/>
                <a:tab algn="l" pos="5641920"/>
                <a:tab algn="l" pos="6004080"/>
                <a:tab algn="l" pos="6900840"/>
                <a:tab algn="l" pos="73501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5" action="ppaction://hlinksldjump"/>
              </a:rPr>
              <a:t>Some Hints To Remember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/>
              <a:tabLst>
                <a:tab algn="l" pos="449280"/>
                <a:tab algn="l" pos="3313080"/>
                <a:tab algn="l" pos="3675240"/>
                <a:tab algn="l" pos="4313160"/>
                <a:tab algn="l" pos="4848120"/>
                <a:tab algn="l" pos="5021280"/>
                <a:tab algn="l" pos="5106960"/>
                <a:tab algn="l" pos="5554800"/>
                <a:tab algn="l" pos="5641920"/>
                <a:tab algn="l" pos="6004080"/>
                <a:tab algn="l" pos="6900840"/>
                <a:tab algn="l" pos="73501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6" action="ppaction://hlinksldjump"/>
              </a:rPr>
              <a:t>Методические приемы при изучении курса «Технического перевода»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/>
              <a:tabLst>
                <a:tab algn="l" pos="449280"/>
                <a:tab algn="l" pos="3313080"/>
                <a:tab algn="l" pos="3675240"/>
                <a:tab algn="l" pos="4313160"/>
                <a:tab algn="l" pos="4848120"/>
                <a:tab algn="l" pos="5021280"/>
                <a:tab algn="l" pos="5106960"/>
                <a:tab algn="l" pos="5554800"/>
                <a:tab algn="l" pos="5641920"/>
                <a:tab algn="l" pos="6004080"/>
                <a:tab algn="l" pos="6900840"/>
                <a:tab algn="l" pos="73501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7" action="ppaction://hlinksldjump"/>
              </a:rPr>
              <a:t>Классификация перевода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/>
              <a:tabLst>
                <a:tab algn="l" pos="449280"/>
                <a:tab algn="l" pos="3313080"/>
                <a:tab algn="l" pos="3675240"/>
                <a:tab algn="l" pos="4313160"/>
                <a:tab algn="l" pos="4848120"/>
                <a:tab algn="l" pos="5021280"/>
                <a:tab algn="l" pos="5106960"/>
                <a:tab algn="l" pos="5554800"/>
                <a:tab algn="l" pos="5641920"/>
                <a:tab algn="l" pos="6004080"/>
                <a:tab algn="l" pos="6900840"/>
                <a:tab algn="l" pos="73501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8" action="ppaction://hlinksldjump"/>
              </a:rPr>
              <a:t>Ключи к успеху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/>
              <a:tabLst>
                <a:tab algn="l" pos="449280"/>
                <a:tab algn="l" pos="3313080"/>
                <a:tab algn="l" pos="3675240"/>
                <a:tab algn="l" pos="4313160"/>
                <a:tab algn="l" pos="4848120"/>
                <a:tab algn="l" pos="5021280"/>
                <a:tab algn="l" pos="5106960"/>
                <a:tab algn="l" pos="5554800"/>
                <a:tab algn="l" pos="5641920"/>
                <a:tab algn="l" pos="6004080"/>
                <a:tab algn="l" pos="6900840"/>
                <a:tab algn="l" pos="73501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9" action="ppaction://hlinksldjump"/>
              </a:rPr>
              <a:t>Требования к практическому владению навыками перевода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/>
              <a:tabLst>
                <a:tab algn="l" pos="449280"/>
                <a:tab algn="l" pos="3313080"/>
                <a:tab algn="l" pos="3675240"/>
                <a:tab algn="l" pos="4313160"/>
                <a:tab algn="l" pos="4848120"/>
                <a:tab algn="l" pos="5021280"/>
                <a:tab algn="l" pos="5106960"/>
                <a:tab algn="l" pos="5554800"/>
                <a:tab algn="l" pos="5641920"/>
                <a:tab algn="l" pos="6004080"/>
                <a:tab algn="l" pos="6900840"/>
                <a:tab algn="l" pos="73501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10" action="ppaction://hlinksldjump"/>
              </a:rPr>
              <a:t>Это интересн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/>
              <a:tabLst>
                <a:tab algn="l" pos="449280"/>
                <a:tab algn="l" pos="3313080"/>
                <a:tab algn="l" pos="3675240"/>
                <a:tab algn="l" pos="4313160"/>
                <a:tab algn="l" pos="4848120"/>
                <a:tab algn="l" pos="5021280"/>
                <a:tab algn="l" pos="5106960"/>
                <a:tab algn="l" pos="5554800"/>
                <a:tab algn="l" pos="5641920"/>
                <a:tab algn="l" pos="6004080"/>
                <a:tab algn="l" pos="6900840"/>
                <a:tab algn="l" pos="73501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11" action="ppaction://hlinksldjump"/>
              </a:rPr>
              <a:t>Полисемия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/>
              <a:tabLst>
                <a:tab algn="l" pos="449280"/>
                <a:tab algn="l" pos="3313080"/>
                <a:tab algn="l" pos="3675240"/>
                <a:tab algn="l" pos="4313160"/>
                <a:tab algn="l" pos="4848120"/>
                <a:tab algn="l" pos="5021280"/>
                <a:tab algn="l" pos="5106960"/>
                <a:tab algn="l" pos="5554800"/>
                <a:tab algn="l" pos="5641920"/>
                <a:tab algn="l" pos="6004080"/>
                <a:tab algn="l" pos="6900840"/>
                <a:tab algn="l" pos="73501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12" action="ppaction://hlinksldjump"/>
              </a:rPr>
              <a:t>Перевод «игры- слов»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/>
              <a:tabLst>
                <a:tab algn="l" pos="449280"/>
                <a:tab algn="l" pos="3313080"/>
                <a:tab algn="l" pos="3675240"/>
                <a:tab algn="l" pos="4313160"/>
                <a:tab algn="l" pos="4848120"/>
                <a:tab algn="l" pos="5021280"/>
                <a:tab algn="l" pos="5106960"/>
                <a:tab algn="l" pos="5554800"/>
                <a:tab algn="l" pos="5641920"/>
                <a:tab algn="l" pos="6004080"/>
                <a:tab algn="l" pos="6900840"/>
                <a:tab algn="l" pos="73501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13" action="ppaction://hlinksldjump"/>
              </a:rPr>
              <a:t>Перевод интернационализмов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/>
              <a:tabLst>
                <a:tab algn="l" pos="449280"/>
                <a:tab algn="l" pos="3313080"/>
                <a:tab algn="l" pos="3675240"/>
                <a:tab algn="l" pos="4313160"/>
                <a:tab algn="l" pos="4848120"/>
                <a:tab algn="l" pos="5021280"/>
                <a:tab algn="l" pos="5106960"/>
                <a:tab algn="l" pos="5554800"/>
                <a:tab algn="l" pos="5641920"/>
                <a:tab algn="l" pos="6004080"/>
                <a:tab algn="l" pos="6900840"/>
                <a:tab algn="l" pos="73501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14" action="ppaction://hlinksldjump"/>
              </a:rPr>
              <a:t>Перевод традиционных сочетаний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/>
              <a:tabLst>
                <a:tab algn="l" pos="449280"/>
                <a:tab algn="l" pos="3313080"/>
                <a:tab algn="l" pos="3675240"/>
                <a:tab algn="l" pos="4313160"/>
                <a:tab algn="l" pos="4848120"/>
                <a:tab algn="l" pos="5021280"/>
                <a:tab algn="l" pos="5106960"/>
                <a:tab algn="l" pos="5554800"/>
                <a:tab algn="l" pos="5641920"/>
                <a:tab algn="l" pos="6004080"/>
                <a:tab algn="l" pos="6900840"/>
                <a:tab algn="l" pos="73501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15" action="ppaction://hlinksldjump"/>
              </a:rPr>
              <a:t>Способы словообразования  в английском языке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/>
              <a:tabLst>
                <a:tab algn="l" pos="449280"/>
                <a:tab algn="l" pos="3313080"/>
                <a:tab algn="l" pos="3675240"/>
                <a:tab algn="l" pos="4313160"/>
                <a:tab algn="l" pos="4848120"/>
                <a:tab algn="l" pos="5021280"/>
                <a:tab algn="l" pos="5106960"/>
                <a:tab algn="l" pos="5554800"/>
                <a:tab algn="l" pos="5641920"/>
                <a:tab algn="l" pos="6004080"/>
                <a:tab algn="l" pos="6900840"/>
                <a:tab algn="l" pos="73501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16" action="ppaction://hlinksldjump"/>
              </a:rPr>
              <a:t>Сертификат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/>
              <a:tabLst>
                <a:tab algn="l" pos="449280"/>
                <a:tab algn="l" pos="3313080"/>
                <a:tab algn="l" pos="3675240"/>
                <a:tab algn="l" pos="4313160"/>
                <a:tab algn="l" pos="4848120"/>
                <a:tab algn="l" pos="5021280"/>
                <a:tab algn="l" pos="5106960"/>
                <a:tab algn="l" pos="5554800"/>
                <a:tab algn="l" pos="5641920"/>
                <a:tab algn="l" pos="6004080"/>
                <a:tab algn="l" pos="6900840"/>
                <a:tab algn="l" pos="73501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17" action="ppaction://hlinksldjump"/>
              </a:rPr>
              <a:t>Типы проектов по техническому переводу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/>
              <a:tabLst>
                <a:tab algn="l" pos="449280"/>
                <a:tab algn="l" pos="3313080"/>
                <a:tab algn="l" pos="3675240"/>
                <a:tab algn="l" pos="4313160"/>
                <a:tab algn="l" pos="4848120"/>
                <a:tab algn="l" pos="5021280"/>
                <a:tab algn="l" pos="5106960"/>
                <a:tab algn="l" pos="5554800"/>
                <a:tab algn="l" pos="5641920"/>
                <a:tab algn="l" pos="6004080"/>
                <a:tab algn="l" pos="6900840"/>
                <a:tab algn="l" pos="73501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18" action="ppaction://hlinksldjump"/>
              </a:rPr>
              <a:t>Заключени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49280"/>
                <a:tab algn="l" pos="3313080"/>
                <a:tab algn="l" pos="3675240"/>
                <a:tab algn="l" pos="4313160"/>
                <a:tab algn="l" pos="4848120"/>
                <a:tab algn="l" pos="5021280"/>
                <a:tab algn="l" pos="5106960"/>
                <a:tab algn="l" pos="5554800"/>
                <a:tab algn="l" pos="5641920"/>
                <a:tab algn="l" pos="6004080"/>
                <a:tab algn="l" pos="6900840"/>
                <a:tab algn="l" pos="73501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Char char="•"/>
              <a:tabLst>
                <a:tab algn="l" pos="449280"/>
                <a:tab algn="l" pos="3313080"/>
                <a:tab algn="l" pos="3675240"/>
                <a:tab algn="l" pos="4313160"/>
                <a:tab algn="l" pos="4848120"/>
                <a:tab algn="l" pos="5021280"/>
                <a:tab algn="l" pos="5106960"/>
                <a:tab algn="l" pos="5554800"/>
                <a:tab algn="l" pos="5641920"/>
                <a:tab algn="l" pos="6004080"/>
                <a:tab algn="l" pos="6900840"/>
                <a:tab algn="l" pos="73501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Picture 5" descr="j0280530"/>
          <p:cNvPicPr/>
          <p:nvPr/>
        </p:nvPicPr>
        <p:blipFill>
          <a:blip r:embed="rId19"/>
          <a:stretch/>
        </p:blipFill>
        <p:spPr>
          <a:xfrm>
            <a:off x="6659640" y="333360"/>
            <a:ext cx="2016000" cy="18050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404640"/>
            <a:ext cx="80010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Arial"/>
              </a:rPr>
              <a:t>Это интересно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656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словицы, афоризмы, лозунги – это самодовлеющие предложения имеющие вполне определённый смысл независимо от контекста. В английском и русском языках есть некоторые пословицы и поговорки, которые не только имеют одинаковый смысл, но и выражают этот смысл одинаковыми понятиями. В этом случае возможен дословный перевод т.к. совпадают выразительные средства двух языков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90680" indent="-61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Much ado about nothing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Много шума из ничег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90680" indent="-61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To look for a needle in a haystack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Искать иголку в стоге се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днако гораздо чаще одно и тоже содержание выражается в этих двух языках совершенно разными понятиями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обходимо подобрать эквивалентную русскую пословицу, где используются совсем другие слова. Например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Every bird likes its own nest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-Всяк кулик своё болото хвали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Picture 2" descr="j0281718"/>
          <p:cNvPicPr/>
          <p:nvPr/>
        </p:nvPicPr>
        <p:blipFill>
          <a:blip r:embed="rId1"/>
          <a:stretch/>
        </p:blipFill>
        <p:spPr>
          <a:xfrm>
            <a:off x="7740720" y="189000"/>
            <a:ext cx="955440" cy="20160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3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40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80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2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1143000" y="7650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олисемия – случай, когда слово имеет более одного значения. </a:t>
            </a:r>
            <a:br>
              <a:rPr sz="2400"/>
            </a:b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Наиболее распространенные слова, имеющие различные значения в языке технической литературы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755640" y="2362320"/>
            <a:ext cx="40323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orse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 -   Лошад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ig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     -   Свинь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og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   -   Лягушк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nake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-   Зме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ly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     -   Мух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oose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-    Гус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nkey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-  Обезьян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ug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    -  Жук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Jacket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-  Куртк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4427640" y="2349360"/>
            <a:ext cx="471636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м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ванк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стовин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тловин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ховик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тюг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ба (для забивки свай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б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нка цилиндр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0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2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4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7000"/>
                            </p:stCondLst>
                            <p:childTnLst>
                              <p:par>
                                <p:cTn id="726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8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9500"/>
                            </p:stCondLst>
                            <p:childTnLst>
                              <p:par>
                                <p:cTn id="730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2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4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4500"/>
                            </p:stCondLst>
                            <p:childTnLst>
                              <p:par>
                                <p:cTn id="738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0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2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9500"/>
                            </p:stCondLst>
                            <p:childTnLst>
                              <p:par>
                                <p:cTn id="746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8" dur="2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0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2" dur="20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6500"/>
                            </p:stCondLst>
                            <p:childTnLst>
                              <p:par>
                                <p:cTn id="7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8500"/>
                            </p:stCondLst>
                            <p:childTnLst>
                              <p:par>
                                <p:cTn id="7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0500"/>
                            </p:stCondLst>
                            <p:childTnLst>
                              <p:par>
                                <p:cTn id="7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32500"/>
                            </p:stCondLst>
                            <p:childTnLst>
                              <p:par>
                                <p:cTn id="7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4500"/>
                            </p:stCondLst>
                            <p:childTnLst>
                              <p:par>
                                <p:cTn id="7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36500"/>
                            </p:stCondLst>
                            <p:childTnLst>
                              <p:par>
                                <p:cTn id="7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38500"/>
                            </p:stCondLst>
                            <p:childTnLst>
                              <p:par>
                                <p:cTn id="7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40500"/>
                            </p:stCondLst>
                            <p:childTnLst>
                              <p:par>
                                <p:cTn id="8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вод «игры слов»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280" y="234900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ак называемая «игра слов» связана с их многозначностью. Суть её в том, что говорящий подразумевает одно, а слушающий воспринимает его в другом значен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пример: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o make fac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имасничать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o make fac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изготавливать циферблаты час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 переводе необходимо попробовать найти в языке перевода слово, которое бы тоже «играло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сли этого сделать нельзя, то в скобках нужно написать: (непереводимая игра слов, и объяснить суть «игры»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0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3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3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9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3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3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3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вод интернационализмов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6756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320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Интернационализмам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называются слова, которые встречаются в нескольких языках приблизительно в одинаковой звуковой и графической форме и имеют приблизительно одинаковое значени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320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аще всего это термины, заимствованные английским и русским языками из латинского или греческого, либо это слова, проникшие в другие языки из английского и русского. Понятия, выраженные интернациональными словами английского и русского языков, многозначны в «родном» языке и однозначны в языке, куда они попали позж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32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Например: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в русском языке слово «спутник» может означать и случайного попутчика и спутника жизни (супруга, супругу), и вращающийся вокруг земли космический аппарат. В английском языке слово «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utnik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» - только космический аппара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320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3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500"/>
                            </p:stCondLst>
                            <p:childTnLst>
                              <p:par>
                                <p:cTn id="85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3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3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ревод традиционных сочетаний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49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5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В каждом языке существует круг обычных, установившихся, традиционных словосочетаний, не совпадающих с кругом сочетаний в другом языке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455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Например: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455760" indent="33012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1" i="1" lang="en-US" sz="2200" spc="-1" strike="noStrike">
                <a:solidFill>
                  <a:srgbClr val="003366"/>
                </a:solidFill>
                <a:latin typeface="Arial"/>
              </a:rPr>
              <a:t>salt pen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» - нельзя перевести дословно как «солёное перо», т.к. это английская морская идиома. При переводе такого рода сочетания надо заменить столь же принятыми сочетаниями другого языка. В данном случае это «писатель-маринист» , т.е. автор, пишущий о море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455760" indent="33012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1" i="1" lang="en-US" sz="2200" spc="-1" strike="noStrike">
                <a:solidFill>
                  <a:srgbClr val="003366"/>
                </a:solidFill>
                <a:latin typeface="Arial"/>
              </a:rPr>
              <a:t>port of many ships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» -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нельзя перевести дословно как «порт многих кораблей», а переводится как «морское дно». При этом следует иметь ввиду, что основное из сочетающихся слов должно своё значение сохранить, а второе зачастую приходится переводить словом, имеющим другое логическое значение, но выполняющим ту же функцию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0"/>
                            </p:stCondLst>
                            <p:childTnLst>
                              <p:par>
                                <p:cTn id="8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3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8000"/>
                            </p:stCondLst>
                            <p:childTnLst>
                              <p:par>
                                <p:cTn id="8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3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3500"/>
                            </p:stCondLst>
                            <p:childTnLst>
                              <p:par>
                                <p:cTn id="881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3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66"/>
                </a:solidFill>
                <a:latin typeface="Arial"/>
              </a:rPr>
              <a:t>Способы словообразования  в английском языке.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2590560"/>
            <a:ext cx="5040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английском языке используются те же три способа словообразования, как и в русском языке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ффиксация, конверсия и словосложени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днако каждый из этих способов имеет свои особенности, которые должны быть известны переводчику, также он должен хорошо знать значения английских суффиксов и префиксов, придающих словам новые значе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Picture 14" descr="j0089078"/>
          <p:cNvPicPr/>
          <p:nvPr/>
        </p:nvPicPr>
        <p:blipFill>
          <a:blip r:embed="rId1"/>
          <a:stretch/>
        </p:blipFill>
        <p:spPr>
          <a:xfrm>
            <a:off x="6732720" y="2708280"/>
            <a:ext cx="1914480" cy="252108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15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3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500"/>
                            </p:stCondLst>
                            <p:childTnLst>
                              <p:par>
                                <p:cTn id="9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3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9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3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66"/>
                </a:solidFill>
                <a:latin typeface="Arial"/>
              </a:rPr>
              <a:t>Способы словообразования  в английском языке.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Аффикс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образование новых слов при помощи префиксов и суффикс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ефикс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приставки. Они стоят в начале слова и изменяют его знач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3" name="Picture 5" descr="wav"/>
          <p:cNvPicPr/>
          <p:nvPr/>
        </p:nvPicPr>
        <p:blipFill>
          <a:blip r:embed="rId1"/>
          <a:stretch/>
        </p:blipFill>
        <p:spPr>
          <a:xfrm>
            <a:off x="2916360" y="3645000"/>
            <a:ext cx="4174920" cy="61272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4500"/>
                            </p:stCondLst>
                            <p:childTnLst>
                              <p:par>
                                <p:cTn id="92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66"/>
                </a:solidFill>
                <a:latin typeface="Arial"/>
              </a:rPr>
              <a:t>Способы словообразования  в английском языке.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иболее важные для перевода суффикс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уффикс –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er (-or)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тот суффикс образует существительные от глаголов. Такие существительные – действующее лицо, или механизм, производящий действие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пример: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struct +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= instruc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design +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= desig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reflect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+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r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flec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r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уффикс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able (-ible)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 помощи этого суффикса образуются имена прилагательные почти от любого глагола. Этот суффикс этот произошёл от слова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le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 в определённой степени сохраняет своё первоначальное значени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пример: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fort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+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ble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= :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for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bl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000"/>
                            </p:stCondLst>
                            <p:childTnLst>
                              <p:par>
                                <p:cTn id="93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4500"/>
                            </p:stCondLst>
                            <p:childTnLst>
                              <p:par>
                                <p:cTn id="94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7000"/>
                            </p:stCondLst>
                            <p:childTnLst>
                              <p:par>
                                <p:cTn id="94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3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3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3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2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95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0500"/>
                            </p:stCondLst>
                            <p:childTnLst>
                              <p:par>
                                <p:cTn id="9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2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66"/>
                </a:solidFill>
                <a:latin typeface="Arial"/>
              </a:rPr>
              <a:t>Способы словообразования  в английском языке.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иболее важные для перевода - суффикс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9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уффикс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–ry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9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 помощи этого суффикса образуются слова, обозначающие совокупность предмет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66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Например: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766800" indent="-4176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 rocket –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ракета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766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rocket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ry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– ракетная техника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766800" indent="-4176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 machine –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машина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766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machine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ry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– станок (механизмы)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0" name="Picture 4" descr="j0215086"/>
          <p:cNvPicPr/>
          <p:nvPr/>
        </p:nvPicPr>
        <p:blipFill>
          <a:blip r:embed="rId1"/>
          <a:stretch/>
        </p:blipFill>
        <p:spPr>
          <a:xfrm>
            <a:off x="7020000" y="3933720"/>
            <a:ext cx="1660320" cy="260028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5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000"/>
                            </p:stCondLst>
                            <p:childTnLst>
                              <p:par>
                                <p:cTn id="9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9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9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2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2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3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66"/>
                </a:solidFill>
                <a:latin typeface="Arial"/>
              </a:rPr>
              <a:t>Способы словообразования  в английском языке.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нверс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версия представляет собой один из способов образования новых слов путём изменения части речи без изменения написания слов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2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английском языке наиболее распространённым является образование глаголов от соответствующих существительны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2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2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doctor - to doctor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ремонтировать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2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motor - to motor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оснащать мотор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2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ter  - to water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поливат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2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ir – to air -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ветриват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2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room - to room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проживать (снимать комнату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6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me facts from the history of                    Technical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ведён в программу обучения с 1964 года на протяжении сорока лет были подготовлены специалисты, работающие техническими переводчиками на нефтяных и газовых месторождениях России, Казахстана, Алжира, а также на судостроительных и судоремонтных предприятиях стран СН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Цель курс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тех. перевода – дать необходимые знания и навыки перевода специальной технической литературы, научно-популярной литературы и спецкурса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Перевод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– пятый вид языковой деятельности, необходимый для обеспечения возможности общения между людьми, говорящими на разных языка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ехнический перевод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– это перевод, используемый для обмена специальной научно-технической информацией между людьми, говорящими на разных языка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мение пользоваться рабочими источниками информации – самое главное в специальности технического переводчи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115920"/>
            <a:ext cx="1009800" cy="9874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2">
            <a:hlinkClick r:id="rId2" action="ppaction://hlinksldjump"/>
          </p:cNvPr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66"/>
                </a:solidFill>
                <a:latin typeface="Arial"/>
              </a:rPr>
              <a:t>Способы словообразования  в английском языке.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000" y="2362320"/>
            <a:ext cx="8459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ловосложени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77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Arial"/>
              </a:rPr>
              <a:t>Соединение двух слов в одно называется словосложением. Новообразованное слово пишется слитно или через дефис.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lvl="1" marL="277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66"/>
                </a:solidFill>
                <a:latin typeface="Arial"/>
              </a:rPr>
              <a:t>Например:</a:t>
            </a:r>
            <a:r>
              <a:rPr b="0" lang="ru-RU" sz="21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lvl="1" marL="277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3366"/>
                </a:solidFill>
                <a:latin typeface="Arial"/>
              </a:rPr>
              <a:t>radioactivity -</a:t>
            </a:r>
            <a:r>
              <a:rPr b="0" lang="ru-RU" sz="2100" spc="-1" strike="noStrike">
                <a:solidFill>
                  <a:srgbClr val="003366"/>
                </a:solidFill>
                <a:latin typeface="Arial"/>
              </a:rPr>
              <a:t>радиоактивность</a:t>
            </a: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2100" spc="-1" strike="noStrike">
                <a:solidFill>
                  <a:srgbClr val="003366"/>
                </a:solidFill>
                <a:latin typeface="Arial"/>
              </a:rPr>
              <a:t>flame-proof</a:t>
            </a:r>
            <a:r>
              <a:rPr b="1" i="1" lang="ru-RU" sz="21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3366"/>
                </a:solidFill>
                <a:latin typeface="Arial"/>
              </a:rPr>
              <a:t>– огнеупорный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lvl="1" marL="277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Arial"/>
              </a:rPr>
              <a:t>При словосложении может иметь место агглютинация, т.е. соединение частей слов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lvl="1" marL="277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Arial"/>
              </a:rPr>
              <a:t>Особенно распространён способ образования терминов по начальным буквам слов, поясняющих этот термин.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lvl="1" marL="277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66"/>
                </a:solidFill>
                <a:latin typeface="Arial"/>
              </a:rPr>
              <a:t>Например: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lvl="1" marL="277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3366"/>
                </a:solidFill>
                <a:latin typeface="Arial"/>
              </a:rPr>
              <a:t>radar</a:t>
            </a: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100" spc="-1" strike="noStrike">
                <a:solidFill>
                  <a:srgbClr val="003366"/>
                </a:solidFill>
                <a:latin typeface="Arial"/>
              </a:rPr>
              <a:t>радар, </a:t>
            </a:r>
            <a:r>
              <a:rPr b="1" i="1" lang="en-US" sz="2100" spc="-1" strike="noStrike">
                <a:solidFill>
                  <a:srgbClr val="003366"/>
                </a:solidFill>
                <a:latin typeface="Arial"/>
              </a:rPr>
              <a:t>laser</a:t>
            </a: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ru-RU" sz="2100" spc="-1" strike="noStrike">
                <a:solidFill>
                  <a:srgbClr val="003366"/>
                </a:solidFill>
                <a:latin typeface="Arial"/>
              </a:rPr>
              <a:t>лазер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lvl="1" marL="2779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AutoShape 1028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0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3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9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2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3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43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49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20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66"/>
                </a:solidFill>
                <a:latin typeface="Arial"/>
              </a:rPr>
              <a:t>Способы словообразования  в английском языке.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0920" y="2361960"/>
            <a:ext cx="82818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собенности написания чисе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сновное отличие в написании чисел в английском и русском языках заключается в использовании точки и запятой. В английском языке точка отделяет десятые доли от целых чисел в десятичных дробях, т.е. играет ту же роль, которую в русском языке играет запята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целых числах цифры группируются по три справа, а в десятичных дробях по три слева после запято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сли число представляет собой номер патента, то в переводе все цифры этого числа пишутся слитно, без разряд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пример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Patent numb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4,175,891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переводе: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атент № 4175891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очка в десятичных дробях может стоять как  посередине, так  и вверху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пример: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.5;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·5;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2’5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.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переводе –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,5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оль целых может отсутствовать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пример:.5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означает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0.5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6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8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2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9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2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9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2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0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2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1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2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2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1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611280" y="260280"/>
            <a:ext cx="8304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В работе над навыками перевода, т.е. передачей средствами одного языка того, что выражено средствами другого языка, рекомендуется руководствоваться строчками поэта Леонида Мартынова  из стихотворения </a:t>
            </a:r>
            <a:r>
              <a:rPr b="1" i="1" lang="ru-RU" sz="2000" spc="-1" strike="noStrike">
                <a:solidFill>
                  <a:srgbClr val="006666"/>
                </a:solidFill>
                <a:latin typeface="Arial"/>
              </a:rPr>
              <a:t>«Проблема перевода»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2484360" y="2276640"/>
            <a:ext cx="482436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«… не кибернетической машиной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А мною это переведено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Что в текст чужой свои вложил я ноты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 чужим свои прибавил я грехи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 в результате вдумчивой работы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Я всё ж модернизировал стихи»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«Я не могу дословно и буквально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ак попугай вам вторить какаду!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усть созданное вами гениально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о-своему я всё переведу»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«Любой из нас имеет основанье добавить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еспристрастие храня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 чужую скорбь своё негодованье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 чужое тленье своего огня»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«А коль простак взялся бы за работу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обавил бы в чужие он труды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Трудолюбив - так собственного пот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Ленив  - так просто – напросто воды!»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2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2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20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20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20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2000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5" dur="2000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2000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2000"/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2000"/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2000"/>
                                        <p:tgtEl>
                                          <p:spTgt spid="2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2000"/>
                                        <p:tgtEl>
                                          <p:spTgt spid="2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37000"/>
                            </p:stCondLst>
                            <p:childTnLst>
                              <p:par>
                                <p:cTn id="1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2000"/>
                                        <p:tgtEl>
                                          <p:spTgt spid="23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86920" y="62028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me Recommendations For Teacher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47396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y to organize lessons as interesting as possible to create and stimulate an interest in the more active use of the English language with general or specialized subject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llowing some methodical and training recommendations you may form the framework of a teaching system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ctionary work is a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 studying the technical languag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 proficiency can be expected without direct practice ,i.e., trainin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stery of a language does not come without an effec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**** The authors would welcome any suggestions and criticism. ****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****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Fly high in Technical English! ***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6" name="Picture 7" descr="angel7"/>
          <p:cNvPicPr/>
          <p:nvPr/>
        </p:nvPicPr>
        <p:blipFill>
          <a:blip r:embed="rId1"/>
          <a:stretch/>
        </p:blipFill>
        <p:spPr>
          <a:xfrm>
            <a:off x="7451640" y="1268280"/>
            <a:ext cx="1258920" cy="68904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9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0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me facts from the history of                    Technical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2420640"/>
            <a:ext cx="518472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Перспективы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Интересная и высокооплачиваемая работа, общение с носителями языка, повышение интеллектуального потенциала в сфере техники, экономики, бизнес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2. Возможность повышения квалификации за рубежом. (выпускник 1992 года Сергей Казанцев проходил практику по тех переводу в качестве инженера в Техасе(США, выпускник 2000 года Дмитрий Андреев работал по контракту в одной из американских фирм по укладке трубопровода и получил положительный отзыв от менеджера компании о хорошем уровне технического английского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12" descr=""/>
          <p:cNvPicPr/>
          <p:nvPr/>
        </p:nvPicPr>
        <p:blipFill>
          <a:blip r:embed="rId1"/>
          <a:stretch/>
        </p:blipFill>
        <p:spPr>
          <a:xfrm>
            <a:off x="0" y="115920"/>
            <a:ext cx="1009800" cy="987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34" descr="j0240695"/>
          <p:cNvPicPr/>
          <p:nvPr/>
        </p:nvPicPr>
        <p:blipFill>
          <a:blip r:embed="rId2"/>
          <a:stretch/>
        </p:blipFill>
        <p:spPr>
          <a:xfrm>
            <a:off x="6300720" y="2637000"/>
            <a:ext cx="2519280" cy="20174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037">
            <a:hlinkClick r:id="rId3" action="ppaction://hlinksldjump"/>
          </p:cNvPr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549360"/>
            <a:ext cx="8001000" cy="135576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     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Some Hints To Remember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сновными компонентами процесса обучения являются: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81597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. Работа со словарем (словарь - это рабочий инструмент переводчик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 Работа с дополнительными источниками информации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7480" indent="78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правочникам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7480" indent="78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нциклопедиям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7480" indent="78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раслевыми журналам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7480" indent="78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екламными материалам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7480" indent="78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иодическими изданиям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7480" indent="78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е грамматики родного язы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7480" indent="78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е грамматики иностранного язы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 Использование современных технологий при поиске материала и его оформлен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 Умение корректировать текст, т.е. исправлять стилистические ошиб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009440" cy="987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52" descr="j0090300"/>
          <p:cNvPicPr/>
          <p:nvPr/>
        </p:nvPicPr>
        <p:blipFill>
          <a:blip r:embed="rId2"/>
          <a:stretch/>
        </p:blipFill>
        <p:spPr>
          <a:xfrm>
            <a:off x="6156360" y="3357720"/>
            <a:ext cx="2455920" cy="17827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1053">
            <a:hlinkClick r:id="rId3" action="ppaction://hlinksldjump"/>
          </p:cNvPr>
          <p:cNvSpPr/>
          <p:nvPr/>
        </p:nvSpPr>
        <p:spPr>
          <a:xfrm>
            <a:off x="8388360" y="623736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96" h="21600">
                <a:moveTo>
                  <a:pt x="7621" y="3985"/>
                </a:moveTo>
                <a:lnTo>
                  <a:pt x="14619" y="3985"/>
                </a:lnTo>
                <a:lnTo>
                  <a:pt x="18675" y="7484"/>
                </a:lnTo>
                <a:lnTo>
                  <a:pt x="18675" y="17615"/>
                </a:lnTo>
                <a:lnTo>
                  <a:pt x="7621" y="17615"/>
                </a:lnTo>
                <a:close/>
              </a:path>
              <a:path fill="darken" w="26296" h="21600">
                <a:moveTo>
                  <a:pt x="14619" y="3985"/>
                </a:moveTo>
                <a:lnTo>
                  <a:pt x="18675" y="7484"/>
                </a:lnTo>
                <a:lnTo>
                  <a:pt x="14619" y="74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280" y="2349000"/>
            <a:ext cx="86043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spcBef>
                <a:spcPts val="451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5.Умение пользоваться различными видами перевода на практике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9280" indent="0">
              <a:spcBef>
                <a:spcPts val="451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в области письменного перевода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9280" indent="1796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лным письменным переводом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9280" indent="1796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феративным переводом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9280" indent="1796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ннотационным переводом,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9280" indent="1796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ереводом типа «экспресс - информации»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9280" indent="0">
              <a:spcBef>
                <a:spcPts val="451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в области устного перевода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9280" indent="1796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следовательным односторонним переводом на слух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9280" indent="1796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вусторонним переводом бесе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9280" indent="1796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инхронным переводо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9280" indent="1796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борочным консультативным переводо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9280" indent="0">
              <a:spcBef>
                <a:spcPts val="451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ля приобретения профессиональных навыков перевода необходимо обучение на переводческом факультете института или университет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9280" indent="0">
              <a:spcBef>
                <a:spcPts val="451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01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Some Hints To Remember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сновными компонентами процесса обучения являются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AutoShape 8">
            <a:hlinkClick r:id="rId1" action="ppaction://hlinksldjump"/>
          </p:cNvPr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8848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тодические приемы при изучении курса «Технического перевода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560" y="2361960"/>
            <a:ext cx="8317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екции: обзорная, тематическа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пражнения: тренировочные,   подстановочные, на узнавание, на реконструкцию синтаксических оборотов, на исправление стилистических  ошибок и речевых «ляпсусов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курсы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работка проект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AutoShape 3">
            <a:hlinkClick r:id="rId1" action="ppaction://hlinksldjump"/>
          </p:cNvPr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5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ек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2420640"/>
            <a:ext cx="70423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What is Technical or Engineering English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Рабочие источники информации. (Характеристика словарей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 Перевод самодовлеющих предложений (пословиц, поговорок, афоризмов, лозунгов,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 Как произнести речь на английском языке «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w To Make a Speech in English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?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4" descr="j0343515"/>
          <p:cNvPicPr/>
          <p:nvPr/>
        </p:nvPicPr>
        <p:blipFill>
          <a:blip r:embed="rId1"/>
          <a:stretch/>
        </p:blipFill>
        <p:spPr>
          <a:xfrm>
            <a:off x="6804000" y="333360"/>
            <a:ext cx="2001960" cy="24480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5">
            <a:hlinkClick r:id="rId2" action="ppaction://hlinksldjump"/>
          </p:cNvPr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9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пражн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280" y="2362320"/>
            <a:ext cx="8388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Упражнения на узнавание специфических грамматических форм и конструкций (причастий -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Participle I, Participle II,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герундий –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Gerund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, инфинитив –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Infinitive,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сложное подлежащие –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omplex Subject,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сложное дополнение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Complex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Object, 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эллиптические и эмфатические конструкции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Упражнения на перевод стандартных текстов: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- научно-популярного,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- технического (описание механизма или машины, строение двигателя, инструкции по применению приборов и т.д.);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- общественно-политического (газетной статьи, очерка и т.д.);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- публицистического (заявление государственного деятеля, речь посла, дипломатического представителя).  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Less" w="21600" h="21854">
                <a:moveTo>
                  <a:pt x="5273" y="4112"/>
                </a:moveTo>
                <a:lnTo>
                  <a:pt x="12271" y="4112"/>
                </a:lnTo>
                <a:lnTo>
                  <a:pt x="16327" y="7611"/>
                </a:lnTo>
                <a:lnTo>
                  <a:pt x="16327" y="17742"/>
                </a:lnTo>
                <a:lnTo>
                  <a:pt x="5273" y="17742"/>
                </a:lnTo>
                <a:close/>
              </a:path>
              <a:path fill="darken" w="21600" h="21854">
                <a:moveTo>
                  <a:pt x="12271" y="4112"/>
                </a:moveTo>
                <a:lnTo>
                  <a:pt x="16327" y="7611"/>
                </a:lnTo>
                <a:lnTo>
                  <a:pt x="12271" y="76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5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06:58:02Z</dcterms:created>
  <dc:creator>Aleksey</dc:creator>
  <dc:description/>
  <dc:language>en-US</dc:language>
  <cp:lastModifiedBy>татьяна</cp:lastModifiedBy>
  <dcterms:modified xsi:type="dcterms:W3CDTF">2020-07-20T06:14:28Z</dcterms:modified>
  <cp:revision>129</cp:revision>
  <dc:subject/>
  <dc:title>Технический английск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b000000000001024140</vt:lpwstr>
  </property>
</Properties>
</file>