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9394-6C95-46E8-B70B-80E19059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40B-026F-4CB9-88A7-4F2FBA75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DA64-5691-4F6B-8169-ACAD8A15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52C-2298-4C7A-ACD4-CC16626A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F6A6-A763-4E5C-941F-FF574105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9D7A-5857-479E-B623-146FA51A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CED3-FA8B-49D0-9582-4C23C479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F831-814E-4B20-A3E2-96EA8FCD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4A8-3EBD-42A6-98E2-FEEE09F6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EE7-18F5-434F-B66C-08C2CFE3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87B-C431-4D2B-9B44-265E5D5D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A09-2CB8-4C24-9263-FC1496F4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6BD9-CF10-440F-A6D8-785DBA13A4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24smi.org/oi1J25m24/e8d53eMEO06B/0ZLos5LSaeHXgED6iG2fnSTabIuUTJdVOnRPjeGHEZh5BwikC6eoosXU3fkvQJ_GKeygiLxOm0q3TSwHZdsP9OTmjLQX0WtSARLBm82P326EWHxdt93GU" TargetMode="External"/><Relationship Id="rId2" Type="http://schemas.openxmlformats.org/officeDocument/2006/relationships/hyperlink" Target="https://24smi.org/oi1J25m24/e8d53eMEO06B/0ZLos5LSaeHXgED6iG2fnSTabIuUTJdVOnRPjeGHEZh5BwikC6eoosXU3fkvQJ_GKeyg362-yR2inW2xJTg946ZEbAeGgBiSwyIxOC_dn44Vm48u5o9UI" TargetMode="External"/><Relationship Id="rId3" Type="http://schemas.openxmlformats.org/officeDocument/2006/relationships/hyperlink" Target="https://cdn1.imgbb.ru/user/54/543553/201510/402639742adfe2f3269d4c7d6868568b.jpg" TargetMode="External"/><Relationship Id="rId4" Type="http://schemas.openxmlformats.org/officeDocument/2006/relationships/hyperlink" Target="https://24smi.org/oi1J25m24/e8d53eMEO06B/0ZLos5LSaeHXgED6iG2fnSTabIuUTJdVOnRPjeGHEZh5BwikC6eoosXU3fkvQJ_GKeywn62-yR2inW2xJTg946ZEbAeGgBiSwyIxOC_dn44Vm48u5o9UI" TargetMode="External"/><Relationship Id="rId5" Type="http://schemas.openxmlformats.org/officeDocument/2006/relationships/hyperlink" Target="https://pptcloud3.ams3.digitaloceanspaces.com/slides/pics/004/788/422/original/Slide2.jpg?1518646697" TargetMode="External"/><Relationship Id="rId6" Type="http://schemas.openxmlformats.org/officeDocument/2006/relationships/hyperlink" Target="https://24smi.org/public/media/resize/800x-/celebrity/2017/09/27/j33jslGTXI39_lev-kassil.jpg" TargetMode="External"/><Relationship Id="rId7" Type="http://schemas.openxmlformats.org/officeDocument/2006/relationships/hyperlink" Target="https://24smi.org/public/media/resize/800x-/celebrity/2017/09/27/RfdAvCdM67Dr_lev-kassil.jpg" TargetMode="External"/><Relationship Id="rId8" Type="http://schemas.openxmlformats.org/officeDocument/2006/relationships/hyperlink" Target="https://24smi.org/oi1J25m24/e8d53eMEO06B/0ZLos5LSaeHXgED6iG2fnSTabIuUTJdVOnRPjeGHEZh5BwikC6eoosXU3fkvQJ_GKeywv6-8yx2inW2xJTg946ZEbAeGgBiSwyIxOC_dn44Vm48u5o9UI" TargetMode="External"/><Relationship Id="rId9" Type="http://schemas.openxmlformats.org/officeDocument/2006/relationships/hyperlink" Target="https://24smi.org/public/media/resize/800x-/2017/9/27/09.jpg" TargetMode="External"/><Relationship Id="rId10" Type="http://schemas.openxmlformats.org/officeDocument/2006/relationships/hyperlink" Target="https://avatars.mds.yandex.net/get-zen_doc/1665167/pub_5d25eff5520a9b00ae3c8be5_5d25f52fddfef600ad784572/scale_1200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1"/>
          <a:stretch/>
        </p:blipFill>
        <p:spPr>
          <a:xfrm>
            <a:off x="0" y="622440"/>
            <a:ext cx="9083520" cy="74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Литература. Первые пове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08000" y="709560"/>
            <a:ext cx="2597040" cy="4117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авные герои произведения – братья-школьники со страстью к приключениям и путешествиям, желающие вырваться из скучного мира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46240" y="5445000"/>
            <a:ext cx="875808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у Кассиля спрашивали, как он оценивает  популярность своего творчества, он пожимал плечами и говорил, что дети почему-то сами выбрали его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2836800" y="1197000"/>
            <a:ext cx="6167520" cy="411156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Литература. Работа в редак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90440" y="1052640"/>
            <a:ext cx="3730680" cy="33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пех после выхода повести «Кондуит и Швамбрания» привёл Льва Абрамовича в ряды авторов журнала «Пионер», здесь он окончательно определился в направлении твор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90440" y="5661000"/>
            <a:ext cx="373068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днее возглавил коллектив «Мурзил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s://avatars.mds.yandex.net/get-zen_doc/1665167/pub_5d25eff5520a9b00ae3c8be5_5d25f52fddfef600ad784572/scale_1200"/>
          <p:cNvPicPr/>
          <p:nvPr/>
        </p:nvPicPr>
        <p:blipFill>
          <a:blip r:embed="rId1"/>
          <a:srcRect l="0" t="0" r="0" b="17"/>
          <a:stretch/>
        </p:blipFill>
        <p:spPr>
          <a:xfrm>
            <a:off x="4140360" y="716040"/>
            <a:ext cx="4811400" cy="60577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Литература. Повести для дет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559400" y="1916280"/>
            <a:ext cx="4306680" cy="3020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ме выдуманной сраны Швамбрании появились ещё два государства – Синегория и Джунгахора, которые существовали на страницах книг «Дорогие мои мальчишки» и «Будьте готовы, ваше Высочество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395280" y="722160"/>
            <a:ext cx="3830760" cy="60199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Литература. Повести для дет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788000" y="771480"/>
            <a:ext cx="4105080" cy="1557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нига «Дорогие мои мальчишки» относится к циклу произведений Кассиля о вой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788000" y="2565360"/>
            <a:ext cx="4105080" cy="1557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ликой Отечественной войне он посвятил немало рассказов – пригодился опыт военного корреспонд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3.bp.blogspot.com/-4XhXe6R3z3s/VXheoRxOh_I/AAAAAAAALZc/Tri4s8Aldj0/s1600/%25D0%259A%25D0%25B0%25D1%2581%25D1%2581%25D0%25B8%25D0%25BB%25D1%258C%2B6.jpg"/>
          <p:cNvPicPr/>
          <p:nvPr/>
        </p:nvPicPr>
        <p:blipFill>
          <a:blip r:embed="rId1"/>
          <a:stretch/>
        </p:blipFill>
        <p:spPr>
          <a:xfrm>
            <a:off x="324000" y="725400"/>
            <a:ext cx="4319280" cy="603576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95" name="Text Box 8"/>
          <p:cNvSpPr/>
          <p:nvPr/>
        </p:nvSpPr>
        <p:spPr>
          <a:xfrm>
            <a:off x="4788000" y="4348080"/>
            <a:ext cx="4103640" cy="1922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йне посвящены книги: «Великое противостояние», «Огнеопасный груз», «У классной доски», «Улица младшего сын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Памятник Льву Кассилю в Энгель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142920" y="708120"/>
            <a:ext cx="8858160" cy="590364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Путешествен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788000" y="923760"/>
            <a:ext cx="4105080" cy="1557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в Кассиль много путешествовал. По земле, воде и воздуху, по родной стране и за границ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788000" y="2708280"/>
            <a:ext cx="4105080" cy="3751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смело мог назвать себя пионером: летал в испытательных моделях самолётов, отправился в поход советских глиссеров, спускался в строившуюся шахту метро, а однажды поехал в Турцию вместе с советской футбольной коман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" descr=""/>
          <p:cNvPicPr/>
          <p:nvPr/>
        </p:nvPicPr>
        <p:blipFill>
          <a:blip r:embed="rId1"/>
          <a:srcRect l="0" t="0" r="0" b="39"/>
          <a:stretch/>
        </p:blipFill>
        <p:spPr>
          <a:xfrm>
            <a:off x="179280" y="708120"/>
            <a:ext cx="4464000" cy="603864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Последний д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84320" y="689040"/>
            <a:ext cx="410508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авные вехи судьбы, мысли, планы Лев Кассиль описывал в дневни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84320" y="2184480"/>
            <a:ext cx="4105080" cy="265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21 июня 1970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етради появилась последняя запись, в которой Лев Абрамович жалуется на плохое самочувствие и сожалеет, что не поедет в Ленинград на Всесоюзный слёт пионе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84320" y="5157720"/>
            <a:ext cx="4105080" cy="1557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устя несколько часов сердце писателя остановилось. Ему было всего 64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2" descr=""/>
          <p:cNvPicPr/>
          <p:nvPr/>
        </p:nvPicPr>
        <p:blipFill>
          <a:blip r:embed="rId1"/>
          <a:stretch/>
        </p:blipFill>
        <p:spPr>
          <a:xfrm>
            <a:off x="4572000" y="669960"/>
            <a:ext cx="4103640" cy="60562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Могила пис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1413000" y="708120"/>
            <a:ext cx="6318000" cy="58816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Использованные 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0" y="714240"/>
            <a:ext cx="914400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24smi.org/oi1J25m24/e8d53eMEO06B/0ZLos5LSaeHXgED6iG2fnSTabIuUTJdVOnRPjeGHEZh5BwikC6eoosXU3fkvQJ_GKeygiLxOm0q3TSwHZdsP9OTmjLQX0WtSARLBm82P326EWHxdt93GU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24smi.org/oi1J25m24/e8d53eMEO06B/0ZLos5LSaeHXgED6iG2fnSTabIuUTJdVOnRPjeGHEZh5BwikC6eoosXU3fkvQJ_GKeyg362-yR2inW2xJTg946ZEbAeGgBiSwyIxOC_dn44Vm48u5o9UI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cdn1.imgbb.ru/user/54/543553/201510/402639742adfe2f3269d4c7d6868568b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24smi.org/oi1J25m24/e8d53eMEO06B/0ZLos5LSaeHXgED6iG2fnSTabIuUTJdVOnRPjeGHEZh5BwikC6eoosXU3fkvQJ_GKeywn62-yR2inW2xJTg946ZEbAeGgBiSwyIxOC_dn44Vm48u5o9UI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s://pptcloud3.ams3.digitaloceanspaces.com/slides/pics/004/788/422/original/Slide2.jpg?1518646697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s://24smi.org/public/media/resize/800x-/celebrity/2017/09/27/j33jslGTXI39_lev-kassil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s://24smi.org/public/media/resize/800x-/celebrity/2017/09/27/RfdAvCdM67Dr_lev-kassil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s://24smi.org/oi1J25m24/e8d53eMEO06B/0ZLos5LSaeHXgED6iG2fnSTabIuUTJdVOnRPjeGHEZh5BwikC6eoosXU3fkvQJ_GKeywv6-8yx2inW2xJTg946ZEbAeGgBiSwyIxOC_dn44Vm48u5o9UI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s://24smi.org/public/media/resize/800x-/2017/9/27/09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s://avatars.mds.yandex.net/get-zen_doc/1665167/pub_5d25eff5520a9b00ae3c8be5_5d25f52fddfef600ad784572/scale_1200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3.bp.blogspot.com/-4XhXe6R3z3s/VXheoRxOh_I/AAAAAAAALZc/Tri4s8Aldj0/s1600/%25D0%259A%25D0%25B0%25D1%2581%25D1%2581%25D0%25B8%25D0%25BB%25D1%258C%2B6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booksiti.net.ru/books/57767300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s://24smi.org/public/media/resize/800x-/2017/9/27/02_Vg0fjve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s://biblio16.ucoz.ru/iul/1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s://pbs.twimg.com/media/CJhmp05UwAEcq7_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6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novodevichiynecropol.narod.ru/02/kassil_la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Лев Абрамович Кассиль (1905 – 197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08000" y="623736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ился </a:t>
            </a:r>
            <a:r>
              <a:rPr b="0" lang="ru-RU" sz="2400" spc="-1" strike="noStrike">
                <a:solidFill>
                  <a:srgbClr val="cc0000"/>
                </a:solidFill>
                <a:latin typeface="Calibri"/>
              </a:rPr>
              <a:t>10 июля 1905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611280" y="800280"/>
            <a:ext cx="7921440" cy="528156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Детские г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6689880" y="111240"/>
            <a:ext cx="2340000" cy="265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ился в г.Энгельс (Саратовская область) в интеллигентной еврейской сем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753240" y="2901960"/>
            <a:ext cx="2160720" cy="1922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ец был врачом, а мама преподавала му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-49320" y="4954680"/>
            <a:ext cx="9144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льчик с малых лет отличался богатым набором талантов и склонностей: показывал успехи в музыке, рисовании и литера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23920" y="5848200"/>
            <a:ext cx="859788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ленький Лев представлял себя извозчиком, профессия в те времена романтич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249120" y="677880"/>
            <a:ext cx="6286680" cy="41911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Годы детства и ю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79280" y="708120"/>
            <a:ext cx="4537080" cy="1922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таршем возрасте мечтал о кораблестроении, даже смастерил пароход в миниатюре, назвав его «Добрыня Никитич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79280" y="2492280"/>
            <a:ext cx="453708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лодой изобретатель быстро прославился благодаря заметке в местной газ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79280" y="4037040"/>
            <a:ext cx="4537080" cy="265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тёвку в «большое плавание» получил от собственной школы – после революции гимназия превратилась в Единую трудовую школу, которая отправляла учеников на общественные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5076720" y="1041480"/>
            <a:ext cx="3613320" cy="53038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Годы детства и ю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416480" y="1320840"/>
            <a:ext cx="4529160" cy="1557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ный Лёва попал в детскую библиотеку, где перед ним открылся захватывающий мир лит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408560" y="3141720"/>
            <a:ext cx="4537080" cy="228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ростки в библиотеке организовывали творческие кружки и создали рукописный журнал, в котором Лев Кассиль взял на себя редактуру и художественное оформ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2" descr=""/>
          <p:cNvPicPr/>
          <p:nvPr/>
        </p:nvPicPr>
        <p:blipFill>
          <a:blip r:embed="rId1"/>
          <a:srcRect l="0" t="0" r="0" b="55"/>
          <a:stretch/>
        </p:blipFill>
        <p:spPr>
          <a:xfrm>
            <a:off x="250920" y="723960"/>
            <a:ext cx="3998880" cy="57862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60" name="Text Box 8"/>
          <p:cNvSpPr/>
          <p:nvPr/>
        </p:nvSpPr>
        <p:spPr>
          <a:xfrm>
            <a:off x="3976560" y="5950080"/>
            <a:ext cx="49690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ья: отец – Абрам Григорьевич, мать – Анна Иосифовна, брат – Иосиф Абрамов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Годы юности. Учёб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42920" y="512640"/>
            <a:ext cx="2665440" cy="4848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хорошую общественную работу обком партии вручил Льву Абрамовичу направление в МГУ, он выбрал специальность «аэродинамический цикл» на физико-математическом факульт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42920" y="5589720"/>
            <a:ext cx="88581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ко хватило студента лишь на три курса, продолжать учёбу дальше не было смысла – Лев с головой окунулся в журналистику и литератор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3076560" y="1025640"/>
            <a:ext cx="5799240" cy="38671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416480" y="714240"/>
            <a:ext cx="4529160" cy="1557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овь к литературе проявилась неожиданно: молодому Кассилю вдруг захотелось писать, и не важно, о ч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416480" y="2565360"/>
            <a:ext cx="453708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авным делом стало выражение мыслей, эмоций, впечатлений на бума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416480" y="4044960"/>
            <a:ext cx="4529160" cy="228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1925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домой летят длинные письма об уголках современной Москвы глазами юноши. Музейные экспозиции, выставки, театральные представления, праздни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091040" cy="54547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77760" y="804960"/>
            <a:ext cx="452916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ные узнавали обо всём, где успел побывать Лё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93600" y="1841400"/>
            <a:ext cx="4537080" cy="3020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письмами связан любопытный эпизод. Младший брат Иосиф умудрился сделать на них бизнес: перепечатывал на машинке, относил в газету и получал гонорары, на которые потом покупал сладости и игр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77760" y="5092560"/>
            <a:ext cx="4529160" cy="1922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3 курсу обучения Кассиль числился корреспондентом в газетах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«Правда Востока», «Советская Сибирь», «Извест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4788000" y="927000"/>
            <a:ext cx="4132080" cy="551016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Литература. Первые пове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6664320" y="1262160"/>
            <a:ext cx="2212920" cy="3020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адимир Маяковский знакомит  творческую элиту с начинающим писателем книг дл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09520" y="4962600"/>
            <a:ext cx="87249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яковский стал для Кассиля наставником и другом – помогал, направлял, подсказывал, печатал в своём журнале «Новый ЛЕф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22120" y="5875200"/>
            <a:ext cx="875844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 выхода в свет повести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«Кондуит и Швамбрания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татели полюбили автора. Дети начали узнавать писателя на ули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"/>
          <p:cNvPicPr/>
          <p:nvPr/>
        </p:nvPicPr>
        <p:blipFill>
          <a:blip r:embed="rId1"/>
          <a:stretch/>
        </p:blipFill>
        <p:spPr>
          <a:xfrm>
            <a:off x="179280" y="690480"/>
            <a:ext cx="6286680" cy="41911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04:52:20Z</dcterms:created>
  <dc:creator>user</dc:creator>
  <dc:description/>
  <dc:language>en-US</dc:language>
  <cp:lastModifiedBy>Пользователь Windows</cp:lastModifiedBy>
  <dcterms:modified xsi:type="dcterms:W3CDTF">2020-07-20T23:43:15Z</dcterms:modified>
  <cp:revision>9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819980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