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88E12-753F-4ED4-BBC5-D0FC01AFB3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3EA0-89BC-4D31-962E-2967C1437A9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64708-90AE-4519-BD20-82CECAB7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5F658-FAA6-44EC-817D-AB827BB9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8C17F-DCA7-4D9A-A45D-21E96A7F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14C01-DD9E-4685-B9C4-DFFD41E4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1C78F-D3A8-4987-8B16-9F3E6EA1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CC6B0-4876-4BA8-8DAE-20A78BDF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D6384-E96C-4945-B827-F55C07E0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A2896-38B0-44C3-8336-964388AA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8355C-D2B7-49E7-97B9-220D109A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5FA19-AF6D-487D-A9AB-6C02D9EE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F0A5-9743-486A-970E-3EF361227AE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DB2E8-55D1-45EC-9BF3-E81912B2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33E22-C084-4DB9-8F68-06BE402E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5FB63-39C1-4DAF-8AFD-4E959DCE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3D6BE-4569-411B-921A-D6ADE9FD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CE6E0-9D14-40CD-949A-A6CF183C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1DBEE-2BC0-4A4D-BDCF-FBB8B63A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902CA-DE6E-4FFE-BF97-D91F5BAA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A5983-9E2D-424C-95FB-963E98FE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3ED88-0071-479A-A26C-6AF0C2AB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461D8-8F21-4DEA-8979-D805EDB9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CC68-CC70-4B31-8813-CD9D595DCF9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410A3-34B5-404C-B1C9-76C8462B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FFB25-1546-41F1-895B-F8872E60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94083-80C3-41F6-BE76-2E3E635E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5F259-4193-4D7F-950C-F09E1095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C5A25-5C15-4973-9390-4F6C724D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B2D7F-EB90-4A95-BD73-391C1B95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DD514-65AF-4433-908E-AEBA74E1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94411-EBB9-43D6-84E9-DAFCB773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9B742-41C9-4677-AB76-90D4F611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F499A-BC02-4127-86F3-A9EC64DB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78019-FA67-434E-A36A-CF9ADA7A6A2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320EE-57B5-4722-B680-2CC9AC36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73D06-2A1A-4D9A-971E-BFC176EA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50827-557D-49D0-84A9-19C206BF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127C2-18C6-46EB-BBB5-044AAF31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436C5-9775-4F4D-BF67-E5D24402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AB2BC-2E7A-4480-B419-62EA5585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96903-5B0D-4829-8A8C-C87453F4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D1FDD-F7FF-4033-B29A-AE95D1F2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A4CC4-099F-41B8-B86F-501710C0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01DAB-52CD-4F5D-9FDE-BA55B6D8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4783D-E540-4B1A-8AD0-7C2FC0AD642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912B6-78E0-41D1-BFC0-9148018F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31ACE-7013-4877-BC9B-2E560ED8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4EF63-4493-4D65-8F4F-3EE8DB50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AEB26-9F2D-4082-BA78-CB748BD8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A192A-B201-4933-8F1A-B56AE3A4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8D507-20EA-4B84-9083-3595B6A132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7CF28-FC8F-404F-A5A5-BDFA7602C5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96F8E-0737-4FE4-B1DB-9ADFD8794A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2245C-EE3D-4769-8519-A61926B180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07292-F7D8-445A-AC4B-8C5A6B8B20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EDD2-025E-40A0-84AE-26460041C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593A5-31F5-40A1-BA4A-38D0630CF7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83A42-6F92-4960-B9AF-3988D6AB6D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66713-FCE6-496B-B373-AF9B62CDE2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E3498-1DBA-495C-BB3B-2A962C5D4F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D3104-FA11-4284-9521-1160366AC91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9CE-D32D-4992-BEF0-B0C1915128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C203-FC7D-4C35-A0A1-AD84AF0FF4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F2FE-C97E-44BF-A9F7-20E0F248C0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2AA-9679-43E6-9B05-14440E176A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12A5-18F6-4E32-8084-8ACF69E32A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BACF7-98EF-4479-B737-4415C63669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35C0-85F2-433A-B4A7-B2800D9122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A0A9-7FB9-4425-8B6E-9C69D89154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AA76-8DA9-4870-8C6B-2CC5835258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02EF-9629-4002-9ED4-3C3C2C11FA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B5AE-5A68-408A-9F83-453516F796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F576-2759-4704-BE7F-386BE502F6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7B20-8B57-481A-A08E-B28B0A3CE41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8A301-527F-45BF-BF68-870D3F2F1E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E1864-1C74-475E-B0FE-2D1EB5DD537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C0DA0-C51D-48A2-B5B1-3F1622D8518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7FE1-5F82-4BCF-9922-8836AC12374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BED7-F588-4361-9422-1F773AF3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8EA1-EAE7-40C1-9149-89F0D7F2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7DD1-F35C-49A3-9EDF-AF6DB8D1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756F-BB32-4103-89A9-874043B0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F8CA-AC00-4341-9675-EAE5427E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1A1D-491E-4124-AB89-25699EB6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A573-6832-4B35-9B1D-0740A6B0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08CE2-11D6-49F5-8CB4-607A0526730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7D0F-7846-4DC6-94DC-8E9DA654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6CB5-CDCD-4A1F-A637-D8CCE6A8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4A02-BC6F-449F-82D6-2CF7E3F7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447D-223E-4BE6-ADDA-77A8D554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7861-2720-44DA-99F4-A2A11E2E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C3410-5D78-4C20-BDF6-647CB74A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1E61F-D224-4602-A0D6-E6EB7FCB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5528F-E645-435D-87A3-1579BD2F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F61DD-58A8-44D8-B68E-7B7C0541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6110B-82A2-4906-85E5-CAC724B3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50E76-EFC1-4A0E-A6CD-61A6C806E57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A9490-3B19-4FAD-BA43-197007A8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A981E-D5DE-496C-859F-14995E34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513C3-2769-47A7-9042-0A9C416D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39949-2C79-41CF-A8BB-14D22C23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49E2C-3FAC-45D8-AEDB-77E3C227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F834D-E0AF-4A1A-9917-2DDA0FE2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99C6C-A60A-43A5-A34C-75957248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2A3DE-39FB-4428-80AB-6DAAF765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6060A-3EA3-45E4-B7C3-EEE20AEF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23B76-DE20-4E94-9232-CE52F9BE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60840" y="6500520"/>
            <a:ext cx="2747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Рассохина Г.В.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pedsovet.su/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15"/>
          </p:nvPr>
        </p:nvSpPr>
        <p:spPr>
          <a:xfrm>
            <a:off x="6360840" y="6500520"/>
            <a:ext cx="2747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28D5-C0C8-483A-BD53-A5F902F98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18"/>
          </p:nvPr>
        </p:nvSpPr>
        <p:spPr>
          <a:xfrm>
            <a:off x="6360840" y="6500520"/>
            <a:ext cx="2747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6EAE-9448-4A89-BE35-87DBBF43D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21"/>
          </p:nvPr>
        </p:nvSpPr>
        <p:spPr>
          <a:xfrm>
            <a:off x="6360840" y="6500520"/>
            <a:ext cx="2747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279A-F0A1-4956-8B36-227FE2B9B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72000" y="6492960"/>
            <a:ext cx="277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Рассохина Г.В.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pedsovet.su/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Скругленный прямоугольник 6"/>
          <p:cNvSpPr/>
          <p:nvPr/>
        </p:nvSpPr>
        <p:spPr>
          <a:xfrm>
            <a:off x="324000" y="260280"/>
            <a:ext cx="8569080" cy="626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eb4e3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7" descr="4bb97ff07cca.png"/>
          <p:cNvPicPr/>
          <p:nvPr/>
        </p:nvPicPr>
        <p:blipFill>
          <a:blip r:embed="rId3"/>
          <a:stretch/>
        </p:blipFill>
        <p:spPr>
          <a:xfrm>
            <a:off x="6480000" y="927000"/>
            <a:ext cx="2664000" cy="53341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6360840" y="6500520"/>
            <a:ext cx="2747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209E-5F2B-4B60-A32D-3BEBE6C51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6" descr="005110753ae9.png"/>
          <p:cNvPicPr/>
          <p:nvPr/>
        </p:nvPicPr>
        <p:blipFill>
          <a:blip r:embed="rId3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Скругленный прямоугольник 7"/>
          <p:cNvSpPr/>
          <p:nvPr/>
        </p:nvSpPr>
        <p:spPr>
          <a:xfrm>
            <a:off x="324000" y="260280"/>
            <a:ext cx="8569080" cy="626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76320">
            <a:solidFill>
              <a:srgbClr val="ffc00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8" descr="banner_alarm.png"/>
          <p:cNvPicPr/>
          <p:nvPr/>
        </p:nvPicPr>
        <p:blipFill>
          <a:blip r:embed="rId3"/>
          <a:stretch/>
        </p:blipFill>
        <p:spPr>
          <a:xfrm>
            <a:off x="250920" y="333360"/>
            <a:ext cx="1852560" cy="18511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9" descr="animashki-deti-709_thumb.gif"/>
          <p:cNvPicPr/>
          <p:nvPr/>
        </p:nvPicPr>
        <p:blipFill>
          <a:blip r:embed="rId4"/>
          <a:stretch/>
        </p:blipFill>
        <p:spPr>
          <a:xfrm>
            <a:off x="6907320" y="4533840"/>
            <a:ext cx="1697040" cy="1890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6"/>
          </p:nvPr>
        </p:nvSpPr>
        <p:spPr>
          <a:xfrm>
            <a:off x="6360840" y="6500520"/>
            <a:ext cx="2747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980D-129B-4944-853C-21CF87038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9"/>
          </p:nvPr>
        </p:nvSpPr>
        <p:spPr>
          <a:xfrm>
            <a:off x="6360840" y="6500520"/>
            <a:ext cx="2747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3AEC-94B3-4F55-8283-0E5B30F9D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2"/>
          </p:nvPr>
        </p:nvSpPr>
        <p:spPr>
          <a:xfrm>
            <a:off x="6360840" y="6500520"/>
            <a:ext cx="2747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84F2-92F8-4162-A3F8-5B79EB0FA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Рисунок 3" descr="Картинки по запросу картинки с радугой детские"/>
          <p:cNvPicPr/>
          <p:nvPr/>
        </p:nvPicPr>
        <p:blipFill>
          <a:blip r:embed="rId2"/>
          <a:stretch/>
        </p:blipFill>
        <p:spPr>
          <a:xfrm>
            <a:off x="-496800" y="0"/>
            <a:ext cx="9640800" cy="68580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365040"/>
            <a:ext cx="82296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85440" y="3911760"/>
            <a:ext cx="8001000" cy="21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«Мы здоровью скажем – ДА!»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аршая группа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ставили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арифуллина Г.С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укреева И.А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152280" y="75960"/>
            <a:ext cx="8893440" cy="66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 этап -основной ( практический)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ВН: «Мы здоровью скажем «Да!».  Интеллектуальная игра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Д в старшей группе  «Витамины я люблю — быть здоровым я хочу.  Польза витаминов для здоровья человека»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смотр презентации  «Полезные и вредные продукты»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еседа: "Сохрани своё здоровье"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еседа на тему «Чтоб смеялся роток, чтоб кусался зубок»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ведение НОД «Здоровые глазки через игры и сказки»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культминутки , игровой массаж, дыхательная  гимнастика, гимнастики для глаз 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вместное проведение утренних гимнастик  родителей с детьми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ведение дня Здоровья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ворческие работы детей «Здоровье в порядке – спасибо зарядке!»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262080" y="500040"/>
            <a:ext cx="842472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II этап – заключительный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формление результата проекта в виде презентации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формление фотовыставки «Путешествие по стране Здоровья»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формление выставки детских работ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формление плаката пожеланий «Добавь здоровья!»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дведение итогов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Работа с родителями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155320" y="1147680"/>
            <a:ext cx="5410440" cy="53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накомство с мероприятиями проекта, включение родителей в ход проекта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формление уголка здоровья «Неболейка»;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ультации: « Закаляемся правильно »;   «Осанка в порядке – спасибо зарядке»; «Здоровое питание детей»; «Одежда детей в осенний период»; «Игры, которые лечат».       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пка передвижка  «Здоровый образ жизни семьи»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курс рисунков  «Здоровый образ жизни сказочных героев»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формление плаката пожеланий « Добавь здоровья!»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250920"/>
            <a:ext cx="82296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46c0a"/>
                </a:solidFill>
                <a:latin typeface="Times New Roman"/>
              </a:rPr>
              <a:t> </a:t>
            </a:r>
            <a:r>
              <a:rPr b="1" lang="en-US" sz="4300" spc="-1" strike="noStrike">
                <a:solidFill>
                  <a:srgbClr val="000000"/>
                </a:solidFill>
                <a:latin typeface="Times New Roman"/>
              </a:rPr>
              <a:t>Методическая работа воспитателя:</a:t>
            </a:r>
            <a:endParaRPr b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1633680" y="1512720"/>
            <a:ext cx="573552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формление уголка книги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подбор книг о ЗОЖ)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формление альбома «Здоровый образ жизни сказочных героев»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формление картотеки дидактических, пальчиковых и подвижных игр, стихов, загадок, пословиц, массажа, зрительной и дыхательной гимнастики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формление выставки детских работ «Здоровье в порядке- спасибо зарядке!»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товыставка: «Путешествие по стране Здоровья»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26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Литература: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520200" y="1164960"/>
            <a:ext cx="6761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Шорыгина Т.А. «Беседы о здоровье».-М.: ТЦ Сфера, 2010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Галанов А. «Игры для укрепления здоровья детей»,.-М.:,2012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Аксенова З.Ф. «Спортивные праздники в детском саду». Москва 2003г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Маханева М.Д. «Воспитание здорового ребенка».-М.:АРКТИ, 1999г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Картушина М. Ю. «Быть здоровыми хотим». – М.: ТЦ Сфера, 2004 (программа развития)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1469880"/>
            <a:ext cx="8229600" cy="26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О проекте: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520560" y="95868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ид проекта: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познавательно - творческий, групповой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роки реализации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краткосрочный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частники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дети и родители старшей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группы, воспитатели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Актуальность: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85440" y="1338120"/>
            <a:ext cx="80010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ше будущее – это наши дети. Наша Родина Россия только тогда будет сильной, процветающей и конкурентно-способной страной, когда будет здоровым ее подрастающее поколение. Задача охраны, сохранения и укрепления здоровья детей одна из ключевых в построении и развитии системы дошкольного образования.  В этом деле нет мелочей.  Здоровье, как функция успешной жизни, в наше время становится необходимым условием культурного развития человека. Вот почему так важно сформировать привычку к здоровому образу жизни в дошкольном возрасте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Проблема:</a:t>
            </a:r>
            <a:r>
              <a:rPr b="1" i="1" lang="en-US" sz="4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61720" y="1088640"/>
            <a:ext cx="84135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асто родители и педагоги, развивая детей интеллектуально и эстетически, забывают о физическом воспитании, о формировании привычек здорового образа жизни, относятся к этому, как к чему-то второстепенному, происходящему само по себе. В результате многие старшие дошкольники плохо бегают, неправильно ходят, не могут залезть на лесенку, или гимнастическую стенку, не умеют ловить и бросать мяч.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рьёзной проблемой в последние годы становится малоподвижность детей. Они сидят не только дома у телевизоров и компьютеров, но и в детском саду. Это плохо сказывается на физическом здоровье детей.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связи с этим мы   разработали проект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Мы здоровью скажем – ДА!»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250560" y="250560"/>
            <a:ext cx="8435880" cy="62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общение дошкольников к здоровому образу жизни через систему здоровье сберегающих  технологий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ширять знания детей о здоровье и здоровом образе жизни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вивать творчество, самостоятельность, инициативу в двигательных действиях, осознанное отношение к ним, способность к самоконтролю, самооценке при выполнении движений.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ировать интерес и любовь к спорту, представление о значении двигательной активности в жизни человека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20680" y="-360"/>
            <a:ext cx="757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жидаемые результаты: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633680" y="1001880"/>
            <a:ext cx="703080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 детей сформируются  представления о здоровом образе жизни, о мероприятиях, направленных на сохранение  здоровья (соблюдение режима, правильное питание, чистота тела, спорт);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ети  будут использовать специальные упражнения для укрепления своего организма;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высится уровень информированности родителей об оздоровительной работе ДОУ;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явится  творчество, самостоятельность, инициативу в двигательных действиях;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группе  будет создана  современная  предметно-развивающая  среда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360" y="2062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Здоровье сберегающие технологии, используемые в реализации проект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74280" y="1360080"/>
            <a:ext cx="6064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зкультурные занятия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вижные и спортивные игры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инамические паузы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лаксация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имнастика для глаз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льчиковая гимнастика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ыхательная гимнастика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дрящая гимнастика, закаливание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гровой массаж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Организация развивающей среды для самостоятельной деятельности детей</a:t>
            </a:r>
            <a:endParaRPr b="1" lang="en-US" sz="2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520560" y="1208160"/>
            <a:ext cx="6904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нижный уголок (художественная литература по теме недели, иллюстрации различных видов спорта, энциклопедия для дошкольников, и т.д.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Центр развивающих игр («Средства личной гигиены»,  «Полезные и вредные продукты», «Что помогает быть здоровым», набор разрезных картинок  «Виды спорта»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Центр сюжетно - ролевых игр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Центр художественного творчества (Беседа, просмотр картин на тему «Мы любим спорт!», фотографий, презентаций, и т.д.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Этапы реализации проекта: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58560" y="1055520"/>
            <a:ext cx="83278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этап - подготовительный  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ределение уровня знаний детей о здоровье и здоровом образе жизни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ределение темы проекта, постановка цели и задач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учение  методической  литературы по данной теме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работка и накопление методических материалов по проблеме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бор форм работы с детьми и родителями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бор основных мероприятий, определение объёма и содержание работы для внедрения проекта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ределение и формулировка ожидаемых результатов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1T19:25:21Z</dcterms:created>
  <dc:creator>Galina.Rassohina</dc:creator>
  <dc:description/>
  <dc:language>en-US</dc:language>
  <cp:lastModifiedBy>Гульназ</cp:lastModifiedBy>
  <dcterms:modified xsi:type="dcterms:W3CDTF">2020-07-21T15:38:03Z</dcterms:modified>
  <cp:revision>66</cp:revision>
  <dc:subject/>
  <dc:title>Слайд 1</dc:title>
</cp:coreProperties>
</file>