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CAA-1FA2-4950-9DCD-3DAA4EF7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249-C6CC-48B9-ACCD-52DC873B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6DB-E47B-4161-8415-2A7D252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B8D-C66C-425C-970D-75AB4E5E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9AE-B1FF-44F9-9F5E-05A0093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84E-75AA-4033-8B6E-E7F40FB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DE8-5FF5-4E7F-AE4A-7D741941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AA5-DCCD-4DF5-985E-3110B8F1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C55-6ED6-4AAB-945D-C728F71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768-50DF-4C15-A3E9-70DDC62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98F-4AB1-4BDF-8B8B-2FCC576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833-C167-4CB0-AD72-F167E7B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7E6-4462-4F26-A468-BD2F04A95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корова.jpg"/>
          <p:cNvPicPr/>
          <p:nvPr/>
        </p:nvPicPr>
        <p:blipFill>
          <a:blip r:embed="rId1"/>
          <a:srcRect l="3543" t="6841" r="1961" b="2505"/>
          <a:stretch/>
        </p:blipFill>
        <p:spPr>
          <a:xfrm>
            <a:off x="-5292720" y="836640"/>
            <a:ext cx="5915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21 0.13552 C 0.24827 0.14015 0.26216 0.14431 0.27605 0.1494 C 0.28195 0.15148 0.28889 0.15657 0.29532 0.15726 C 0.30626 0.15842 0.31737 0.15865 0.3283 0.15934 C 0.34063 0.16489 0.35278 0.17183 0.36546 0.1753 C 0.37153 0.18062 0.37813 0.18177 0.3849 0.18524 C 0.39323 0.18941 0.40174 0.19334 0.41025 0.19704 C 0.41737 0.20004 0.42518 0.19819 0.43264 0.19912 C 0.44723 0.20097 0.46164 0.20536 0.47605 0.20906 C 0.48004 0.21022 0.48386 0.2123 0.48785 0.21299 C 0.49931 0.21484 0.52223 0.21693 0.52223 0.21693 C 0.53438 0.2197 0.54566 0.22317 0.55799 0.22502 C 0.59237 0.24722 0.63421 0.23011 0.67153 0.22502 C 0.68004 0.22271 0.67674 0.22456 0.68195 0.2208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calf1.jpg"/>
          <p:cNvPicPr/>
          <p:nvPr/>
        </p:nvPicPr>
        <p:blipFill>
          <a:blip r:embed="rId1"/>
          <a:stretch/>
        </p:blipFill>
        <p:spPr>
          <a:xfrm>
            <a:off x="8820000" y="2692440"/>
            <a:ext cx="3549960" cy="354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757080" y="4436640"/>
            <a:ext cx="78501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5164200" cy="341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3 0.04441 C -0.10764 0.04047 -0.11475 0.03169 -0.11979 0.02845 C -0.13177 0.02082 -0.14566 0.01804 -0.1585 0.01665 C -0.17066 0.01318 -0.18246 0.00879 -0.19444 0.00463 C -0.20555 0.00717 -0.21614 0.01157 -0.22725 0.01457 C -0.2375 0.02382 -0.24826 0.02706 -0.26007 0.03238 C -0.26302 0.03377 -0.26649 0.03423 -0.26909 0.03654 C -0.27048 0.03793 -0.27187 0.03955 -0.27343 0.04047 C -0.27534 0.04163 -0.28767 0.04417 -0.28836 0.04441 C -0.30225 0.04302 -0.31146 0.04047 -0.3243 0.03654 C -0.33038 0.03076 -0.33646 0.02706 -0.34357 0.02452 C -0.34896 0.01781 -0.35625 0.01897 -0.36302 0.01457 C -0.37361 0.01665 -0.3743 0.01712 -0.3809 0.0266 C -0.38941 0.05805 -0.41927 0.06175 -0.44062 0.06429 C -0.45086 0.06892 -0.43836 0.0636 -0.45555 0.06823 C -0.4651 0.07077 -0.47413 0.07609 -0.48385 0.07817 C -0.50885 0.08973 -0.5335 0.06938 -0.5526 0.09621 C -0.55642 0.11009 -0.5526 0.11425 -0.56458 0.11795 C -0.56944 0.12211 -0.57205 0.12396 -0.57795 0.12396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5"/>
          <p:cNvSpPr/>
          <p:nvPr/>
        </p:nvSpPr>
        <p:spPr>
          <a:xfrm flipV="1">
            <a:off x="179280" y="6858000"/>
            <a:ext cx="86756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072120" y="65736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www.playing-field.ru/img/2015/052203/1841722"/>
          <p:cNvPicPr/>
          <p:nvPr/>
        </p:nvPicPr>
        <p:blipFill>
          <a:blip r:embed="rId1"/>
          <a:stretch/>
        </p:blipFill>
        <p:spPr>
          <a:xfrm>
            <a:off x="857160" y="333360"/>
            <a:ext cx="8293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iStock_000004496909Small.jpg"/>
          <p:cNvPicPr/>
          <p:nvPr/>
        </p:nvPicPr>
        <p:blipFill>
          <a:blip r:embed="rId1"/>
          <a:srcRect l="9068" t="4295" r="22328" b="2846"/>
          <a:stretch/>
        </p:blipFill>
        <p:spPr>
          <a:xfrm>
            <a:off x="-757080" y="189000"/>
            <a:ext cx="3857400" cy="473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500200" y="0"/>
            <a:ext cx="599148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schleich_13665_schleich_zreb_5142.jpg"/>
          <p:cNvPicPr/>
          <p:nvPr/>
        </p:nvPicPr>
        <p:blipFill>
          <a:blip r:embed="rId2"/>
          <a:stretch/>
        </p:blipFill>
        <p:spPr>
          <a:xfrm>
            <a:off x="4932360" y="2997360"/>
            <a:ext cx="34941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79 0.13136 C 0.18594 0.12026 0.17761 0.12604 0.2066 0.12928 C 0.22049 0.13089 0.23455 0.13298 0.24844 0.13529 C 0.2632 0.1413 0.27778 0.14616 0.29167 0.15518 C 0.29427 0.15703 0.30157 0.15842 0.30365 0.15911 C 0.31823 0.1642 0.33282 0.17183 0.34688 0.179 C 0.35521 0.18316 0.36476 0.179 0.37379 0.179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e10231178449.jpg"/>
          <p:cNvPicPr/>
          <p:nvPr/>
        </p:nvPicPr>
        <p:blipFill>
          <a:blip r:embed="rId1"/>
          <a:stretch/>
        </p:blipFill>
        <p:spPr>
          <a:xfrm>
            <a:off x="395280" y="1474920"/>
            <a:ext cx="4799160" cy="390672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06.jpg"/>
          <p:cNvPicPr/>
          <p:nvPr/>
        </p:nvPicPr>
        <p:blipFill>
          <a:blip r:embed="rId2"/>
          <a:srcRect l="12784" t="6142" r="17000" b="4728"/>
          <a:stretch/>
        </p:blipFill>
        <p:spPr>
          <a:xfrm>
            <a:off x="5000760" y="3571920"/>
            <a:ext cx="28573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8:32:07Z</dcterms:created>
  <dc:creator>Samsung</dc:creator>
  <dc:description/>
  <dc:language>en-US</dc:language>
  <cp:lastModifiedBy>Огонёк 9</cp:lastModifiedBy>
  <dcterms:modified xsi:type="dcterms:W3CDTF">2016-11-08T09:15:33Z</dcterms:modified>
  <cp:revision>32</cp:revision>
  <dc:subject/>
  <dc:title>Мамы и малыши</dc:title>
</cp:coreProperties>
</file>