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164CBE-65E6-4630-B0AB-AE68472AC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FFF1BC-8A03-4D5E-A894-06283AA9DD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14B-2486-446D-8238-C62D8A51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7E3C-EBC6-4CE8-A728-B15EF40B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EA1-FA35-44BD-8570-E308EBA8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8EB9-0A76-42CF-B621-6065143A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A5F3-EFED-4E08-90E4-70BB323D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E646-A612-465A-9ED2-C430A647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413B-3AA2-4BA1-AC4D-5C856618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AC92-9DAE-453E-A066-2175A5D0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9BBC-977D-4540-995D-B359CE49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472C-AE0B-44CC-8F0C-94E50CFF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9558-1E25-4A84-AFBC-CEC564E9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A3E-E067-4A37-8F8A-A31FABE5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8051-2B0C-44C0-B8F4-223ED6C9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FAA8-2A25-472B-81C1-D693890C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247B-71CC-4888-946D-1ADE97CF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EC7E-895A-45DC-9429-C3591D7D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866A-5573-4D00-A680-5735F093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444D4-C362-4213-9BBD-901940B5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63859-4EF4-4446-98F3-8CA72E50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20F49-926E-498B-AA45-8997C3F0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9F23F-C38E-4107-AE05-D8215D9E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2C5B4-162A-4DF4-9CA4-E2377E61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085-6560-4042-82C5-08C4C45F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BAB4D-E5BA-474D-A61A-E075B2DE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2923C-B974-40E2-9B7A-E7270B35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CE334-4D98-4BF0-A711-C4E88485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5C19D-9003-4316-B457-82F11F2C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ADE3B-88C5-4D54-BAF3-DCAE2AE7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0F8AA-F141-41FF-993A-25CB9F25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9488B-3C6E-4DE7-94CE-8F9EF46C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455-FC22-4DC2-AD94-3D2D46B5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DAF4-61C8-4D4C-8BEF-E502F6AA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0A4-7947-4E92-8132-D3FB3469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2AF-453E-43C4-B7DB-48D8ED74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B8BE-C6A7-40AE-9B6E-54BB2017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1F5-4745-4B84-92AD-BE22F745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C2EE04-7D64-4E0A-9A95-98EC9298BABB}" type="slidenum">
              <a:rPr b="0" lang="ru-RU" sz="1200" spc="-1" strike="noStrike">
                <a:solidFill>
                  <a:srgbClr val="03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7852AD-BFEC-48E2-94BE-90EF0C223450}" type="slidenum">
              <a:rPr b="0" lang="ru-RU" sz="1200" spc="-1" strike="noStrike">
                <a:solidFill>
                  <a:srgbClr val="03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284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6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2742840" cy="45716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body"/>
          </p:nvPr>
        </p:nvSpPr>
        <p:spPr>
          <a:xfrm>
            <a:off x="3575160" y="1676520"/>
            <a:ext cx="511128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51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7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26568D-1CC1-4CE1-A048-580796274C68}" type="slidenum">
              <a:rPr b="0" lang="ru-RU" sz="1200" spc="-1" strike="noStrike">
                <a:solidFill>
                  <a:srgbClr val="03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0" y="1097640"/>
            <a:ext cx="9143640" cy="435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-класс для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недрению в образователь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 В.В. Воскобовича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 Шихсаидова П.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Заголовок 1"/>
          <p:cNvSpPr/>
          <p:nvPr/>
        </p:nvSpPr>
        <p:spPr>
          <a:xfrm>
            <a:off x="1619640" y="4869000"/>
            <a:ext cx="5832360" cy="11426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ОКО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C:\Users\Forester\Desktop\Фото воскобович\20200629_105822.jpg"/>
          <p:cNvPicPr/>
          <p:nvPr/>
        </p:nvPicPr>
        <p:blipFill>
          <a:blip r:embed="rId1"/>
          <a:stretch/>
        </p:blipFill>
        <p:spPr>
          <a:xfrm>
            <a:off x="3348000" y="836640"/>
            <a:ext cx="2376000" cy="4224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C:\Users\Forester\Desktop\Фото воскобович\20200629_113034.jpg"/>
          <p:cNvPicPr/>
          <p:nvPr/>
        </p:nvPicPr>
        <p:blipFill>
          <a:blip r:embed="rId2"/>
          <a:stretch/>
        </p:blipFill>
        <p:spPr>
          <a:xfrm>
            <a:off x="6156000" y="764640"/>
            <a:ext cx="2860200" cy="5085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:\Users\Forester\Desktop\Фото воскобович\20200629_113050.jpg"/>
          <p:cNvPicPr/>
          <p:nvPr/>
        </p:nvPicPr>
        <p:blipFill>
          <a:blip r:embed="rId3"/>
          <a:stretch/>
        </p:blipFill>
        <p:spPr>
          <a:xfrm flipH="1">
            <a:off x="252000" y="908640"/>
            <a:ext cx="2780280" cy="47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Заголовок 1"/>
          <p:cNvSpPr/>
          <p:nvPr/>
        </p:nvSpPr>
        <p:spPr>
          <a:xfrm>
            <a:off x="5076000" y="4797000"/>
            <a:ext cx="3812760" cy="11426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НАКО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СТРУКТ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C:\Users\Forester\Desktop\Фото воскобович\20200625_094128.jpg"/>
          <p:cNvPicPr/>
          <p:nvPr/>
        </p:nvPicPr>
        <p:blipFill>
          <a:blip r:embed="rId1"/>
          <a:stretch/>
        </p:blipFill>
        <p:spPr>
          <a:xfrm>
            <a:off x="1043640" y="692640"/>
            <a:ext cx="3312000" cy="5888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Users\Forester\Desktop\Фото воскобович\20200625_094146.jpg"/>
          <p:cNvPicPr/>
          <p:nvPr/>
        </p:nvPicPr>
        <p:blipFill>
          <a:blip r:embed="rId2"/>
          <a:stretch/>
        </p:blipFill>
        <p:spPr>
          <a:xfrm>
            <a:off x="5652000" y="836640"/>
            <a:ext cx="2403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Заголовок 1"/>
          <p:cNvSpPr/>
          <p:nvPr/>
        </p:nvSpPr>
        <p:spPr>
          <a:xfrm>
            <a:off x="3924000" y="548640"/>
            <a:ext cx="4685400" cy="11426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ГРОВЫЕ КВАДРА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C:\Users\Forester\Desktop\Фото воскобович\20200625_093733.jpg"/>
          <p:cNvPicPr/>
          <p:nvPr/>
        </p:nvPicPr>
        <p:blipFill>
          <a:blip r:embed="rId1"/>
          <a:stretch/>
        </p:blipFill>
        <p:spPr>
          <a:xfrm>
            <a:off x="611640" y="1052640"/>
            <a:ext cx="3022200" cy="5400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2"/>
          <a:stretch/>
        </p:blipFill>
        <p:spPr>
          <a:xfrm>
            <a:off x="5292000" y="1412640"/>
            <a:ext cx="3172680" cy="514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Users\Forester\Desktop\Фото воскобович\20200625_093750.jpg"/>
          <p:cNvPicPr/>
          <p:nvPr/>
        </p:nvPicPr>
        <p:blipFill>
          <a:blip r:embed="rId1"/>
          <a:stretch/>
        </p:blipFill>
        <p:spPr>
          <a:xfrm>
            <a:off x="1115640" y="908640"/>
            <a:ext cx="3024000" cy="540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Users\Forester\Desktop\Фото воскобович\20200625_093814.jpg"/>
          <p:cNvPicPr/>
          <p:nvPr/>
        </p:nvPicPr>
        <p:blipFill>
          <a:blip r:embed="rId2"/>
          <a:stretch/>
        </p:blipFill>
        <p:spPr>
          <a:xfrm>
            <a:off x="5004000" y="836640"/>
            <a:ext cx="3028320" cy="53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Users\Forester\Desktop\Фото воскобович\20200625_094337.jpg"/>
          <p:cNvPicPr/>
          <p:nvPr/>
        </p:nvPicPr>
        <p:blipFill>
          <a:blip r:embed="rId1"/>
          <a:stretch/>
        </p:blipFill>
        <p:spPr>
          <a:xfrm>
            <a:off x="467640" y="1556640"/>
            <a:ext cx="3600000" cy="4968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Users\Forester\Desktop\Фото воскобович\20200629_112832.jpg"/>
          <p:cNvPicPr/>
          <p:nvPr/>
        </p:nvPicPr>
        <p:blipFill>
          <a:blip r:embed="rId2"/>
          <a:stretch/>
        </p:blipFill>
        <p:spPr>
          <a:xfrm>
            <a:off x="5364000" y="1484640"/>
            <a:ext cx="3240000" cy="4679640"/>
          </a:xfrm>
          <a:prstGeom prst="rect">
            <a:avLst/>
          </a:prstGeom>
          <a:ln w="0">
            <a:noFill/>
          </a:ln>
        </p:spPr>
      </p:pic>
      <p:sp>
        <p:nvSpPr>
          <p:cNvPr id="191" name="TextBox 3"/>
          <p:cNvSpPr/>
          <p:nvPr/>
        </p:nvSpPr>
        <p:spPr>
          <a:xfrm>
            <a:off x="1187640" y="548640"/>
            <a:ext cx="6768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Коврограф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2"/>
          <p:cNvSpPr/>
          <p:nvPr/>
        </p:nvSpPr>
        <p:spPr>
          <a:xfrm>
            <a:off x="2267640" y="764640"/>
            <a:ext cx="5400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ШНУР-ЗАТЕЙ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C:\Users\Forester\Desktop\Фото воскобович\20200629_105910.jpg"/>
          <p:cNvPicPr/>
          <p:nvPr/>
        </p:nvPicPr>
        <p:blipFill>
          <a:blip r:embed="rId1"/>
          <a:stretch/>
        </p:blipFill>
        <p:spPr>
          <a:xfrm>
            <a:off x="1043640" y="1340640"/>
            <a:ext cx="2808000" cy="4992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C:\Users\Forester\Desktop\Фото воскобович\20200629_112639.jpg"/>
          <p:cNvPicPr/>
          <p:nvPr/>
        </p:nvPicPr>
        <p:blipFill>
          <a:blip r:embed="rId2"/>
          <a:stretch/>
        </p:blipFill>
        <p:spPr>
          <a:xfrm>
            <a:off x="5220000" y="1340640"/>
            <a:ext cx="2952000" cy="49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827640" y="1197720"/>
            <a:ext cx="7704360" cy="4479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, пожалуйста, свои впечатления от технологии «Сказочные лабиринты игры», развивающие игры В.В.Воскобовича. Поставьте цветную точку в выбранный сектор на коврограф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 (к.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ехнологию уже использую в работе, знаю игры хорош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ь (з.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Больше эмоций, чем мыслей, надо все обдумать, возможно буду использовать технолог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к (с.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ехнологию  уже использую,  но необходимо расширять свои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 (ж.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чень интересная технология, обязательно буду использовать в своей прак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179640" y="986400"/>
            <a:ext cx="8568720" cy="118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комство с игровой развивающей технологией В.В.  Воскобовича  и ее   применением в разных видах деятельности  в детском с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51640" y="2205000"/>
            <a:ext cx="849672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высить мотивацию педагогов к использованию развивающих игр в образовательной деятельности Д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казать практическую значимость игровых комплектов «Сказочные лабиринты игры» В. В. Воскобовича, а так же предметно-развивающей среды «Фиолетовый лес», познакомить с  методикой их пр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азвитие творческой активности педаг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179640" y="792000"/>
            <a:ext cx="8676000" cy="5577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2286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дущей деятельностью детей дошкольного возраста является игра. При правильной организации игра создает условия для развития физических, интеллектуальных и личностных качеств ребенка, формированию предпосылок учебной деятельности и обеспечению социальной успешности дошкольника.  И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гры учат детей действовать </a:t>
            </a:r>
            <a:r>
              <a:rPr b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в уме»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и </a:t>
            </a:r>
            <a:r>
              <a:rPr b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мыслить»,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а это в свою очередь раскрепощает воображение, развивает творческие возможности и способности. Игры В.В. Воскобовича не зря называются Лабиринтами. Все они постепенно усложняются, поддерживая детскую деятельность в зоне оптимальной трудности. Каждая игра направлена на получение конкретного результата, который малыш имеет возможность наблюдать и гордиться им в конц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54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</a:rPr>
              <a:t>Значение развивающих игр Воскобовича</a:t>
            </a:r>
            <a:r>
              <a:rPr b="0" lang="ru-RU" sz="2800" spc="-1" strike="noStrike">
                <a:solidFill>
                  <a:srgbClr val="04617b"/>
                </a:solidFill>
                <a:latin typeface="Times New Roman"/>
              </a:rPr>
              <a:t>.</a:t>
            </a: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Times New Roman"/>
              </a:rPr>
              <a:t> </a:t>
            </a:r>
            <a:br>
              <a:rPr sz="50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323640" y="976320"/>
            <a:ext cx="8517240" cy="59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витие у ребенка познавательного интереса, желания и потребности узнать новое.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тие наблюдательности, исследовательского подхода к явлениям и объектам окружающей действительности.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витие воображения, креативности мышления (умение гибко, оригинально мыслить, видеть обыкновенный объект под новым углом зрения).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армоничное, сбалансированное развитие у детей эмоционально-образного и логического нач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Формирование базисных представлений (об окружающем мире, математических, речевых умен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</a:pPr>
            <a:r>
              <a:rPr b="0" lang="ru-RU" sz="2400" spc="-1" strike="noStrike">
                <a:solidFill>
                  <a:srgbClr val="01010d"/>
                </a:solidFill>
                <a:latin typeface="Times New Roman"/>
                <a:ea typeface="Times New Roman"/>
              </a:rPr>
              <a:t>6. Развитие мелкой моторики и всех психических проце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1"/>
              </a:lnSpc>
              <a:spcBef>
                <a:spcPts val="751"/>
              </a:spcBef>
              <a:spcAft>
                <a:spcPts val="751"/>
              </a:spcAf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240" cy="135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5000" bIns="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Особенности</a:t>
            </a:r>
            <a:r>
              <a:rPr b="1" lang="ru-RU" sz="50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развивающих</a:t>
            </a:r>
            <a:r>
              <a:rPr b="1" lang="ru-RU" sz="50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игр В.В.Воскобовича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49200" y="1773360"/>
            <a:ext cx="7894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6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ы разработаны исходя из интересов детей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. Широкий возрастной диапазон.</a:t>
            </a:r>
            <a:endParaRPr b="0" lang="ru-RU" sz="3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3. Многофункциональность и универсальность.</a:t>
            </a:r>
            <a:endParaRPr b="0" lang="ru-RU" sz="3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4. Систематизированный по возрастам и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бразовательным задачам готовый    развивающий дидактический материал.</a:t>
            </a:r>
            <a:endParaRPr b="0" lang="ru-RU" sz="3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5. Методическое сопровождение. </a:t>
            </a:r>
            <a:endParaRPr b="0" lang="ru-RU" sz="3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6. Вариативность игровых заданий и  упражнений.</a:t>
            </a:r>
            <a:endParaRPr b="0" lang="ru-RU" sz="3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640" y="83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 fontScale="67000"/>
          </a:bodyPr>
          <a:p>
            <a:pPr indent="0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04617b"/>
                </a:solidFill>
                <a:latin typeface="Times New Roman"/>
              </a:rPr>
              <a:t>Разнообразие игр В.В.Воскобовича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:\Users\Forester\Desktop\Фото воскобович\20200629_105844.jpg"/>
          <p:cNvPicPr/>
          <p:nvPr/>
        </p:nvPicPr>
        <p:blipFill>
          <a:blip r:embed="rId1"/>
          <a:stretch/>
        </p:blipFill>
        <p:spPr>
          <a:xfrm>
            <a:off x="395640" y="1917000"/>
            <a:ext cx="2808000" cy="4671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Users\Forester\Desktop\Фото воскобович\20200629_105903.jpg"/>
          <p:cNvPicPr/>
          <p:nvPr/>
        </p:nvPicPr>
        <p:blipFill>
          <a:blip r:embed="rId2"/>
          <a:stretch/>
        </p:blipFill>
        <p:spPr>
          <a:xfrm>
            <a:off x="3276000" y="1917000"/>
            <a:ext cx="2664000" cy="4687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3"/>
          <a:stretch/>
        </p:blipFill>
        <p:spPr>
          <a:xfrm>
            <a:off x="6012000" y="1917000"/>
            <a:ext cx="2808000" cy="4680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1" descr=""/>
          <p:cNvPicPr/>
          <p:nvPr/>
        </p:nvPicPr>
        <p:blipFill>
          <a:blip r:embed="rId1"/>
          <a:stretch/>
        </p:blipFill>
        <p:spPr>
          <a:xfrm>
            <a:off x="4655160" y="1556640"/>
            <a:ext cx="4352760" cy="3407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58" name="Рисунок 5" descr=""/>
          <p:cNvPicPr/>
          <p:nvPr/>
        </p:nvPicPr>
        <p:blipFill>
          <a:blip r:embed="rId2"/>
          <a:stretch/>
        </p:blipFill>
        <p:spPr>
          <a:xfrm>
            <a:off x="118080" y="3127680"/>
            <a:ext cx="4444560" cy="3327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59" name="Прямоугольник 2"/>
          <p:cNvSpPr/>
          <p:nvPr/>
        </p:nvSpPr>
        <p:spPr>
          <a:xfrm>
            <a:off x="0" y="1124640"/>
            <a:ext cx="51645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звивающая сре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ФИОЛЕТОВЫЙ  ЛЕС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11" descr=""/>
          <p:cNvPicPr/>
          <p:nvPr/>
        </p:nvPicPr>
        <p:blipFill>
          <a:blip r:embed="rId1"/>
          <a:stretch/>
        </p:blipFill>
        <p:spPr>
          <a:xfrm>
            <a:off x="7422120" y="664560"/>
            <a:ext cx="1685160" cy="2060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61" name="Рисунок 12" descr=""/>
          <p:cNvPicPr/>
          <p:nvPr/>
        </p:nvPicPr>
        <p:blipFill>
          <a:blip r:embed="rId2"/>
          <a:stretch/>
        </p:blipFill>
        <p:spPr>
          <a:xfrm>
            <a:off x="4500720" y="5190120"/>
            <a:ext cx="1860840" cy="15552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62" name="Рисунок 15" descr=""/>
          <p:cNvPicPr/>
          <p:nvPr/>
        </p:nvPicPr>
        <p:blipFill>
          <a:blip r:embed="rId3"/>
          <a:stretch/>
        </p:blipFill>
        <p:spPr>
          <a:xfrm>
            <a:off x="2673000" y="5150160"/>
            <a:ext cx="1667160" cy="15552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63" name="Рисунок 16" descr=""/>
          <p:cNvPicPr/>
          <p:nvPr/>
        </p:nvPicPr>
        <p:blipFill>
          <a:blip r:embed="rId4"/>
          <a:stretch/>
        </p:blipFill>
        <p:spPr>
          <a:xfrm>
            <a:off x="5581800" y="29520"/>
            <a:ext cx="1480320" cy="19742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64" name="Рисунок 18" descr=""/>
          <p:cNvPicPr/>
          <p:nvPr/>
        </p:nvPicPr>
        <p:blipFill>
          <a:blip r:embed="rId5"/>
          <a:stretch/>
        </p:blipFill>
        <p:spPr>
          <a:xfrm>
            <a:off x="3608280" y="77760"/>
            <a:ext cx="1551960" cy="1926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65" name="Рисунок 19" descr=""/>
          <p:cNvPicPr/>
          <p:nvPr/>
        </p:nvPicPr>
        <p:blipFill>
          <a:blip r:embed="rId6"/>
          <a:stretch/>
        </p:blipFill>
        <p:spPr>
          <a:xfrm>
            <a:off x="6516360" y="5093640"/>
            <a:ext cx="2625120" cy="176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66" name="Рисунок 20" descr=""/>
          <p:cNvPicPr/>
          <p:nvPr/>
        </p:nvPicPr>
        <p:blipFill>
          <a:blip r:embed="rId7"/>
          <a:stretch/>
        </p:blipFill>
        <p:spPr>
          <a:xfrm>
            <a:off x="1603440" y="110160"/>
            <a:ext cx="1591920" cy="18118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67" name="Рисунок 21" descr=""/>
          <p:cNvPicPr/>
          <p:nvPr/>
        </p:nvPicPr>
        <p:blipFill>
          <a:blip r:embed="rId8"/>
          <a:stretch/>
        </p:blipFill>
        <p:spPr>
          <a:xfrm>
            <a:off x="82080" y="1030680"/>
            <a:ext cx="1485360" cy="2031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68" name="Рисунок 22" descr=""/>
          <p:cNvPicPr/>
          <p:nvPr/>
        </p:nvPicPr>
        <p:blipFill>
          <a:blip r:embed="rId9"/>
          <a:stretch/>
        </p:blipFill>
        <p:spPr>
          <a:xfrm>
            <a:off x="7353720" y="2849760"/>
            <a:ext cx="1686960" cy="2007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69" name="Рисунок 23" descr=""/>
          <p:cNvPicPr/>
          <p:nvPr/>
        </p:nvPicPr>
        <p:blipFill>
          <a:blip r:embed="rId10"/>
          <a:stretch/>
        </p:blipFill>
        <p:spPr>
          <a:xfrm>
            <a:off x="-51480" y="3105360"/>
            <a:ext cx="1681200" cy="2044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70" name="Рисунок 25" descr=""/>
          <p:cNvPicPr/>
          <p:nvPr/>
        </p:nvPicPr>
        <p:blipFill>
          <a:blip r:embed="rId11"/>
          <a:stretch/>
        </p:blipFill>
        <p:spPr>
          <a:xfrm>
            <a:off x="642240" y="5093640"/>
            <a:ext cx="1850040" cy="1719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71" name="Прямоугольник 39"/>
          <p:cNvSpPr/>
          <p:nvPr/>
        </p:nvSpPr>
        <p:spPr>
          <a:xfrm>
            <a:off x="1378080" y="2046240"/>
            <a:ext cx="62337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поскольку дети особенно в младшем возрас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сё воспринимают нагляд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 красочные  персонажи фиолетового леса будут как нельзя кста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Заголовок 1"/>
          <p:cNvSpPr/>
          <p:nvPr/>
        </p:nvSpPr>
        <p:spPr>
          <a:xfrm>
            <a:off x="0" y="620640"/>
            <a:ext cx="8989920" cy="5979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рабл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251640" y="1917000"/>
            <a:ext cx="3744000" cy="4764960"/>
          </a:xfrm>
          <a:prstGeom prst="rect">
            <a:avLst/>
          </a:prstGeom>
          <a:ln w="9525">
            <a:noFill/>
          </a:ln>
        </p:spPr>
      </p:pic>
      <p:pic>
        <p:nvPicPr>
          <p:cNvPr id="174" name="Picture 6" descr="C:\Users\Forester\Desktop\Фото воскобович\20200625_094006.jpg"/>
          <p:cNvPicPr/>
          <p:nvPr/>
        </p:nvPicPr>
        <p:blipFill>
          <a:blip r:embed="rId2"/>
          <a:stretch/>
        </p:blipFill>
        <p:spPr>
          <a:xfrm>
            <a:off x="5220000" y="1628640"/>
            <a:ext cx="3312000" cy="50817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3"/>
          <p:cNvSpPr/>
          <p:nvPr/>
        </p:nvSpPr>
        <p:spPr>
          <a:xfrm>
            <a:off x="1115640" y="1412640"/>
            <a:ext cx="266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люх-плю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6012000" y="1196640"/>
            <a:ext cx="194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рызг-брыз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2525</TotalTime>
  <Application>LibreOffice/7.4.7.2$Linux_X86_64 LibreOffice_project/40$Build-2</Application>
  <AppVersion>15.0000</AppVersion>
  <Words>341</Words>
  <Paragraphs>5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orester</cp:lastModifiedBy>
  <dcterms:modified xsi:type="dcterms:W3CDTF">2020-07-22T15:19:07Z</dcterms:modified>
  <cp:revision>3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6</vt:r8>
  </property>
</Properties>
</file>