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33B-1A87-4982-8335-F11DA020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80C-3C38-41E2-B29C-DC33775A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BC5-D94C-4D87-8C82-07FAD222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393-4E61-4FD5-B0DA-0A65B94D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7A8-2103-4764-BA22-5FD3027E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6CE-9411-4517-954C-B856407A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50A-F9C7-4FB4-ACFD-485AF836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F46-A6F4-4F3D-AD3F-7F688B11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B7A-05BC-48E8-97DD-F5C6CF9D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990-5A94-433B-B850-549460B1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A26-4006-4E8B-BB8F-8E3E8FE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6D3-9904-4BB6-A392-71BD2A1A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B8E8-7446-4D3F-88C6-A12D0F4E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Морские</a:t>
            </a:r>
            <a:br>
              <a:rPr sz="9600"/>
            </a:b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жител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5216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сьми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26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рская 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334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ст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5661000"/>
            <a:ext cx="565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утил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р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93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64000" y="259920"/>
            <a:ext cx="34927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р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м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орал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250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708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Море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7340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ем обитают тысячи удивительных су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ли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940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ко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елая ак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905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кула-мо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000" y="5877000"/>
            <a:ext cx="59324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Яркие ры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252360" y="0"/>
            <a:ext cx="1008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6360" y="-360"/>
            <a:ext cx="475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к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8:44:32Z</dcterms:created>
  <dc:creator>Инна</dc:creator>
  <dc:description/>
  <dc:language>en-US</dc:language>
  <cp:lastModifiedBy>Инна</cp:lastModifiedBy>
  <dcterms:modified xsi:type="dcterms:W3CDTF">2004-12-19T19:34:39Z</dcterms:modified>
  <cp:revision>6</cp:revision>
  <dc:subject/>
  <dc:title>Слайд 1</dc:title>
</cp:coreProperties>
</file>