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media/image10.jpeg" ContentType="image/jpe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9E44-50D0-427F-BC90-2409ABF18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0446-E60A-4CA8-A5A5-7B5A90194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829966-BFA6-441C-ACC2-69F0334F2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D68EC3-960C-4D74-AEFD-844F7E89C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3CF4E7-4A94-45F8-8C9F-82EA506D6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EE7D8C-8CA3-4DAE-AA10-E07FA93CE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A0F61D-879C-4A79-A085-74BA69F1C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5A18DD-65B5-4094-A352-A1BBFCBCE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DE38D4-EAE2-48C1-B956-378287742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DC7C2F-75F5-4CF3-A348-D6C40F001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F06EAA-4086-43ED-B749-55D251201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C85FD3-2165-401E-B6B1-38118BC7A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ED5D-F41B-469E-A3F6-890B641B4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B873ED-0C8A-4828-90A6-BCD07A092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D3CF9A-2D4C-444C-8097-AC9846D6C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0C9C3A-DE28-4EB7-8B9C-677AA2FC5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D2DC23-E2AF-4C89-A0C2-44D966680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9C08D0-4FB1-4739-AC64-AAF549E64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066201-E816-4352-AC4A-9549AB27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48202B-1C77-45E1-8AA4-AB1B08032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5FF390-B8A3-4F2C-BD36-C58870B6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FB96B3-1DB7-4AE5-82C8-A00DCCFEB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D862AA-CC47-4447-B6D6-7B3555685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6E19-3B07-4001-852E-84C1C8139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EA00B6-8A2C-4DAD-92A5-D63D41110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508492-62E5-4FC1-AC61-9FF2AEC97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AB65C8-A3A8-4DC1-A5C9-A4B039EE5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0C86D0-A023-409D-97F8-3441D5086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9DBA7E-920A-4B94-B68B-64523D930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B3D500-1A46-4E9E-B492-1599BCB35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54897C-1C44-4CDA-A998-8D264D9AF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50A2FA-21B8-43F5-B19E-54B80AEB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BEAAF8-F870-4063-88B5-82CA56C8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D9D8F5-4A8B-4BA2-A841-4EF329BE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9F89F-8EF2-4A17-A505-5E7CF9AB3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9A2CED-A2F9-4A21-995D-DB0905924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BE481F-3923-45F7-85F0-DED36A053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1837DD-C4BD-488E-A715-53AE0219A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CF72A9-AD0E-4FDA-9500-B171DB8B2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64948B-9C4D-46EF-902A-B1F460AD3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E1EC93-9690-49BA-938D-7DFA6236F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8F9ED3-ED09-44E4-B80B-3B1B8B5C4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2148BF-701C-46E9-A895-4B8CFFC3B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A715AA-BDEA-48E4-88CC-2EB6CBF3D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685151-FB4C-4863-B0C6-28E2CA3C6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AF77E-B618-450B-A9AA-513A5D029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4710CB-1C55-4310-B46E-F54AD7CB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164184-7F03-496C-94AA-36890A2C3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8D1A1D-2461-435E-A82D-38923F863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421D37-84E4-4C0A-AD6F-766DF9A4A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E1D1CE-62F7-4042-B9A2-54983B3B3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061AEF-93D6-4C37-BFD3-55BEB1D08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44C403-F351-4EAC-B5FA-11AEBF847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C3BDC7-4F57-4BB2-A7FA-9F63B2854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684254-86CD-49EE-B65B-A91CC4D16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018BA6-7890-44C6-BF50-FC8FFC2BF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5E2CC-7F21-4723-9612-6D1EC9537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152CE9-5149-4B28-929F-3D42CEB13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D25722-D253-4D65-B1B7-FA0177833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252C47-FC99-4640-8880-C4ABDCFF4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C49821-2E38-4018-80B1-9993BED8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98E263-AF3F-4A63-BBBE-024ECC28B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048B2A-D75B-4581-9615-716C71465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10CBA2-C936-4DE4-AD5A-50021D7AA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2A89D6-8BDC-4B4D-AE1F-16018AC56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8EEC92-1A39-48A9-817F-ED973401C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0CEDDB-9666-4ADA-9937-1DE1AA133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2DDC9-AB30-40E3-8683-F755758D0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3AEB76-D950-4BE2-8E9D-A9F5474A1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AFBAA9-DCA0-41A3-95A3-D1D05CEB8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AE511B-F0A3-4235-B87E-0015442A2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066160-9A43-40A5-B758-712A236B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0606C1-9AEE-4741-8C6E-6CB158A5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50418F-DAAA-4878-B823-0CDA58163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5DF62F-DD31-4EC8-9332-83E9EA340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B01F79-B102-460A-895B-90B92D5EB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B1C380-AE98-4DBE-BA16-35AE2F061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2AB480-DAFA-4364-9159-AA5420EFE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C9B89-64A9-42FD-9AD8-76D7CE240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B071DB-9AB7-45C8-BD35-D0857EE15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DC5944-63FF-40E9-AB4D-464B4E1A5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6A3668-F525-42CC-B107-529F48146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8BD358-9AF6-4C35-8FD2-6E00DDFEB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E014CB-472E-461E-8559-4F8A09A3B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56B9A2-3EA1-405E-B5B0-397402B3E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BE7E3C-E52D-4AE1-BFC6-5F9F3F13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754FE7-7C2C-4711-9175-8DB27F7A3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6F59CE-7FFE-4354-828A-859B3CAAF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4EB372-3C89-4491-B19A-997157088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F9BD8-D1C2-43BD-83A3-1E363BC93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CBEF1A-770E-441A-BD48-943C58FCC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ED0E73-825F-4EBB-98BD-B77FEBA60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57FF59-1A52-4262-A0FE-4D2395293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BD9015-E89E-4F13-8BEB-F9CA48DE3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C9FFD5-068E-401C-B7D0-F3D1DCDA6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A6A385-4476-4D26-9C5E-8E05ECB55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532887-6A76-46C2-8604-6DFF65288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0B3AD0-9240-4DC4-9DAC-7D9F99618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C005F0-714E-429C-937E-2F2E413A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1F8319-EF87-4372-9C5D-B61A54582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39242-C154-4A46-9E1A-E795FDE95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623375-C3DD-4334-ABAD-D4EA95F23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843BD1-E50B-43F8-8F9F-1F99CAC7F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2374E8-36C3-4F91-A522-D289C2E51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45D385-53AF-48DC-B6A1-17A6A338D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406AB4-6090-420D-A463-09693F6E1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7AB63B-D64E-4808-861B-E2DF5CF27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AAD25A-C4D1-4F02-99AD-C8C5A7CBD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37B7A5-C078-4954-910B-701897A93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3B2B6E-3143-43A5-AD5A-FC2BF275D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B88A03-FA1E-4A50-B72F-4D9842405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91A7-6212-4C4D-8A17-56858E660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5BC17-AED9-4B3A-8D22-94BD6BD36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C06500-BFD6-457E-A2DC-FF4D084E6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EC7F88-374D-4301-B50E-0AC1A7BD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4A43B0-5B1C-448A-A483-C5501EEF4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756D95-E72C-495A-9ADF-DE33A3B5C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07764E-4AE0-44F8-B560-4EB6A9C53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40233D-BBC5-40BB-99D7-E0913AD1B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95188A-2BB4-4DCB-BDBD-CFBC18CE3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031B60-ACF4-433A-9ED9-C77BA0498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B1BEAF-9842-4EEF-B283-5CDC6A0D9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EAA718-0D14-430D-B54F-B1E1E8607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CFED5-D191-4389-884A-CF33A332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B50737-1147-4596-9FD9-75AE05945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9A5E94-A528-4B7A-AFED-E7B238B9C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FD95FE-3F63-45BC-84F7-DFC6B1ED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2EBF59-6783-4264-B558-E0837507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6B1CBD-0EA8-43E2-9359-58EC29F92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619E2F-D93C-4538-B64E-93CE15EBE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94865D-1529-4246-98F2-BDA3F33BA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B60FD-6648-4DE1-9ED8-75ADAA263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397C6-A147-4AC0-AE09-B3649D27D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44A20-DE10-4DD3-BBEA-6B4CD1AB4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D7801-EC74-47A9-AAA0-1FBB6B1C2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7A7C6-4ADD-49E0-AAA8-AF94B1200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132E6-9907-4D04-8D21-85FA7C1D1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E8843-289E-4106-92E7-E846BAFCB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BB7DF-07E9-4D09-9107-A5FBF6354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2474-6F36-458D-ADCE-5B7924633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C04F5-7355-4CBD-BE47-FBF3B49E7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D1AED-C2FC-4043-A349-06E059772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6B655-8FC4-4A33-8768-AD4FE366D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EA06E-4AF3-41E5-BBCE-965C5860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E8EF0-28AA-4AA6-B254-09C1306E9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7D1B1-B2ED-45CB-AC4C-9E1700D0E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C97CF-A797-4BC7-A01F-F20E832FC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7BCC6-13ED-4E18-9368-28609375A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05CFE-52B8-4ACC-979A-DEF4BC6B5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9664A-CD05-4F0E-9B9B-19678A96D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C638-85F9-46E0-8A8D-A67C27AA0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D0D96-812D-496B-BF69-838E4D4BC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17F4D-43BC-4DA7-B4BF-9C7AC59D7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461C2-1957-4BB4-9765-A6EE7D14C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CC5C9-3B84-4161-886A-E39055D4D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AABC9-740E-40C1-B851-417B8E3F2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238DF-5A80-49B0-BC36-AE04FA17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AA1FD-75E1-4EA8-B5F9-3924C0AE1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3FDD4-AA41-4D52-8E2B-0CBB827F8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DF5A2-89EA-472F-B3AB-49DF5E766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EB3A1-3568-4F81-934F-76F5503F5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FE3E-0D3E-41B8-BD41-986D573BB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95DE4-BA66-488D-9807-4A73FF21E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ADE53C-E7FD-4493-8E3C-ADE1147AB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7FBF1-3916-4447-8C9A-A1657C93D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66ECF3-55FF-44E3-89A3-633EBEF73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8A96BC-8071-49B2-B1D8-24783D614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FB064B-7676-4390-A2DB-18C7B46DA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04D8AA-8FC4-4178-984E-A28A94B1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137B99-20DE-456A-9153-393F1036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C755AB-0140-4B9E-845A-C4F099F01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66F60-900B-4A33-BAB4-35BF737F0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C312-B1AB-454D-A83E-37A6C74E7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BCD07-1FD8-470C-89FC-24F2A1D9D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01B3E6-86B0-492B-8BC2-EB3CE3EA3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49BC0A-2EE8-4676-BBEF-0A5684A55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533D54-66CA-454C-BE07-7EC00D156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114429-383D-4203-B91B-3392CBF62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517307-55A0-465F-BDAE-592F61DE4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0625D7-C9FD-42DC-9752-8AC732A09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969CE5-34FB-4BA0-B3D7-2BAFF4E27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A33C4D-542D-4E39-8EFB-5715E20E3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808484-6C52-42AB-801E-EE0D451E8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4AE8-F98B-4EC0-AAD3-878436A1E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F8CC64-9037-4EC6-9050-82C8A337D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5DB0B0-D4B8-4087-93FA-5B20222F5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412FA3-EADB-4B65-8BFD-3B3D2AE1F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933D58-EB2C-4909-B19A-792C87BD6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24581A-715D-442F-A5DA-52C0B7F22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1A178B-E839-4E60-B4C9-195EC9945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5AC84A-C423-4672-81B5-2B30294E0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484C0E-0BE0-4A9E-99CF-9D48D9C72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FFD64D-E17D-4AF7-9F18-53F8CBB01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0A34E2-8F84-4B83-9FC1-50AB2C94A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6C3F-D901-4ACC-9B5D-FAACFE4B3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A7CF2D-AC41-4FFE-BB8B-67591BE1D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75F8EE-7CD3-488E-A80C-E5E146860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A22540-6601-4029-B6EF-83F2B2B11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8260A0-A4B7-49C3-8A56-143810914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BEF63E-A9FA-400D-864D-95E7C627A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9FEC9F-B1F1-4A8A-B62B-B0AB14CB5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FED5F1-1155-4E96-BE3E-429D3BD08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ADC4EB-6135-41A0-AA6F-E4CCBB798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54C373-95DB-4C2E-8145-23B976570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F21D3A-46F2-492A-9B3A-89C42AB59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B013-D936-49AA-8F8E-A38800F9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44D731-E354-44EF-9C16-F391484CA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06DB23-E776-46F0-BBA7-2D9E1541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7C6372-F11D-4106-939D-A9946321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1E148A-58F7-4D19-A735-74111467C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E2879F-8657-46A7-B516-72A34E615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5532F1-68DC-441F-ABE4-792F28FD1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176D07-4A8B-457E-AC95-4B7E3F332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324EE9-3286-423E-9B9E-A45F89278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C9DF66-E57E-476E-A21F-4DE0D970F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C2B261-7E2D-48B7-BC19-E0D225E69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BFA17-B902-487D-B69E-734E9F789609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13232-D642-453B-9F6F-8CD46EA3D47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9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C1E42-7545-4B1C-8B9F-AAE0FED99D70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9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30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F69AA-F7F7-490F-91DC-915C4443469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9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31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0F89E-C95F-44FB-9547-80AEE12100EA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32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3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ADDD1-1ED4-499C-91E6-59BBBCC86FE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34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972E2-1670-4597-A04D-B2B3AAF3920A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35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36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C6E35-1B7C-4456-87A4-D83DFB01C8E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10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17" name="TextBox 8"/>
          <p:cNvSpPr/>
          <p:nvPr/>
        </p:nvSpPr>
        <p:spPr>
          <a:xfrm>
            <a:off x="1001880" y="75420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w Cen MT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8" name="TextBox 9"/>
          <p:cNvSpPr/>
          <p:nvPr/>
        </p:nvSpPr>
        <p:spPr>
          <a:xfrm>
            <a:off x="10557000" y="299412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w Cen MT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D77B9-5B1F-4843-BDD5-8A49892CD00F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A1028-ADAE-4C72-B880-CEA2404806E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40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05A42-7124-4E79-8607-F681ACF23DAB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41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42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51729-A77A-44B8-B663-AA22E7A2761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2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3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268F2-C575-4E0D-B83F-E75C37B0CEA6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4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5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7E1FD-5D32-43A7-876E-D592BA1DFF1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15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643ED-7E9E-48F7-B271-AEF47F3F1C04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8B57F-4375-44DA-8D5F-DA308F34C2D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01CDF-469C-4470-9EEA-25C49EF3CFFF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3D6CD-FA04-479E-9E16-90A60FD14D6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8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DC917-382D-487A-934B-CDB2C7B0708C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78EE2-373D-4516-BDB5-89AD68C3302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Droplets-HD-Title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959DC-804D-4F2C-9D9D-CA71A6A86C6B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0CB9F-DB27-4FDC-9BE8-3DDBB6974B1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301EC-09BD-4ABD-9BD1-0899C2BF56E7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5E9E9-D54D-4931-8431-9FA4506B734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84582-6258-4F40-A13C-696B2DE6D59B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A3E14-93C7-44B4-95DD-8C0EAC86310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9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61B9F-EC74-427B-909C-CB5DEE51E5CE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C2208-19C8-412A-820F-90CF3A7453A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4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743FF-274A-4383-AC47-D40A1D1D293C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5357E-8D70-4589-98B4-031B53B2809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C06BD-E51E-438F-B6B3-A344038A9B10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EE609-4019-4EC9-B49B-C8E74D01E29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6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00462-7138-4D12-94F6-1A24CCE20A32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A93FC-CE28-48F7-A75C-1D41AF7FA39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0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3F49D-9703-4944-B1E4-17F9D0DD97AF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83D11-F698-4719-8EB5-C17ED98E08A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523880" y="36036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МУНИЦИПАЛЬНОЕ ДОШКОЛЬНОЕ ОБРАЗОВАТЕЛЬНОЕ УЧРЕЖДЕНИЕ «ДЕТСКИЙ САД № 2 КОМБИНИРОВАННОГО ВИДА «КАПИТОШКА»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subTitle"/>
          </p:nvPr>
        </p:nvSpPr>
        <p:spPr>
          <a:xfrm>
            <a:off x="1616040" y="1289160"/>
            <a:ext cx="9144000" cy="52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83c55"/>
                </a:solidFill>
                <a:latin typeface="Monotype Corsiva"/>
              </a:rPr>
              <a:t>ВЗАИМОДЕЙСТВИЕ ИНСТРУКТОРА ПО ПЛАВАНИЮ И ПЕДАГОГА-ПСИХОЛОГА В РАМКАХ РЕАЛИЗАЦИИ ФГОС ДО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indent="0" algn="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indent="0" algn="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d0d0d"/>
                </a:solidFill>
                <a:latin typeface="Tw Cen MT"/>
              </a:rPr>
              <a:t>ИНСТРУКТОР ПО ПЛАВАНИЮ КУДИНОВА О.Н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77" name="Рисунок 3" descr=""/>
          <p:cNvPicPr/>
          <p:nvPr/>
        </p:nvPicPr>
        <p:blipFill>
          <a:blip r:embed="rId1"/>
          <a:stretch/>
        </p:blipFill>
        <p:spPr>
          <a:xfrm>
            <a:off x="3776760" y="2978280"/>
            <a:ext cx="4387680" cy="2925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6" name="Объект 2" descr=""/>
          <p:cNvPicPr/>
          <p:nvPr/>
        </p:nvPicPr>
        <p:blipFill>
          <a:blip r:embed="rId1"/>
          <a:stretch/>
        </p:blipFill>
        <p:spPr>
          <a:xfrm>
            <a:off x="914400" y="615960"/>
            <a:ext cx="10363320" cy="5175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 txBox="1"/>
          <p:nvPr/>
        </p:nvSpPr>
        <p:spPr>
          <a:xfrm>
            <a:off x="914040" y="692280"/>
            <a:ext cx="1036332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Monotype Corsiva"/>
              </a:rPr>
              <a:t>ЦЕЛЬ:</a:t>
            </a:r>
            <a:r>
              <a:rPr b="1" i="1" lang="ru-RU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СФОРМИРОВАТЬ СИСТЕМУ ВЗАИМОДЕЙСТВИЯ ПЕДАГОГА-ПСИХОЛОГА И ИНСТРУКТОРА ПО ПЛАВАНИЮ В ОБРАЗОВАТЕЛЬНОМ ПРОЦЕССЕ, СТИМУЛИРУЮЩЕЙ ФИЗИЧЕСКОЕ, ПОЗНАВАТЕЛЬНОЕ И ЛИЧНОСТНОЕ РАЗВИТИЕ РЕБЕНКА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Monotype Corsiva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СОЗДАТЬ МОДЕЛЬ ПРОФИЛАКТИЧЕСКОЙ И РАЗВИВАЮЩЕЙ ДЕЯТЕЛЬНОСТИ ПЕДАГОГА-ПСИХОЛОГА И ИНСТРУКТОРА ПО ПЛАВАНИЮ;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ОБОЗНАЧИТЬ ОСНОВНЫЕ НАПРАВЛЕНИЯ ВЗАИМОДЕЙСТВИЯ РАЗВИВАЮЩЕЙ ДЕЯТЕЛЬНОСТИ СПЕЦИАЛИСТОВ;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РАЗРАБОТАТЬ СИСТЕМУ РАБОТЫ И ФОРМЫ ВЗАИМОДЕЙСТВИЯ ПЕДАГОГА-ПСИХОЛОГА И ИНСТРУКТОРА ПО ПЛАВАНИЮ В УСЛОВИЯХ ДОУ, ОБУСЛАВЛИВАЮЩИЕ ПОВЫШЕНИЕ УРОВНЯ ПРОФЕССИОНАЛЬНОЙ КОМПЕТЕНТНОСТИ СПЕЦИАЛИСТОВ И ОВЛАДЕНИЕ ИНТЕГРИРОВАННЫМИ СПОСОБАМИ РАЗВИТИЯ ЛИЧНОСТИ РЕБЕНКА И ПСИХОПРОФИЛАКТИКИ РАЗЛИЧНЫХ НАРУШЕНИЙ. 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14040" y="379080"/>
            <a:ext cx="10363320" cy="52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ИСТЕМА ВЗАИМОДЕЙСТВИЯ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0" name="Прямоугольник 3"/>
          <p:cNvSpPr/>
          <p:nvPr/>
        </p:nvSpPr>
        <p:spPr>
          <a:xfrm>
            <a:off x="1071720" y="1346040"/>
            <a:ext cx="3265200" cy="874800"/>
          </a:xfrm>
          <a:prstGeom prst="rect">
            <a:avLst/>
          </a:prstGeom>
          <a:solidFill>
            <a:srgbClr val="2fa3ee"/>
          </a:solidFill>
          <a:ln w="15840">
            <a:solidFill>
              <a:srgbClr val="2077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aramond"/>
              </a:rPr>
              <a:t>Взаимодействие на создание психофизиологических условий для развития психического и физического здоровья дошкольника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1" name="Овал 4"/>
          <p:cNvSpPr/>
          <p:nvPr/>
        </p:nvSpPr>
        <p:spPr>
          <a:xfrm>
            <a:off x="1371600" y="4022640"/>
            <a:ext cx="1959120" cy="1489320"/>
          </a:xfrm>
          <a:prstGeom prst="ellipse">
            <a:avLst/>
          </a:prstGeom>
          <a:gradFill rotWithShape="0">
            <a:gsLst>
              <a:gs pos="0">
                <a:srgbClr val="89c7ff"/>
              </a:gs>
              <a:gs pos="100000">
                <a:srgbClr val="dcecff"/>
              </a:gs>
            </a:gsLst>
            <a:lin ang="13500000"/>
          </a:gradFill>
          <a:ln w="15840">
            <a:solidFill>
              <a:srgbClr val="2077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w Cen MT"/>
              </a:rPr>
              <a:t>Ребенок-дошкольник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782" name="Овал 5"/>
          <p:cNvGrpSpPr/>
          <p:nvPr/>
        </p:nvGrpSpPr>
        <p:grpSpPr>
          <a:xfrm>
            <a:off x="2523960" y="3413160"/>
            <a:ext cx="1822680" cy="1225440"/>
            <a:chOff x="2523960" y="3413160"/>
            <a:chExt cx="1822680" cy="1225440"/>
          </a:xfrm>
        </p:grpSpPr>
        <p:pic>
          <p:nvPicPr>
            <p:cNvPr id="783" name="Овал 5" descr=""/>
            <p:cNvPicPr/>
            <p:nvPr/>
          </p:nvPicPr>
          <p:blipFill>
            <a:blip r:embed="rId1"/>
            <a:stretch/>
          </p:blipFill>
          <p:spPr>
            <a:xfrm>
              <a:off x="2523960" y="3413160"/>
              <a:ext cx="182268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4" name=""/>
            <p:cNvSpPr/>
            <p:nvPr/>
          </p:nvSpPr>
          <p:spPr>
            <a:xfrm>
              <a:off x="2792520" y="3598920"/>
              <a:ext cx="1279440" cy="84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w Cen MT"/>
                </a:rPr>
                <a:t>Педагог-психолог</a:t>
              </a:r>
              <a:endParaRPr b="0" lang="en-US" sz="14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785" name="Овал 6"/>
          <p:cNvSpPr/>
          <p:nvPr/>
        </p:nvSpPr>
        <p:spPr>
          <a:xfrm>
            <a:off x="2952720" y="4506840"/>
            <a:ext cx="1736640" cy="1344600"/>
          </a:xfrm>
          <a:prstGeom prst="ellipse">
            <a:avLst/>
          </a:prstGeom>
          <a:gradFill rotWithShape="0">
            <a:gsLst>
              <a:gs pos="0">
                <a:srgbClr val="89c7ff"/>
              </a:gs>
              <a:gs pos="100000">
                <a:srgbClr val="dcecff"/>
              </a:gs>
            </a:gsLst>
            <a:lin ang="13500000"/>
          </a:gradFill>
          <a:ln w="15840">
            <a:solidFill>
              <a:srgbClr val="2077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w Cen MT"/>
              </a:rPr>
              <a:t>Инструктор по плаванию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6" name="Стрелка вправо с вырезом 8"/>
          <p:cNvSpPr/>
          <p:nvPr/>
        </p:nvSpPr>
        <p:spPr>
          <a:xfrm rot="20070600">
            <a:off x="3754440" y="3781440"/>
            <a:ext cx="2871720" cy="484200"/>
          </a:xfrm>
          <a:custGeom>
            <a:avLst/>
            <a:gdLst>
              <a:gd name="textAreaLeft" fmla="*/ 120960 w 2871720"/>
              <a:gd name="textAreaRight" fmla="*/ 2750760 w 2871720"/>
              <a:gd name="textAreaTop" fmla="*/ 120960 h 484200"/>
              <a:gd name="textAreaBottom" fmla="*/ 363240 h 484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9779" y="5400"/>
                </a:lnTo>
                <a:lnTo>
                  <a:pt x="19779" y="0"/>
                </a:lnTo>
                <a:lnTo>
                  <a:pt x="21600" y="10800"/>
                </a:lnTo>
                <a:lnTo>
                  <a:pt x="19779" y="21600"/>
                </a:lnTo>
                <a:lnTo>
                  <a:pt x="19779" y="16200"/>
                </a:lnTo>
                <a:lnTo>
                  <a:pt x="0" y="16200"/>
                </a:lnTo>
                <a:lnTo>
                  <a:pt x="911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c5d6ed"/>
              </a:gs>
              <a:gs pos="100000">
                <a:srgbClr val="ecf1f9"/>
              </a:gs>
            </a:gsLst>
            <a:lin ang="15030000"/>
          </a:gradFill>
          <a:ln w="15840">
            <a:solidFill>
              <a:srgbClr val="2077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7" name="Скругленный прямоугольник 11"/>
          <p:cNvSpPr/>
          <p:nvPr/>
        </p:nvSpPr>
        <p:spPr>
          <a:xfrm>
            <a:off x="6630840" y="3016080"/>
            <a:ext cx="2905200" cy="914400"/>
          </a:xfrm>
          <a:prstGeom prst="roundRect">
            <a:avLst>
              <a:gd name="adj" fmla="val 16667"/>
            </a:avLst>
          </a:prstGeom>
          <a:solidFill>
            <a:srgbClr val="2fa3ee"/>
          </a:solidFill>
          <a:ln w="15840">
            <a:solidFill>
              <a:srgbClr val="2077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83c55"/>
                </a:solidFill>
                <a:latin typeface="Garamond"/>
              </a:rPr>
              <a:t>Определение желаемых целей, задач и результатов совместной деятельности, стратегии и тактики совместных действий 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8" name="Скругленный прямоугольник 12"/>
          <p:cNvSpPr/>
          <p:nvPr/>
        </p:nvSpPr>
        <p:spPr>
          <a:xfrm>
            <a:off x="5643720" y="1359000"/>
            <a:ext cx="2259000" cy="914400"/>
          </a:xfrm>
          <a:prstGeom prst="roundRect">
            <a:avLst>
              <a:gd name="adj" fmla="val 16667"/>
            </a:avLst>
          </a:prstGeom>
          <a:solidFill>
            <a:srgbClr val="2fa3ee"/>
          </a:solidFill>
          <a:ln w="15840">
            <a:solidFill>
              <a:srgbClr val="2077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 algn="ctr">
              <a:lnSpc>
                <a:spcPct val="100000"/>
              </a:lnSpc>
              <a:buClr>
                <a:srgbClr val="283c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83c55"/>
                </a:solidFill>
                <a:latin typeface="Garamond"/>
              </a:rPr>
              <a:t>Диагностический этап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9" name="Скругленный прямоугольник 13"/>
          <p:cNvSpPr/>
          <p:nvPr/>
        </p:nvSpPr>
        <p:spPr>
          <a:xfrm>
            <a:off x="8582040" y="1359000"/>
            <a:ext cx="1476360" cy="914400"/>
          </a:xfrm>
          <a:prstGeom prst="roundRect">
            <a:avLst>
              <a:gd name="adj" fmla="val 16667"/>
            </a:avLst>
          </a:prstGeom>
          <a:solidFill>
            <a:srgbClr val="2fa3ee"/>
          </a:solidFill>
          <a:ln w="15840">
            <a:solidFill>
              <a:srgbClr val="2077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 algn="ctr">
              <a:lnSpc>
                <a:spcPct val="100000"/>
              </a:lnSpc>
              <a:buClr>
                <a:srgbClr val="283c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83c55"/>
                </a:solidFill>
                <a:latin typeface="Garamond"/>
              </a:rPr>
              <a:t>Создание и реализация совместной программы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0" name="Скругленный прямоугольник 14"/>
          <p:cNvSpPr/>
          <p:nvPr/>
        </p:nvSpPr>
        <p:spPr>
          <a:xfrm>
            <a:off x="10503000" y="1346040"/>
            <a:ext cx="1449360" cy="914400"/>
          </a:xfrm>
          <a:prstGeom prst="roundRect">
            <a:avLst>
              <a:gd name="adj" fmla="val 16667"/>
            </a:avLst>
          </a:prstGeom>
          <a:solidFill>
            <a:srgbClr val="2fa3ee"/>
          </a:solidFill>
          <a:ln w="15840">
            <a:solidFill>
              <a:srgbClr val="2077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 algn="ctr">
              <a:lnSpc>
                <a:spcPct val="100000"/>
              </a:lnSpc>
              <a:buClr>
                <a:srgbClr val="283c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83c55"/>
                </a:solidFill>
                <a:latin typeface="Garamond"/>
              </a:rPr>
              <a:t>Совместные мероприятия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1" name="Скругленный прямоугольник 15"/>
          <p:cNvSpPr/>
          <p:nvPr/>
        </p:nvSpPr>
        <p:spPr>
          <a:xfrm>
            <a:off x="9928080" y="2913120"/>
            <a:ext cx="2024280" cy="1109520"/>
          </a:xfrm>
          <a:prstGeom prst="roundRect">
            <a:avLst>
              <a:gd name="adj" fmla="val 16667"/>
            </a:avLst>
          </a:prstGeom>
          <a:solidFill>
            <a:srgbClr val="2fa3ee"/>
          </a:solidFill>
          <a:ln w="15840">
            <a:solidFill>
              <a:srgbClr val="2077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 algn="ctr">
              <a:lnSpc>
                <a:spcPct val="100000"/>
              </a:lnSpc>
              <a:buClr>
                <a:srgbClr val="283c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83c55"/>
                </a:solidFill>
                <a:latin typeface="Garamond"/>
              </a:rPr>
              <a:t>Консультирование и просвещение родителей и педагогов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2" name="Скругленный прямоугольник 16"/>
          <p:cNvSpPr/>
          <p:nvPr/>
        </p:nvSpPr>
        <p:spPr>
          <a:xfrm>
            <a:off x="9091440" y="5016600"/>
            <a:ext cx="2508480" cy="914400"/>
          </a:xfrm>
          <a:prstGeom prst="roundRect">
            <a:avLst>
              <a:gd name="adj" fmla="val 16667"/>
            </a:avLst>
          </a:prstGeom>
          <a:solidFill>
            <a:srgbClr val="2fa3ee"/>
          </a:solidFill>
          <a:ln w="15840">
            <a:solidFill>
              <a:srgbClr val="2077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 algn="ctr">
              <a:lnSpc>
                <a:spcPct val="100000"/>
              </a:lnSpc>
              <a:buClr>
                <a:srgbClr val="283c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83c55"/>
                </a:solidFill>
                <a:latin typeface="Garamond"/>
              </a:rPr>
              <a:t>Организационная работа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3" name="Скругленный прямоугольник 17"/>
          <p:cNvSpPr/>
          <p:nvPr/>
        </p:nvSpPr>
        <p:spPr>
          <a:xfrm>
            <a:off x="6773760" y="5054760"/>
            <a:ext cx="1727280" cy="914400"/>
          </a:xfrm>
          <a:prstGeom prst="roundRect">
            <a:avLst>
              <a:gd name="adj" fmla="val 16667"/>
            </a:avLst>
          </a:prstGeom>
          <a:solidFill>
            <a:srgbClr val="2fa3ee"/>
          </a:solidFill>
          <a:ln w="15840">
            <a:solidFill>
              <a:srgbClr val="2077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 algn="ctr">
              <a:lnSpc>
                <a:spcPct val="100000"/>
              </a:lnSpc>
              <a:buClr>
                <a:srgbClr val="283c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83c55"/>
                </a:solidFill>
                <a:latin typeface="Garamond"/>
              </a:rPr>
              <a:t>Рефлексивно-регулятивный этап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4" name="Объект 2" descr=""/>
          <p:cNvPicPr/>
          <p:nvPr/>
        </p:nvPicPr>
        <p:blipFill>
          <a:blip r:embed="rId1"/>
          <a:stretch/>
        </p:blipFill>
        <p:spPr>
          <a:xfrm>
            <a:off x="835200" y="457200"/>
            <a:ext cx="10478880" cy="53341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ОРГАНИЗАЦИОННО-МЕТОДИЧЕСКАЯ РАБОТА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6" name="Овал 3"/>
          <p:cNvSpPr/>
          <p:nvPr/>
        </p:nvSpPr>
        <p:spPr>
          <a:xfrm>
            <a:off x="3618000" y="1706400"/>
            <a:ext cx="1881000" cy="1089360"/>
          </a:xfrm>
          <a:prstGeom prst="ellipse">
            <a:avLst/>
          </a:prstGeom>
          <a:gradFill rotWithShape="0">
            <a:gsLst>
              <a:gs pos="0">
                <a:srgbClr val="ff8080"/>
              </a:gs>
              <a:gs pos="100000">
                <a:srgbClr val="ffdada"/>
              </a:gs>
            </a:gsLst>
            <a:lin ang="13500000"/>
          </a:gradFill>
          <a:ln w="15840">
            <a:solidFill>
              <a:srgbClr val="2077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83c55"/>
                </a:solidFill>
                <a:latin typeface="Tw Cen MT"/>
              </a:rPr>
              <a:t>Инструктор по плаванию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7" name="Овал 4"/>
          <p:cNvSpPr/>
          <p:nvPr/>
        </p:nvSpPr>
        <p:spPr>
          <a:xfrm>
            <a:off x="5303880" y="1706400"/>
            <a:ext cx="1906560" cy="1089360"/>
          </a:xfrm>
          <a:prstGeom prst="ellipse">
            <a:avLst/>
          </a:prstGeom>
          <a:gradFill rotWithShape="0">
            <a:gsLst>
              <a:gs pos="0">
                <a:srgbClr val="ff8080"/>
              </a:gs>
              <a:gs pos="100000">
                <a:srgbClr val="ffdada"/>
              </a:gs>
            </a:gsLst>
            <a:lin ang="13500000"/>
          </a:gradFill>
          <a:ln w="15840">
            <a:solidFill>
              <a:srgbClr val="2077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83c55"/>
                </a:solidFill>
                <a:latin typeface="Tw Cen MT"/>
              </a:rPr>
              <a:t>Педагог-психолог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8" name="Стрелка вниз 5"/>
          <p:cNvSpPr/>
          <p:nvPr/>
        </p:nvSpPr>
        <p:spPr>
          <a:xfrm rot="2427000">
            <a:off x="3733920" y="279576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2fa3ee"/>
          </a:solidFill>
          <a:ln w="15840">
            <a:solidFill>
              <a:srgbClr val="2077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9" name="Скругленный прямоугольник 6"/>
          <p:cNvSpPr/>
          <p:nvPr/>
        </p:nvSpPr>
        <p:spPr>
          <a:xfrm>
            <a:off x="1201680" y="3846600"/>
            <a:ext cx="3095640" cy="2109600"/>
          </a:xfrm>
          <a:prstGeom prst="roundRect">
            <a:avLst>
              <a:gd name="adj" fmla="val 16667"/>
            </a:avLst>
          </a:prstGeom>
          <a:solidFill>
            <a:srgbClr val="2fa3ee"/>
          </a:solidFill>
          <a:ln w="15840">
            <a:solidFill>
              <a:srgbClr val="2077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83c55"/>
                </a:solidFill>
                <a:latin typeface="Tw Cen MT"/>
              </a:rPr>
              <a:t>Разработка и внедрение в годовой план психолога и инструктора по плаванию развивающих мероприятий и совместной работы со всеми субъектами в образовательном процессе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0" name="Стрелка вниз 7"/>
          <p:cNvSpPr/>
          <p:nvPr/>
        </p:nvSpPr>
        <p:spPr>
          <a:xfrm>
            <a:off x="5159520" y="2598840"/>
            <a:ext cx="484200" cy="97956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2fa3ee"/>
          </a:solidFill>
          <a:ln w="15840">
            <a:solidFill>
              <a:srgbClr val="2077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1" name="Скругленный прямоугольник 8"/>
          <p:cNvSpPr/>
          <p:nvPr/>
        </p:nvSpPr>
        <p:spPr>
          <a:xfrm>
            <a:off x="4611600" y="3846600"/>
            <a:ext cx="1946520" cy="1038240"/>
          </a:xfrm>
          <a:prstGeom prst="roundRect">
            <a:avLst>
              <a:gd name="adj" fmla="val 16667"/>
            </a:avLst>
          </a:prstGeom>
          <a:solidFill>
            <a:srgbClr val="2fa3ee"/>
          </a:solidFill>
          <a:ln w="15840">
            <a:solidFill>
              <a:srgbClr val="2077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83c55"/>
                </a:solidFill>
                <a:latin typeface="Tw Cen MT"/>
              </a:rPr>
              <a:t>Изучение результатов медицинского обследования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2" name="Стрелка вниз 9"/>
          <p:cNvSpPr/>
          <p:nvPr/>
        </p:nvSpPr>
        <p:spPr>
          <a:xfrm>
            <a:off x="5342040" y="4857840"/>
            <a:ext cx="484200" cy="59364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2fa3ee"/>
          </a:solidFill>
          <a:ln w="15840">
            <a:solidFill>
              <a:srgbClr val="2077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3" name="Скругленный прямоугольник 10"/>
          <p:cNvSpPr/>
          <p:nvPr/>
        </p:nvSpPr>
        <p:spPr>
          <a:xfrm>
            <a:off x="4611600" y="5538960"/>
            <a:ext cx="1946520" cy="1083960"/>
          </a:xfrm>
          <a:prstGeom prst="roundRect">
            <a:avLst>
              <a:gd name="adj" fmla="val 16667"/>
            </a:avLst>
          </a:prstGeom>
          <a:solidFill>
            <a:srgbClr val="2fa3ee"/>
          </a:solidFill>
          <a:ln w="15840">
            <a:solidFill>
              <a:srgbClr val="2077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83c55"/>
                </a:solidFill>
                <a:latin typeface="Tw Cen MT"/>
              </a:rPr>
              <a:t>Посещение методических объединений, обмен опытом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4" name="Стрелка вниз 11"/>
          <p:cNvSpPr/>
          <p:nvPr/>
        </p:nvSpPr>
        <p:spPr>
          <a:xfrm rot="19771200">
            <a:off x="6969240" y="2696760"/>
            <a:ext cx="484200" cy="97956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2fa3ee"/>
          </a:solidFill>
          <a:ln w="15840">
            <a:solidFill>
              <a:srgbClr val="2077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5" name="Скругленный прямоугольник 12"/>
          <p:cNvSpPr/>
          <p:nvPr/>
        </p:nvSpPr>
        <p:spPr>
          <a:xfrm>
            <a:off x="7485120" y="3814920"/>
            <a:ext cx="2208240" cy="1330200"/>
          </a:xfrm>
          <a:prstGeom prst="roundRect">
            <a:avLst>
              <a:gd name="adj" fmla="val 16667"/>
            </a:avLst>
          </a:prstGeom>
          <a:solidFill>
            <a:srgbClr val="2fa3ee"/>
          </a:solidFill>
          <a:ln w="15840">
            <a:solidFill>
              <a:srgbClr val="2077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83c55"/>
                </a:solidFill>
                <a:latin typeface="Tw Cen MT"/>
              </a:rPr>
              <a:t>Создание профилактических и развивающих программ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6" name="Заголовок 1" descr=""/>
          <p:cNvPicPr/>
          <p:nvPr/>
        </p:nvPicPr>
        <p:blipFill>
          <a:blip r:embed="rId1"/>
          <a:stretch/>
        </p:blipFill>
        <p:spPr>
          <a:xfrm>
            <a:off x="914400" y="615960"/>
            <a:ext cx="10363320" cy="1041480"/>
          </a:xfrm>
          <a:prstGeom prst="rect">
            <a:avLst/>
          </a:prstGeom>
          <a:ln w="0">
            <a:noFill/>
          </a:ln>
        </p:spPr>
      </p:pic>
      <p:sp>
        <p:nvSpPr>
          <p:cNvPr id="807" name="Куб 3"/>
          <p:cNvSpPr/>
          <p:nvPr/>
        </p:nvSpPr>
        <p:spPr>
          <a:xfrm>
            <a:off x="914400" y="2063880"/>
            <a:ext cx="2103480" cy="3670200"/>
          </a:xfrm>
          <a:prstGeom prst="cube">
            <a:avLst>
              <a:gd name="adj" fmla="val 25000"/>
            </a:avLst>
          </a:prstGeom>
          <a:solidFill>
            <a:srgbClr val="2fa3ee"/>
          </a:solidFill>
          <a:ln w="15840">
            <a:solidFill>
              <a:srgbClr val="2077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w Cen MT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w Cen MT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w Cen MT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w Cen MT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w Cen MT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w Cen MT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w Cen MT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w Cen MT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w Cen MT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w Cen MT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w Cen MT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8" name="Стрелка вправо 4"/>
          <p:cNvSpPr/>
          <p:nvPr/>
        </p:nvSpPr>
        <p:spPr>
          <a:xfrm>
            <a:off x="3110040" y="3657600"/>
            <a:ext cx="625320" cy="484200"/>
          </a:xfrm>
          <a:prstGeom prst="rightArrow">
            <a:avLst>
              <a:gd name="adj1" fmla="val 50000"/>
              <a:gd name="adj2" fmla="val 49984"/>
            </a:avLst>
          </a:prstGeom>
          <a:solidFill>
            <a:srgbClr val="2fa3ee"/>
          </a:solidFill>
          <a:ln w="15840">
            <a:solidFill>
              <a:srgbClr val="2077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9" name="Прямоугольник 5"/>
          <p:cNvSpPr/>
          <p:nvPr/>
        </p:nvSpPr>
        <p:spPr>
          <a:xfrm>
            <a:off x="3827520" y="3089160"/>
            <a:ext cx="1784160" cy="2103480"/>
          </a:xfrm>
          <a:prstGeom prst="rect">
            <a:avLst/>
          </a:prstGeom>
          <a:solidFill>
            <a:srgbClr val="2fa3ee"/>
          </a:solidFill>
          <a:ln w="15840">
            <a:solidFill>
              <a:srgbClr val="2077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83c55"/>
                </a:solidFill>
                <a:latin typeface="Tw Cen MT"/>
              </a:rPr>
              <a:t>Определение физического и психомоторного развития ребенка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0" name="Выгнутая вверх стрелка 6"/>
          <p:cNvSpPr/>
          <p:nvPr/>
        </p:nvSpPr>
        <p:spPr>
          <a:xfrm>
            <a:off x="5146560" y="2260440"/>
            <a:ext cx="1216080" cy="730440"/>
          </a:xfrm>
          <a:custGeom>
            <a:avLst/>
            <a:gdLst>
              <a:gd name="textAreaLeft" fmla="*/ 235440 w 1216080"/>
              <a:gd name="textAreaRight" fmla="*/ 889200 w 1216080"/>
              <a:gd name="textAreaTop" fmla="*/ 97560 h 730440"/>
              <a:gd name="textAreaBottom" fmla="*/ 632880 h 730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368" hR="21600" stAng="10800000" swAng="5400000"/>
                <a:lnTo>
                  <a:pt x="11610" y="0"/>
                </a:lnTo>
                <a:arcTo wR="8368" hR="21600" stAng="-5400000" swAng="3379043"/>
                <a:lnTo>
                  <a:pt x="21334" y="16200"/>
                </a:lnTo>
                <a:lnTo>
                  <a:pt x="18357" y="21600"/>
                </a:lnTo>
                <a:lnTo>
                  <a:pt x="14848" y="16200"/>
                </a:lnTo>
                <a:lnTo>
                  <a:pt x="16470" y="16200"/>
                </a:lnTo>
                <a:arcTo wR="8368" hR="21600" stAng="-2020957" swAng="-3116582"/>
                <a:lnTo>
                  <a:pt x="9989" y="409"/>
                </a:lnTo>
                <a:arcTo wR="8368" hR="21600" stAng="-5662460" swAng="-5137540"/>
                <a:close/>
              </a:path>
              <a:path fill="darkenLess" w="21600" h="21600">
                <a:moveTo>
                  <a:pt x="0" y="21600"/>
                </a:moveTo>
                <a:arcTo wR="8368" hR="21600" stAng="10800000" swAng="5400000"/>
                <a:lnTo>
                  <a:pt x="8368" y="0"/>
                </a:lnTo>
                <a:arcTo wR="8368" hR="21600" stAng="-5400000" swAng="262460"/>
                <a:lnTo>
                  <a:pt x="9989" y="409"/>
                </a:lnTo>
                <a:arcTo wR="8368" hR="21600" stAng="-5662460" swAng="-5137540"/>
                <a:close/>
              </a:path>
            </a:pathLst>
          </a:custGeom>
          <a:solidFill>
            <a:srgbClr val="2fa3ee"/>
          </a:solidFill>
          <a:ln w="15840">
            <a:solidFill>
              <a:srgbClr val="2077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1" name="Прямоугольник 7"/>
          <p:cNvSpPr/>
          <p:nvPr/>
        </p:nvSpPr>
        <p:spPr>
          <a:xfrm>
            <a:off x="5856120" y="3138480"/>
            <a:ext cx="1543320" cy="2006640"/>
          </a:xfrm>
          <a:prstGeom prst="rect">
            <a:avLst/>
          </a:prstGeom>
          <a:solidFill>
            <a:srgbClr val="2fa3ee"/>
          </a:solidFill>
          <a:ln w="15840">
            <a:solidFill>
              <a:srgbClr val="2077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83c55"/>
                </a:solidFill>
                <a:latin typeface="Tw Cen MT"/>
              </a:rPr>
              <a:t>Выделение факторов риска на основе полученных результатов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2" name="Выгнутая вверх стрелка 8"/>
          <p:cNvSpPr/>
          <p:nvPr/>
        </p:nvSpPr>
        <p:spPr>
          <a:xfrm>
            <a:off x="7015320" y="2357280"/>
            <a:ext cx="1215720" cy="731880"/>
          </a:xfrm>
          <a:custGeom>
            <a:avLst/>
            <a:gdLst>
              <a:gd name="textAreaLeft" fmla="*/ 235080 w 1215720"/>
              <a:gd name="textAreaRight" fmla="*/ 888840 w 1215720"/>
              <a:gd name="textAreaTop" fmla="*/ 97920 h 731880"/>
              <a:gd name="textAreaBottom" fmla="*/ 633960 h 731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363" hR="21600" stAng="10800000" swAng="5400000"/>
                <a:lnTo>
                  <a:pt x="11613" y="0"/>
                </a:lnTo>
                <a:arcTo wR="8363" hR="21600" stAng="-5400000" swAng="3377999"/>
                <a:lnTo>
                  <a:pt x="21334" y="16200"/>
                </a:lnTo>
                <a:lnTo>
                  <a:pt x="18350" y="21600"/>
                </a:lnTo>
                <a:lnTo>
                  <a:pt x="14834" y="16200"/>
                </a:lnTo>
                <a:lnTo>
                  <a:pt x="16459" y="16200"/>
                </a:lnTo>
                <a:arcTo wR="8363" hR="21600" stAng="-2022001" swAng="-3114862"/>
                <a:lnTo>
                  <a:pt x="9988" y="412"/>
                </a:lnTo>
                <a:arcTo wR="8363" hR="21600" stAng="-5663137" swAng="-5136863"/>
                <a:close/>
              </a:path>
              <a:path fill="darkenLess" w="21600" h="21600">
                <a:moveTo>
                  <a:pt x="0" y="21600"/>
                </a:moveTo>
                <a:arcTo wR="8363" hR="21600" stAng="10800000" swAng="5400000"/>
                <a:lnTo>
                  <a:pt x="8363" y="0"/>
                </a:lnTo>
                <a:arcTo wR="8363" hR="21600" stAng="-5400000" swAng="263137"/>
                <a:lnTo>
                  <a:pt x="9988" y="412"/>
                </a:lnTo>
                <a:arcTo wR="8363" hR="21600" stAng="-5663137" swAng="-5136863"/>
                <a:close/>
              </a:path>
            </a:pathLst>
          </a:custGeom>
          <a:solidFill>
            <a:srgbClr val="2fa3ee"/>
          </a:solidFill>
          <a:ln w="15840">
            <a:solidFill>
              <a:srgbClr val="2077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3" name="Прямоугольник 9"/>
          <p:cNvSpPr/>
          <p:nvPr/>
        </p:nvSpPr>
        <p:spPr>
          <a:xfrm>
            <a:off x="7639200" y="3138480"/>
            <a:ext cx="1933560" cy="2006640"/>
          </a:xfrm>
          <a:prstGeom prst="rect">
            <a:avLst/>
          </a:prstGeom>
          <a:solidFill>
            <a:srgbClr val="2fa3ee"/>
          </a:solidFill>
          <a:ln w="15840">
            <a:solidFill>
              <a:srgbClr val="2077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83c55"/>
                </a:solidFill>
                <a:latin typeface="Tw Cen MT"/>
              </a:rPr>
              <a:t>Оценка результативности работы с детьми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4" name="Заголовок 1" descr=""/>
          <p:cNvPicPr/>
          <p:nvPr/>
        </p:nvPicPr>
        <p:blipFill>
          <a:blip r:embed="rId1"/>
          <a:stretch/>
        </p:blipFill>
        <p:spPr>
          <a:xfrm>
            <a:off x="914400" y="615960"/>
            <a:ext cx="10363320" cy="834840"/>
          </a:xfrm>
          <a:prstGeom prst="rect">
            <a:avLst/>
          </a:prstGeom>
          <a:ln w="0">
            <a:noFill/>
          </a:ln>
        </p:spPr>
      </p:pic>
      <p:sp>
        <p:nvSpPr>
          <p:cNvPr id="815" name=""/>
          <p:cNvSpPr txBox="1"/>
          <p:nvPr/>
        </p:nvSpPr>
        <p:spPr>
          <a:xfrm>
            <a:off x="456840" y="1751040"/>
            <a:ext cx="11207880" cy="40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Задачи совместной работы, проводимой инструктором по плаванию и педагогом-психологом, тесно взаимосвязаны и решаются в рамках целостного подхода к воспитанию и развитию психической и физической деятельности ребенка-дошкольника;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Интегрированное построение занятий дает возможность детям реализовать свои творческие возможности, двигательную и познавательную активность, развить коммуникативные умения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6" name="Заголовок 1" descr=""/>
          <p:cNvPicPr/>
          <p:nvPr/>
        </p:nvPicPr>
        <p:blipFill>
          <a:blip r:embed="rId1"/>
          <a:stretch/>
        </p:blipFill>
        <p:spPr>
          <a:xfrm>
            <a:off x="781200" y="554040"/>
            <a:ext cx="10367640" cy="1012680"/>
          </a:xfrm>
          <a:prstGeom prst="rect">
            <a:avLst/>
          </a:prstGeom>
          <a:ln w="0">
            <a:noFill/>
          </a:ln>
        </p:spPr>
      </p:pic>
      <p:sp>
        <p:nvSpPr>
          <p:cNvPr id="817" name="Овал 3"/>
          <p:cNvSpPr/>
          <p:nvPr/>
        </p:nvSpPr>
        <p:spPr>
          <a:xfrm>
            <a:off x="782640" y="1751040"/>
            <a:ext cx="1868400" cy="914400"/>
          </a:xfrm>
          <a:prstGeom prst="ellipse">
            <a:avLst/>
          </a:prstGeom>
          <a:gradFill rotWithShape="0">
            <a:gsLst>
              <a:gs pos="0">
                <a:srgbClr val="ffdcae"/>
              </a:gs>
              <a:gs pos="100000">
                <a:srgbClr val="fff3e6"/>
              </a:gs>
            </a:gsLst>
            <a:lin ang="13500000"/>
          </a:gradFill>
          <a:ln w="15840">
            <a:solidFill>
              <a:srgbClr val="2077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83c55"/>
                </a:solidFill>
                <a:latin typeface="Tw Cen MT"/>
              </a:rPr>
              <a:t>Инструктор по плаванию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8" name="Овал 4"/>
          <p:cNvSpPr/>
          <p:nvPr/>
        </p:nvSpPr>
        <p:spPr>
          <a:xfrm>
            <a:off x="2651040" y="1751040"/>
            <a:ext cx="1646280" cy="914400"/>
          </a:xfrm>
          <a:prstGeom prst="ellipse">
            <a:avLst/>
          </a:prstGeom>
          <a:gradFill rotWithShape="0">
            <a:gsLst>
              <a:gs pos="0">
                <a:srgbClr val="fbc2ac"/>
              </a:gs>
              <a:gs pos="100000">
                <a:srgbClr val="fdebe5"/>
              </a:gs>
            </a:gsLst>
            <a:lin ang="13500000"/>
          </a:gradFill>
          <a:ln w="15840">
            <a:solidFill>
              <a:srgbClr val="2077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83c55"/>
                </a:solidFill>
                <a:latin typeface="Tw Cen MT"/>
              </a:rPr>
              <a:t>Педагог-психолог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819" name="Прямая со стрелкой 6"/>
          <p:cNvCxnSpPr/>
          <p:nvPr/>
        </p:nvCxnSpPr>
        <p:spPr>
          <a:xfrm flipH="1">
            <a:off x="1331640" y="2665440"/>
            <a:ext cx="249840" cy="1032480"/>
          </a:xfrm>
          <a:prstGeom prst="straightConnector1">
            <a:avLst/>
          </a:prstGeom>
          <a:ln w="9360">
            <a:solidFill>
              <a:srgbClr val="2381be"/>
            </a:solidFill>
            <a:miter/>
            <a:tailEnd len="med" type="triangle" w="med"/>
          </a:ln>
        </p:spPr>
      </p:cxnSp>
      <p:sp>
        <p:nvSpPr>
          <p:cNvPr id="820" name="Скругленный прямоугольник 10"/>
          <p:cNvSpPr/>
          <p:nvPr/>
        </p:nvSpPr>
        <p:spPr>
          <a:xfrm>
            <a:off x="558720" y="3827520"/>
            <a:ext cx="177984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99abb"/>
              </a:gs>
              <a:gs pos="100000">
                <a:srgbClr val="e5e2ea"/>
              </a:gs>
            </a:gsLst>
            <a:lin ang="13500000"/>
          </a:gradFill>
          <a:ln w="15840">
            <a:solidFill>
              <a:srgbClr val="2077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83c55"/>
                </a:solidFill>
                <a:latin typeface="Tw Cen MT"/>
              </a:rPr>
              <a:t>Разработка рекомендаций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821" name="Прямая со стрелкой 12"/>
          <p:cNvCxnSpPr/>
          <p:nvPr/>
        </p:nvCxnSpPr>
        <p:spPr>
          <a:xfrm>
            <a:off x="3762360" y="2665080"/>
            <a:ext cx="53280" cy="680040"/>
          </a:xfrm>
          <a:prstGeom prst="straightConnector1">
            <a:avLst/>
          </a:prstGeom>
          <a:ln w="9360">
            <a:solidFill>
              <a:srgbClr val="2381be"/>
            </a:solidFill>
            <a:miter/>
            <a:tailEnd len="med" type="triangle" w="med"/>
          </a:ln>
        </p:spPr>
      </p:cxnSp>
      <p:sp>
        <p:nvSpPr>
          <p:cNvPr id="822" name="Скругленный прямоугольник 17"/>
          <p:cNvSpPr/>
          <p:nvPr/>
        </p:nvSpPr>
        <p:spPr>
          <a:xfrm>
            <a:off x="3135240" y="3448080"/>
            <a:ext cx="1789200" cy="2300400"/>
          </a:xfrm>
          <a:custGeom>
            <a:avLst/>
            <a:gdLst>
              <a:gd name="textAreaLeft" fmla="*/ 87120 w 1789200"/>
              <a:gd name="textAreaRight" fmla="*/ 1702080 w 1789200"/>
              <a:gd name="textAreaTop" fmla="*/ 87120 h 2300400"/>
              <a:gd name="textAreaBottom" fmla="*/ 2213280 h 2300400"/>
            </a:gdLst>
            <a:ahLst/>
            <a:rect l="textAreaLeft" t="textAreaTop" r="textAreaRight" b="textAreaBottom"/>
            <a:pathLst>
              <a:path w="21600" h="27770">
                <a:moveTo>
                  <a:pt x="3600" y="0"/>
                </a:moveTo>
                <a:arcTo wR="3600" hR="3600" stAng="16200000" swAng="-5400000"/>
                <a:lnTo>
                  <a:pt x="0" y="24170"/>
                </a:lnTo>
                <a:arcTo wR="3600" hR="3600" stAng="10800000" swAng="-5400000"/>
                <a:lnTo>
                  <a:pt x="18000" y="2777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a99abb"/>
              </a:gs>
              <a:gs pos="100000">
                <a:srgbClr val="e5e2ea"/>
              </a:gs>
            </a:gsLst>
            <a:lin ang="13500000"/>
          </a:gradFill>
          <a:ln w="15840">
            <a:solidFill>
              <a:srgbClr val="2077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83c55"/>
                </a:solidFill>
                <a:latin typeface="Tw Cen MT"/>
              </a:rPr>
              <a:t>Проведение семинаров и консультаций по вопросам психического и физического здоровья детей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823" name="Рисунок 2" descr=""/>
          <p:cNvPicPr/>
          <p:nvPr/>
        </p:nvPicPr>
        <p:blipFill>
          <a:blip r:embed="rId2"/>
          <a:stretch/>
        </p:blipFill>
        <p:spPr>
          <a:xfrm>
            <a:off x="5721480" y="1816200"/>
            <a:ext cx="6035400" cy="40226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Рисунок 3" descr=""/>
          <p:cNvPicPr/>
          <p:nvPr/>
        </p:nvPicPr>
        <p:blipFill>
          <a:blip r:embed="rId1"/>
          <a:stretch/>
        </p:blipFill>
        <p:spPr>
          <a:xfrm rot="21042000">
            <a:off x="259920" y="1227240"/>
            <a:ext cx="5218200" cy="3479760"/>
          </a:xfrm>
          <a:prstGeom prst="rect">
            <a:avLst/>
          </a:prstGeom>
          <a:ln w="0">
            <a:noFill/>
          </a:ln>
        </p:spPr>
      </p:pic>
      <p:pic>
        <p:nvPicPr>
          <p:cNvPr id="825" name="Рисунок 4" descr=""/>
          <p:cNvPicPr/>
          <p:nvPr/>
        </p:nvPicPr>
        <p:blipFill>
          <a:blip r:embed="rId2"/>
          <a:stretch/>
        </p:blipFill>
        <p:spPr>
          <a:xfrm rot="397800">
            <a:off x="6465600" y="1989000"/>
            <a:ext cx="521820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11:21:01Z</dcterms:created>
  <dc:creator>sad2-1</dc:creator>
  <dc:description/>
  <dc:language>en-US</dc:language>
  <cp:lastModifiedBy>sad2-1</cp:lastModifiedBy>
  <dcterms:modified xsi:type="dcterms:W3CDTF">2018-04-17T11:17:52Z</dcterms:modified>
  <cp:revision>23</cp:revision>
  <dc:subject/>
  <dc:title>МУНИЦИПАЛЬНОЕ ДОШКОЛЬНОЕ ОБРАЗОВАТЕЛЬНОЕ УЧРЕЖДЕНИЕ «ДЕТСКИЙ САД № 2 КОМБИНИРОВАННОГО ВИДА «КАПИТОШКА»</dc:title>
</cp:coreProperties>
</file>