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D3F-2EA7-4ED3-B66C-D692351D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EF6-4FD6-420F-968D-9BC03E8C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9330F-88CB-4449-87A5-2D90461A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A2221-CF68-41CD-9411-458B8FE1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A46EB-6C11-4350-B555-A1ACA6D5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C2C56-84B6-4963-B659-9C88B3AB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BBB62-FDBC-442E-BA64-7CF400F2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9EF8C-FC40-4C98-9C73-B833A004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C6D27-5553-40D7-BB35-F6E1EA44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65A99-F264-4645-B277-4C7E6EBC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CDCAF-9AE8-4981-80F5-94748BA1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5C1E1-E3A6-4267-B97B-839AA3B0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E74-604C-4E02-B71C-CC7ECB73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F27A7-3B38-42D3-ADF6-B980A71B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BF6F8-ABE5-4F33-A65E-613727B6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0C7D8-D3CF-4949-A59B-BAEAAC0F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39C9A-4B49-48D6-A251-F51E51BA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62537-4DD9-4145-A522-C281FFD1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F5197-7315-447F-9247-202ECDBD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49391-5F72-47B9-B928-B0B32D16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11945-6DF8-4006-A5EC-AA4C608B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1E30C-7190-4A74-BF75-78ED5EC6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641A7-2314-473E-92F5-C135DDDD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2DB-BE7A-474A-9655-DD13D0D1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423E4-D1E6-450E-A880-22570E36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D1474-691D-40E5-9CF7-DE71E631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4DCE9-E1C4-4400-A21C-96C69DD6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38781-9831-4FBD-B144-25244CA1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CFC78-92D4-4871-81D7-B9B9FB8E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B1183-4ECB-4998-AEC3-D38705E3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35C60-5413-4C7B-86E6-93BFE3FE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4F3E0-5D7C-4B98-895A-B4E59A70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C913A-F4D5-4548-AA73-328B151C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0CBED-2294-4FE7-99B6-0650CCFA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CAB2-D2A9-413C-BB2B-E6BDCC53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69821-43D0-4C34-8772-30A3D084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4AEC7-5E97-42FA-97B7-60EA2239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824DF-6844-48FF-9CE1-63945B7F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1B96B-B099-44E4-9773-A60AFA31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12C4E-D819-4E27-A9CE-83B73BF7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74B3D-1290-43A6-8A28-1D2C688C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65B95-39E3-4EAB-8922-4D2897AA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60AFC-221C-40F4-B7D6-BBD3F0CA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21BB5-2C15-4196-B392-9CF74934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BFB14-FCF3-4521-90A9-B1732B6A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232E-95BC-4707-B797-99CC661D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96078-3EB2-4B03-A897-88C02969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68F9E-D62A-4874-BC58-1034560A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6C2A4-E790-47B7-87AD-42EA531C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6C285-E1D9-4091-BBDA-09C11F53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8F49F-574A-4D75-94D9-3B06CBED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5133FD-B611-44A7-94E8-2F45B4D8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FC8C3F-B93C-4DC4-8009-1271931D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5C313-DB17-4908-AF3C-C899A44B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D83AC-01C5-4B01-8704-9220D64B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B7DE1-A986-4876-871F-49D22E32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2E94-9683-4E97-AEAD-DC7A3EE5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637186-0954-49DD-A1FC-70357351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FDF551-A099-480F-BE94-2CDF267A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3075D-BF1F-458C-AE07-236C422A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95A0A-5FC2-47E8-AFE1-0F9EF2D8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44F22-714F-40AB-852C-DD969AD4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FF4FD7-1841-4272-9767-83D93C9B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3FDCD-9832-4F53-A2F3-C7FCB501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A45B9F-6827-40D5-952F-4B8B1427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C5136C-D31A-41D8-90B5-4FA32483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4847B1-3B8B-4DEF-969F-14153806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E3A2-7E2D-4F49-BF0E-0F9D88A9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50FA3A-6E50-458C-A410-505D7C55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1230A4-7276-4FA7-B621-4EAE72B5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5B8A02-44A8-4031-85A9-5A2E77B5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FF9BB6-A663-4043-9B3F-FC18FE03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8DE311-62A4-4AAC-ADD4-7BCEB539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50EDFD-5CD0-423D-90CB-1696BA32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318911-6280-43DA-B0B2-7EDF493B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F06BF5-5591-4BFB-8BD4-DDDE1DDD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81B36D-B995-46DE-A971-1CB7C70D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A0547A-C03E-430B-BB28-DBEF2DB1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8286-D8BE-4F05-B155-341881FA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EF0409-7561-48D8-9EAD-2AE34BAD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879B11-2673-406E-B0E9-AC207773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B4744E-B419-4F65-B903-471992F7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5A8A74-7A54-483B-B672-834B2DC1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AF793F-E517-4AE7-8688-D1F5ADC3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1189C8-B71C-42C8-B750-5D2C0397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3F4A3D-E4C9-45CB-AA18-1D30ECC0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9D45E5-2B71-4D8E-B507-3FEC0C4E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5CC9A7-7A54-4A90-822C-675C4228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699906-865D-4F96-A7BF-CD2FD0A6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97F4-986A-4ED3-B1DC-054B0611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2C0383-CC1C-4E69-9491-1D4C3234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6A461E-954F-4DC6-8BFC-2FF93D94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FEFBBF-10C1-497B-B044-DE2AB9CD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499BD7-36E2-44A8-ABFC-565E36D7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8AF47A-0D78-4FB9-BDAF-69E6551E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FEE128-8DCC-480D-9600-ED7852D3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D9C42F-C127-47B5-8C95-C6BEC57D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EA0BA4-7C6E-4675-91AE-0B1A82DF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8699E5-AA4D-4862-B185-3D2BAFB4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14232D-9460-4ADB-9EED-D06FCDF7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6514-51F5-4A91-B472-E6F67D92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5D6865-DE4E-4473-A92A-310857B9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B777CE-5E8D-45D0-B3C1-61FDECBA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59D197-8727-4AC3-A536-B45D729D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CEA2BB-F3C5-4B8D-8206-17421115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CF4AC1-AAF9-4348-B987-00C1E991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655406-3238-488F-B548-D5F2BEA1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375632-B543-44CE-97C2-81CD6D21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CFCFA5-B2BD-40DA-B43E-2B09A215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65FF98-57DC-4297-9246-AAB903B7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414C58-31F8-4DD8-A6B0-4B023A0B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AA1-C5FE-4008-89ED-821A055B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28A7-6022-4087-8410-7ECBB957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78F3CE-2C21-4FE4-B357-D21D47E7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41D917-E6C2-41AE-90A6-C597753D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14B566-59E4-4CB7-B7C4-4A131664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0320B3-260C-40DF-BDE3-86A910BC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30448E-A0E7-4CCD-965F-FB9BD9C2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EFE5-7527-4DEB-830C-586A7908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04E4-B993-4880-A4B8-031BC7DD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D29C-2331-42F5-8588-1BF9FE98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FA91-FA6D-4230-A7DD-19B1CC48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723F7-61D0-450A-B61A-C984A3BF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B7284-646A-4EC7-BD64-19475B91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4AC2B-7873-4D63-8DEA-AB29936E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B1105-7205-4B9A-8864-A482A287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B21CC-9BA9-4645-8705-19834ADE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84D-F81C-4C4D-B478-68472B01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3D97F-5785-4235-9E72-4D106ADC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7D712-890E-4C7C-B44E-90751000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C6A89-DEBA-4CA3-84B9-7CA119DC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E6DDD-E788-4CD8-AAC2-09C09FF6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1741B-0BE2-4C87-86B0-0CF8B1DB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D17B1-D0D8-4322-B948-8AC5CF22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3635D-5B24-4C51-BF3D-2F87762E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92B13-C82E-4C2C-8140-4BAB1E2D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31455-91AC-41E0-A2CB-27ECE229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4ED2D-A03E-4641-B188-CC9655F7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914-5AE7-4F5E-A0EA-14D3D3C8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F0E52-3DC3-4E4A-827B-AF32285D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2AEA0-7CC3-4291-AE01-D19361A4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4E852-3F08-4023-B3BF-6AB1CBE3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E30C2-6F92-4019-8DCF-FBE97C7A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99E7C-B33B-41BC-B8CB-6ADDBFB4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7A07D-2DD7-467B-89F5-4870631C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EE1BC-8EA0-4562-8744-9616AB90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94EA5-0007-471E-9C9B-E8E4574D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55878-F690-49D1-9F62-B417A595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4A402-CE20-4D80-AE48-F7A02280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C1D1-D8C8-49DA-AE2B-792BEABD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AC6CF-FA34-46B9-99A0-6D8B0D9F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2A906-9A0A-48A8-8ACB-86DF5C15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00C35-75BE-4DF4-8F0A-49F20A66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EA9C8-6FA0-40E5-8CBB-64C235BB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2636D-4C46-429D-A123-FB51A1F0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078CE-658D-4087-A08A-ACB631B9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CE14C-78F7-4102-A349-3F832E5D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D577D-5311-47C5-B290-4E8AB086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4D8A1-34E3-48C2-9EAE-5D826842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142B8-16C6-47E4-B371-D73C18F1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915-8E17-41C7-9827-113BF806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916D4-C38D-4AAF-B14E-A608B5C3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EB929-2960-4B5D-A945-3BEA9738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1C849-68E2-43D3-A3C4-21FBACC2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F6FB3-D391-4941-B3BA-B919BA25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53892-50CC-4FCA-AE96-597ADB57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AF479-80BF-4B13-A5F8-D9DEA238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A1C4E-5CD7-4B5E-80C5-81896F09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35CA5-04CB-41AA-8B44-2E146EAC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761B0-DDCA-456A-837F-2A0E7811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6A9F1-B3DE-4FC3-95EF-4F457939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384-A015-4CDE-8073-F6E796CB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29137-3DA1-4539-A15A-0100BF06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2298B-56A7-4F0D-91E8-6C967C7C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C3111-6733-4537-B9A6-83F974C6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C5961-F289-4FDC-A13F-FA1F6611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BDC81-764A-4344-9F72-83F5CDCE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45EAD-78E3-439C-A306-F5D041C5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14A74-DD57-471F-9914-BDF64BEA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0CD1B-87BF-4BD7-A9F6-6B5C69D2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36CA9-0D11-4B13-8371-840D3F00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28A62-5E16-47A9-A5CE-222A5B4B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902-DE2C-44A9-97A1-E5B78D17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62421-634B-46C2-876C-8A56419D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3E206-F01B-4C76-BF81-E51C4F1F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AA537-BB96-425A-B5C2-20496197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DB066-F66F-4CB6-8EA7-724ED8B1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3C5EB-A910-48D2-80C5-EDB8CDCC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CA4C8-3644-4489-BD21-0A76E266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5BA22-A324-4A65-8F4B-91816C42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A0ED7-30D6-410C-868B-0703812A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D3ADC-C552-43E1-941C-4A433D90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356B5-E4B2-48EB-9D52-FDCD3DF7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FCB9-4826-4B97-A10B-CF65A866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EA6B0-49A2-4576-9414-D15854C4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8497D-7E74-45FF-941C-076454D2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52E9E-DFC3-43F9-988A-7A847D53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798C5-AE74-4DFC-B9EC-658E058A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45F1A-3623-4691-8127-6BCDAED4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118D5-E7F8-4076-9149-76FE9F13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5B249-F92C-41E7-B750-FB770761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6F0B6-8775-47EA-A82E-F4199FEB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15A69-EA0B-4129-946E-73C9F035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EEACA-C733-4726-8260-00F12032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445D4-5344-4C88-8674-8EFD0D7CA02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8E88D-CFE5-4779-8D81-361D22A1141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969F6-DCB4-4E23-BB46-E5F7B99BFC2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D8598-7DB7-407C-9AF2-0B40D44A088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F5C3A-794E-48FC-9BE3-1301056F5CA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0B4E4-BFBE-4799-AFA3-6B250170BAF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9D418-FF2F-45EB-9977-9123C959152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19839-903E-403E-BB73-1E7A14DB9ED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12F97-CFE5-4049-B806-DA6115F9C61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72C8F-B338-4856-B1F6-91777BDE849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5B808-23A2-4156-AF5D-23FF980E03F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3B8DF-D7FC-453D-A0A3-E6DAE2F46EC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77D77-47D8-4032-BF0F-6D61A808ACD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50DA0-8486-4160-A9BA-6809CA88613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B8CB1-C394-447E-B317-FF8FFB5AA6D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97DC1-DE39-4753-A4D6-79487F387B3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96299-46E8-4EA6-9472-53839EC30AE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52560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entury Gothic"/>
              </a:rPr>
              <a:t>Из перечня (1-7) выберите и зашифруйте правильные и полные ответы на вопросы (</a:t>
            </a:r>
            <a:r>
              <a:rPr b="0" lang="en-US" sz="2000" spc="-1" strike="noStrike">
                <a:solidFill>
                  <a:srgbClr val="262626"/>
                </a:solidFill>
                <a:latin typeface="Century Gothic"/>
              </a:rPr>
              <a:t>I</a:t>
            </a:r>
            <a:r>
              <a:rPr b="0" lang="ru-RU" sz="2000" spc="-1" strike="noStrike">
                <a:solidFill>
                  <a:srgbClr val="262626"/>
                </a:solidFill>
                <a:latin typeface="Century Gothic"/>
              </a:rPr>
              <a:t>-</a:t>
            </a:r>
            <a:r>
              <a:rPr b="0" lang="en-US" sz="2000" spc="-1" strike="noStrike">
                <a:solidFill>
                  <a:srgbClr val="262626"/>
                </a:solidFill>
                <a:latin typeface="Century Gothic"/>
              </a:rPr>
              <a:t>XVI</a:t>
            </a:r>
            <a:r>
              <a:rPr b="0" lang="ru-RU" sz="2000" spc="-1" strike="noStrike">
                <a:solidFill>
                  <a:srgbClr val="262626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525240" y="1341360"/>
            <a:ext cx="36860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1.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вдох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.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                            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2.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выдох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3.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жизненная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емкость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4.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плевральная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щель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5.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сокращение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дыхательных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мышц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6.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расслабление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дыхательных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мышц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7. плевра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4716000" y="639720"/>
            <a:ext cx="40388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entury Gothic"/>
              </a:rPr>
              <a:t>I</a:t>
            </a: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.Тонкая пленка на поверхности легких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entury Gothic"/>
              </a:rPr>
              <a:t>II</a:t>
            </a: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. Обеспечивает вентиляцию легких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entury Gothic"/>
              </a:rPr>
              <a:t>III</a:t>
            </a: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. Следствие сокращения мышц диафрагмы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entury Gothic"/>
              </a:rPr>
              <a:t>IV</a:t>
            </a: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. Следствие расслабления мышц диафрагмы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entury Gothic"/>
              </a:rPr>
              <a:t>V</a:t>
            </a: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. Следствие опускания ребер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entury Gothic"/>
              </a:rPr>
              <a:t>VI</a:t>
            </a: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. Следствие поднятия ребер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entury Gothic"/>
              </a:rPr>
              <a:t>VII</a:t>
            </a: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. Измеряется  спирометром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entury Gothic"/>
              </a:rPr>
              <a:t>VIII</a:t>
            </a: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. Причина увеличения грудной клетки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entury Gothic"/>
              </a:rPr>
              <a:t>IX</a:t>
            </a: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. Причина уменьшения грудной клетки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entury Gothic"/>
              </a:rPr>
              <a:t>X</a:t>
            </a: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. Причина повышения давления в легких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entury Gothic"/>
              </a:rPr>
              <a:t>XI</a:t>
            </a: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. Причина понижения давления в легких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entury Gothic"/>
              </a:rPr>
              <a:t>XII</a:t>
            </a: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. Следствие повышения давления в легких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entury Gothic"/>
              </a:rPr>
              <a:t>XIII</a:t>
            </a: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. Следствие понижения давления в легких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entury Gothic"/>
              </a:rPr>
              <a:t>XIV</a:t>
            </a: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. Показатель физического развития человека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entury Gothic"/>
              </a:rPr>
              <a:t>XV</a:t>
            </a: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. Пространство между плеврами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entury Gothic"/>
              </a:rPr>
              <a:t>XVI</a:t>
            </a: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. Уменьшается у курящих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8:45:25Z</dcterms:created>
  <dc:creator>Name</dc:creator>
  <dc:description/>
  <dc:language>en-US</dc:language>
  <cp:lastModifiedBy>user</cp:lastModifiedBy>
  <dcterms:modified xsi:type="dcterms:W3CDTF">2020-07-16T11:07:07Z</dcterms:modified>
  <cp:revision>4</cp:revision>
  <dc:subject/>
  <dc:title>Из перечня (1-7) выберите и зашифруйте правильные и полные ответы на вопросы (I-X)</dc:title>
</cp:coreProperties>
</file>