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9A5-7680-4B23-A0C6-B8D6EDA4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F2A-F861-4CFE-B05F-3B96791C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9A4-2C2F-47E9-AF7E-344AA3E8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280-B850-44D9-9B37-F9A890D7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547-D5FB-4C8B-B291-922C7669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AE5-025F-457E-AAC6-E154E08F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552-ED79-4D2A-9108-869321B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AC4-B939-418E-B96F-B3CC038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12F-CC09-4AA8-8FAD-8161A38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196-C0C5-446B-A78C-4659E28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B3E-46DB-4537-9663-CAB6476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3D9-8282-4BC6-AC1E-0EA904BA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D43-5A2C-4631-9179-8CB6D4AB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13:00Z</dcterms:created>
  <dc:creator>Admin</dc:creator>
  <dc:description/>
  <dc:language>en-US</dc:language>
  <cp:lastModifiedBy>XTreme</cp:lastModifiedBy>
  <dcterms:modified xsi:type="dcterms:W3CDTF">2012-12-21T11:02:31Z</dcterms:modified>
  <cp:revision>45</cp:revision>
  <dc:subject/>
  <dc:title>Ромашка</dc:title>
</cp:coreProperties>
</file>